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0" y="0"/>
            <a:ext cx="3170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145040" y="0"/>
            <a:ext cx="3170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8560" y="720720"/>
            <a:ext cx="4792680" cy="359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9320" bIns="493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59320" cy="4314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0" y="911844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7"/>
          </p:nvPr>
        </p:nvSpPr>
        <p:spPr>
          <a:xfrm>
            <a:off x="4144680" y="912132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DBBB0-C36A-4F6D-9D8E-117432D8532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7DC5A-2A48-4D61-B7DC-A44E161DE9B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2BE17-6700-4199-AC9B-D6437BFC935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7DCD2-BB7C-432E-90B7-1A18C12E8EF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215FA73-153F-498F-A6E0-73714C578B7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52D2D-4C9C-4E50-9C4D-8FD3F9DE3FE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8F425-AF1F-4AC0-A1B5-0383858B7FD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8AD91-2323-4749-9266-C464A032E5B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F9CB0-EB6A-4F1C-88E0-CAE48A697D6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C77DE-B55F-4FB5-9627-91EFBC2706D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D60D6-5E1A-4394-B062-6E30959DD16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http://en.wikipedia.org/wiki/SH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F2106-9153-4E16-AC09-28167226DCE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http://en.wikipedia.org/wiki/SH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DAB7E-F303-4F51-91A8-B95AD5B4717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7A46F-7B69-4B36-B7D4-96DE92F27E4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472F6-665C-43B9-AB40-24D317C3842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51357-77C5-4077-AA3C-6C2D20E1BBA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92163A9-5D62-484C-B4B0-206A265112F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3A869-AA32-434E-A60F-87361243A62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AC9760C-F5E5-4B11-9C24-9AE88CECFAE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788BF-4CF1-4701-86B7-C81D8FB0290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19AE6FC-A11B-4916-A21E-220CA50DE7D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00959-ABD2-4F70-B126-B0C08486D08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71947D6-382A-4AD3-BE43-576EB522CB8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1DAE0-C4AB-4850-B1D5-D5616DDE596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EBFCED0-D27E-4A0E-974F-15B8AD41392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946C4-3479-4B53-A2BF-B92B6D5F3FE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EA9F96F-BB23-4ED5-835E-153D9763901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DC84A-57B0-4806-A0AD-891A430F505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2219895-C665-4957-BD6B-7A2054B80CE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D74E9-1CE9-43AB-BDFE-0BD91FB9FFD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1BCBD1C-2449-49C3-B9C6-E513AB5CCE8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C3413-A5DE-4BFD-A087-5CE907B7431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798222A-9DA1-42B8-A82C-1B2EF51CA28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87884-D691-4D53-8371-80746B96868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9CB0B44-E69C-4163-83BF-17F49B820A7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852D6-312C-45D6-A23A-4E5EB4515A2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70BE0-549D-4996-A837-1E460993A7D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F8A4550-E453-49B5-BD2A-A1161C6D150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CC8C3-5D1A-48E9-A752-2BCC890BE2E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628021D-47E2-499F-8D3D-5CD3B503182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6E77C-122C-417A-86EE-2D49F138DA4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59384D9-BD0A-4F7E-8B36-B63E72F54EE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C096B-3113-4DFE-B404-43CE297ABA7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5C6CD1A-2CAB-4CBF-9AB1-17B35DE9A51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1EC37-FCD6-4A7D-A80B-7FB4F31C217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CF83EDF-6590-4A1B-932B-69AB0B5A3E1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8B67F-3B1B-41E9-9A80-C46B6F70C0B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BE95167-7B4D-43ED-96DA-E130A094AB4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C7F50-9AEA-4CC9-B872-868A2ABF4D9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5A7A24F-30C7-43F9-AD3D-89A106EF40A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DFA19-A876-487E-B3BC-BD4A4E1A046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B64EA97-0F89-40B7-A026-90A786D804B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9F661-DF95-4DBF-B26F-E63329BAB19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4A06B9C-FAF7-4E67-86D0-AF1317364B2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D70D3-ECD6-430F-B396-25981FD9553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D6C305E-D6CC-42B2-89E4-CAF4274B75A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AA518-BFF3-4937-943C-F5027A547E4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en.wikipedia.org/wiki/Message_authentication_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26800-95D4-46D8-B8D8-11ABF7F15E6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A987CA9-23E6-4AE8-A817-8C90DE098C5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csrc.nist.gov/groups/ST/hash/sha-3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1821D-CEC6-4276-810B-EFE2B38A4E4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19BB090-F243-4A84-937B-D07398091FA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64430-B98B-4E0C-B237-C236CAFC320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EC20866-CD1B-40C9-8162-1F3DBC2A7F3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083E4-5BC9-4D8F-A23E-FA3A12EF36C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EC11E34-2801-4CD9-9850-CDD0D8E8183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56AD9-E4E2-4894-B613-73936D107BF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BC8D455-DD21-49B6-818D-474DC6B05ED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7D91A-E982-43B7-9773-11649794551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1291269-6D37-43C9-8574-74E9029A8C2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E55FC-1894-4D32-BA6C-0AEFCE68BCD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2ECD523-FCAD-4523-9FD4-6364042CC8F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7A89E-F9AC-4E65-ACA4-AFF5AC7EE95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4B8482A-AA42-45B8-BD1B-AAFB6793007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9B0D3-1AE5-4E81-A2A9-5DFB2679BA6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3542596-6C02-40FE-B712-822BB57FE36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34EC7-2677-4419-A019-6B1B6A0EAC9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147F42A-FE6B-4160-9930-8CA08EB1EF4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2ACD2-3B14-43FC-8998-B7686805DE5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en.wikipedia.org/wiki/Message_authentication_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224F6-0E36-4DBD-8211-E4CA7831F82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E9480F7-AB64-46EC-8EC1-17737033544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5F7AE-CE82-4BB1-AD1D-3C8BDAEEB4E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78EC797-95C5-4BCE-BF65-C07052F92C3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21695-0368-4F36-B89E-A4BF8D69512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7AA1AAD-EC20-4152-82BC-F6255E775B7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A782B-ADB9-4014-A18E-FC240B2CE4F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ABA7296-637F-4651-8ECD-3E72D984D8F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2508E-E52B-4D03-9810-DF385015FAF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D33D643-01C9-4E0E-9FB9-0DB54D3047D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A6C6D-C6FF-4B5D-A822-8AADFCCF4DA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B51BC56-D2FC-4282-940A-C1EFC6A34DE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79D71-48AE-425D-AB53-B752F1D020C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7D6C246-65C5-45B4-83B0-48AC7390326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9C77D-364E-48B5-A287-E5081A7AEA2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2385168-1FD0-44E4-90D9-0E8ADC70A0F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343A9-9BCE-4ECC-A2FF-634DD80771C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1035672-694A-4B90-8610-05133175133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EEA17-DE26-408D-99D2-A3B658AA495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1543559-C68B-4D63-B849-458AA3BBCA1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A8A73-85A5-4132-803B-C8EEEDC7675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626D2-870B-42CA-9084-CD0D596B3AF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3B50F3F-AFEF-41EC-A82F-41C5D7AE461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7E496-BC4E-4408-80E8-F7F35409F84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32A5820-D0AD-47E2-907A-375ACFB2EAB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F3D50-8656-47C6-A611-557146367F9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478FEB2-3605-4A39-B951-F6BE7388F42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C303C-9105-4081-8499-224716C20B9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521EDBF-3144-4EE0-B45D-CA3AF4C32D0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38CD7-AFCB-426F-9ABA-05E94BCCBDF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1D83709-5414-4644-A695-9D16BB77763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A7B62-F23A-4EB9-A65E-E3BFA940417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0F0C901-73A2-4D87-AC23-C9192269EA4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17CDD-4D23-4884-B941-33AFEFB001F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D2EA1A8-0D86-46D9-9018-34A703FBC9E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365AB-27C0-44C7-AD5E-C4C5D65D6A5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2367671-D420-4F1E-9582-B00919C87CE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70809-9AAB-46DA-8928-087BD1DA449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1DEF2EB-2314-4562-97AB-88C3B0B38DC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F5EA0-B633-41C4-9FF5-78169B8BA9B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054EE73-BBE3-42E8-AB1D-4BF71D209AC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AA5BD-4A83-4500-8543-C688BDAF04A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en.wikipedia.org/wiki/Message_authentication_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4B268-DA2F-490C-B468-FFE61458E03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FA075F6-3CCB-474D-97F4-87DA0797FA0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B51CA-7606-43F6-9AA5-2BB23768FC0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3F47DD5-B9DF-4E9E-B55B-55815756C06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0EC5E-ECF1-456F-B61B-DAC9CC98AA2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AFB2A70-F522-426F-9B16-7988F147E43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0AA1D-D8AF-4192-AFF4-BB1AB428C08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755E1F7-5E65-40AB-A49E-6811995A128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C9BFF-E1BC-477E-9F77-7FF5B80ED1D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5B810A1-C600-4C50-98CC-ADA3671712D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890B9-1F2F-4364-BCF4-27208AFD21E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C95AA93-6B3B-4E93-83EE-FAF9536DFDE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3BCAC-A34F-4568-A1F3-8F8E89894DD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A4B005F-91DF-46DC-8091-41062B28669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1CAB4-8D78-4A67-8509-A3AE535EE24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38CB268-BAC4-431A-A13A-6C5A3C3E083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technet.microsoft.com/en-us/library/cc751157.as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zill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www.mozilla.org/projects/security/certs/policy/InclusionPolic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www.apple.com/certificateauthority/ca_progra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r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www.opera.com/docs/ca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6F6ED-B7C6-4185-9C01-774D5A3E579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15C6CD8-57B7-48F7-8F93-FEDA6973CDF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C491D-76B2-4A5F-A738-18E630C4A78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25A6141-86FE-4403-84AE-650C1188647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9DF16-7053-4476-8601-B21E4765D4B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en.wikipedia.org/wiki/Message_authentication_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B4FB0-8724-4945-9662-D20DF337DA8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71687F3-D83E-4EC8-8EF3-A5CD3642D35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B5209-6D0F-4F22-88CD-F428B862798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6B0E269-8484-45F5-B7E0-5B0935948AB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73B19-EC57-44C1-AB88-B719802384E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CB8C53F-FE88-4A23-B692-478CB1FC62A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9096E-1267-4CB1-BE2F-1D2B8F4C4A6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C541FCE-8460-4B35-8569-99182F46523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8944B-35C2-4AF4-9979-25D27506098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16E5A6F-2C96-44A0-8CB4-FA4B0C0299D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18745-B6EA-43F5-B026-DF2B57DFB21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57CAA4F-76A8-4C40-A6FF-1F0F8F63874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CFA06-98A0-44BD-BA2B-85BE0F69D84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BF34BFA-239A-496D-B7A8-1C3136CD25B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C3A05-CEB9-4604-937F-C62FE1B1B9D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97CF85A-C35B-481A-9F06-2157187D0FD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AA9CB-FF89-4684-9EDF-1050EBD706A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A3815E0-7B58-48CF-96FA-AC995131D7E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49E56-91D5-4E31-8440-8AFE3A29611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7851650-C847-4387-9FF3-C7BF2CC73BA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A3FE4-8BE5-40A7-83CC-E88F0BF54CB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E17B2-457C-4308-96B5-256738A7E46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4D77DDF-B545-4C8A-AE15-38F478A3BA5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2DBDD-70A1-4BE7-A072-BBA021AF688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4128602-F743-4FB6-BB93-D443E9C2A4E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9623F-326C-472A-A7BA-300B5BEF798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5C70308-E881-4370-A139-036921EA98D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54903-6A10-4285-B662-0B5E3527053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DED23B5-9417-416A-87DF-B473E539CD7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FA1CA-2CE8-4BB8-8EA2-60C240F32CD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BD5773E-4E47-4F02-9D42-78009434F32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F8238-9589-46F9-A3B6-5775DA8DA5F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A7BB8FE-CE9E-4AD8-86B3-41BAEE468EC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B607E-067A-457A-B1ED-696F3F4D1C8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7247D01-0947-4309-9E87-F7B59EDE06D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E6411-9D61-4612-8332-7B3373467CB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A488D17-A5BC-49A6-B33C-8310E63542B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EC50B-5A5D-41FE-96D2-CEF6706E235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1C67268-3ABB-4C7A-8372-00518295B94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156F4-F6C8-40F8-8157-FDDBBED127C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C7706D8-63DC-46D2-A260-F421C483A64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A3C-6796-4DA7-850F-2A39A9D5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11A-3820-4398-A546-E57B5536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9F1-EFFE-4F81-AB6C-490B3472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728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684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728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684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B16-ADFC-429D-81FC-1A31A654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6E4D-1F2D-4812-BAE5-EBBB6FAC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D924-5E5B-4D93-ADB9-51BCB5C2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A5DA-6AE8-4FD4-BC1B-4C516CF4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0B04-498F-4258-8243-38142EDB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DBC8-FF67-4326-865D-00A49569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56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F1B4-7C2D-43F7-A18D-C9166CEB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15EA-E2F8-4F37-B536-77B9761F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D77-7D59-48E4-AFF9-44BE2AF2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9B6B-3178-48E8-A89A-F4E1D08D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A033-B2DF-4E49-AC05-B92D0D49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8655-18E8-40EB-BCD8-796DEC9E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412C-2569-44BF-BAF1-0BE26C69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728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684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728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684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AB72-659A-4937-BB84-8C9FF5D7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0A6-CE0B-48E0-88B6-E3E454FB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ACE-F98C-4011-92EF-87314935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3D7-1EB5-4A3B-95FA-6616918E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56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A49-5834-4806-9EF3-77A82F4A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8BD-2BA2-4F11-BC6C-AC18936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309-C4D2-40EE-8995-890A5D19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B63-C77F-47AE-ADBC-8FE9F5D8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AutoShape 4"/>
              <p:cNvSpPr/>
              <p:nvPr/>
            </p:nvSpPr>
            <p:spPr>
              <a:xfrm>
                <a:off x="456840" y="0"/>
                <a:ext cx="2741760" cy="1166400"/>
              </a:xfrm>
              <a:custGeom>
                <a:avLst/>
                <a:gdLst>
                  <a:gd name="textAreaLeft" fmla="*/ 0 w 2741760"/>
                  <a:gd name="textAreaRight" fmla="*/ 2741760 w 2741760"/>
                  <a:gd name="textAreaTop" fmla="*/ 0 h 1166400"/>
                  <a:gd name="textAreaBottom" fmla="*/ 1166760 h 116640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8/12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1320" y="6199200"/>
            <a:ext cx="28922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ecurity+ Guide to Network Security Fundamentals, 2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07120"/>
            <a:ext cx="582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F3077-F628-41F4-9A7F-E4EA9B23617A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5865480" cy="6856560"/>
            <a:chOff x="0" y="0"/>
            <a:chExt cx="586548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440" y="990360"/>
              <a:ext cx="5180040" cy="1904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"/>
          <p:cNvGrpSpPr/>
          <p:nvPr/>
        </p:nvGrpSpPr>
        <p:grpSpPr>
          <a:xfrm>
            <a:off x="3632040" y="4889520"/>
            <a:ext cx="4875120" cy="317520"/>
            <a:chOff x="3632040" y="4889520"/>
            <a:chExt cx="487512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60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7240" y="4889520"/>
              <a:ext cx="25992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8/12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1320" y="6199200"/>
            <a:ext cx="28922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  <a:ea typeface="DejaVu Sans"/>
              </a:rPr>
              <a:t>Security+ Guide to Network Security Fundamentals, 2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6320" y="6208560"/>
            <a:ext cx="58248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5A30D-5504-4F3B-A8CB-B761ECD62FAF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776160" y="1479600"/>
            <a:ext cx="7437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ands-On Cryptograp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1371600" y="289548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cc"/>
                </a:solidFill>
                <a:latin typeface="Arial"/>
              </a:rPr>
              <a:t>Casey W. O</a:t>
            </a:r>
            <a:r>
              <a:rPr b="0" lang="ja-JP" sz="2600" spc="-1" strike="noStrike">
                <a:solidFill>
                  <a:srgbClr val="0000cc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cc"/>
                </a:solidFill>
                <a:latin typeface="Arial"/>
              </a:rPr>
              <a:t>Br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4A05E-4AA7-4593-845C-7C3BBFE7B32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refore, the MAC has performed the following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ne can assume the attacker cannot alter the MAC since the attacker does not have the secret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9508A-0548-4BFA-B121-7E72BF5FDF2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20_Self_Signed_Digital_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CE3AA-9D94-4B16-A3A9-31E4B724952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refore, the MAC has performed the following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nsured to Bob that the message came from Ali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ince only Alice knows the secret key, only Alice can generate the correct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0CD2B-AD1F-4340-AE0B-90A03661BE6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MAC function is similar to encryption except that the function does not have the be rever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other words, both sides of the equation calculate a MAC the same way and compare val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either side runs the equation is re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4C53B-C205-4CFC-B6B8-13BA9B1D7FE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 increase the security of this system, Alice and Bob may use 2 secret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. Create the MAC from the plai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2. Encrypt the plaintext with Key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3. Both the ciphertext and the MAC are encrypted with Key 2 and trans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9D99A-9860-4A5D-B9AB-80D9411D9CD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ethod used for verifying data integ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variation of the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KA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One-Way H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09A96-006E-4838-8CE5-ADEDDCBBA31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eates a ciphertext from plaintext by using a variable-length input that is converted to a fixed-length output string (AKA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hash value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r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 message diges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- e.g., 160-b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E393C-AE77-41D2-AEA7-9A974C1FDC7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Considered secure wh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It is computationally infeasible to find the plaintext input that corresponds to a given message di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5EF25-1D44-4EED-A8B8-3786A33506A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Considered secure when (con</a:t>
            </a:r>
            <a:r>
              <a:rPr b="0" lang="ja-JP" sz="2800" spc="-1" strike="noStrike">
                <a:solidFill>
                  <a:srgbClr val="002a5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Any change to a message (including single bit changes) will, with an exceedingly high probability, result in a completely different message di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C0D58-2675-4043-8FCE-61ADF70D81C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38080" y="2362320"/>
            <a:ext cx="76932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ashing algorithms are also used to verify the accuracy of a value without transmitting the value itself and subjecting it to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09FCC-9927-4E04-8B63-E83200584E5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838080" y="2362320"/>
            <a:ext cx="76932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TM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o determine whether a password a user enters is correct without transmitting the password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o determine the integrity of a message or contents of 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5EFA8-B44C-4508-AB16-CEB9A44015E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Authentication Codes (MAC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fixed-length data item that is sent together with a message to ascertain the message origination and integ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KA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essage integrity code (MIC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6B4F7-C1B2-494E-8DBF-B630B1AFCB1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essage Digest (M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cure Hash Algorithm (SH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9204A-4699-4ADE-AF63-A70835CA400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signed by Ron Riv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77D2F-BD32-4FD6-AD43-4D9FB1BA638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D algorithm has three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essage digest 2 (MD2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takes plaintext of any length and creates a hash 128-bits lo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D2 divides the message into 128-bit s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f the message is less than 128-bits, data known a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adding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is ad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806F2-30A3-4B96-8F00-3289A9FE7E9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veloped in 19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sidered too slow today and rarely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5F709-11DC-46F7-B49A-05EE496298C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essage digest 4 (MD4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as developed in 1990 for computers that processed 32-bits at a tim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akes plaintext and creates a hash of 128-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plaintext message itself is padded to a length of 512-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5692F-D643-4705-A6D2-D67EAAB8884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laws in the MD4 hash algorithm have prevented it from being widely acce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CB37C-F724-42BD-BD8E-0664F772E1C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essage digest 5 (MD5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is a revision of MD4 designed to address its weaknes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length of a message is padded to 512-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hash algorithm then uses four variables of 32-bits each in a round-robin fashion to create a value that is compressed to generate the h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C77F8-4B38-4BC5-9105-3919805B70C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D5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es a 128-bit (16-byte) hash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n MD5 hash is typically expressed as a 32-digit hexadecimal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x. MD5 hash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660B1-7686-4271-8925-FCDB2C0348A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5 (MD5)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me weaknesses have been revealed in the compression function that could lead to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oll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curity experts recommend the MD hash be replaced with a more secure hash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30D08-1D61-4C6F-A78A-17D1D248EB7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ecure Hash Algorithm (SHA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signed by the NSA and published by the National Institute of Standards and Technology (NIST) as a U.S.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Federal Information Processing Standard (FIPS)</a:t>
            </a:r>
            <a:r>
              <a:rPr b="1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1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9EDED-89CA-4B11-9F68-4F352843CCF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, MACs are used between 2 parties that share a secret key in order to authenticate information transmitted between these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4ECD6-FEC4-4F45-880F-17921FDA834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ecure Hash Algorithm (SHA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atterned after MD4 - but creates a hash that is 160-512 bits in length - the longer hashes make it more resistant to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HA algorithm has four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72227-A133-4B25-AC9F-CD1F3726630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veloped in 1993 by the NSA and 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t was withdrawn by the NSA shortly after publication and was superseded by SHA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duces a 160-bit message dige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ypically expressed as a 40-digit hexadecimal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x. SHA-0 hash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E2E5A-FB4F-4B1A-8582-316FE869FF0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0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ximum message size of 2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</a:rPr>
              <a:t>64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1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s a 512-bit block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erforms 80 rounds of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685DA-5830-4153-9219-F68BD0AC087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838080" y="2362320"/>
            <a:ext cx="76932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HA-1 corrected a flaw in the original SHA-0 algorithm which reduced its cryptographic sec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However, the NSA did not provide any further explanation or identify what flaw was corr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16513-C66D-415A-A1A1-B81B139A9C2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1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838080" y="2362320"/>
            <a:ext cx="76932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duces a 160-bit message di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ximum message size of 2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</a:rPr>
              <a:t>64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1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s a 512-bit block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erforms 80 rounds of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4F702-58F6-42C7-B548-8CA2B4E33AF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0 and SHA-1 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aknesses have subsequently been reported in both SHA-0 and SHA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27A43-6052-448C-B47F-17811A0DA4C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IST published four additional hash functions in the SHA family, each with longer message digests, collectively known as SHA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7E925-87A5-421C-9571-243DDE99148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individual variants are named after their message digest lengths (in bit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HA-2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HA-2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HA-3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HA-5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9607D-E59F-4B1C-9187-884CB540418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224 and SHA-2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duces 224- and 256-bit message digests respe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ximum message size of 2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</a:rPr>
              <a:t>64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1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s a 512-bit block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erforms 64 rounds of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B0657-3D76-419A-90C3-53E54457227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384 and SHA-5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duces 384- and 512-bit message digests respe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ximum message size of 2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1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s a 1024-bit block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erforms 80 rounds of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F57D2-16A4-4BE5-B597-0B4D52A012B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MAC algorithm, sometimes called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keyed (cryptographic) hash 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ccepts as input a secret key and an arbitrary-length message to be authenticated, and outputs a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B8792-23CE-4C94-97C1-18048EFB767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T announced a public competition on 11/02/07 to develop a new cryptographic hash algorithm (to replace SHA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T selected five SHA-3 finalists: BLAKE, Grøstl, JH, Keccak, and Sk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winner will be selected in December, 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5DE38-551A-43A2-B6DE-EFAEDF53D7B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8_Hashing.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Hashing Demon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221A1-5E11-498A-BE43-13C3C68F343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Are used to simulate the security properties of a handwritten signature on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DBA91-D660-48FC-83C1-ED940E385F8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pplication of Digital Sign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gital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-mai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gal systems requiring time-sta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lectronic funds/transf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tribution of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vi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263E1-C333-420D-A035-1E11544751D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y, 1994: The National Institute of Standards and Technology (NIST) issued </a:t>
            </a:r>
            <a:r>
              <a:rPr b="1" lang="en-GB" sz="2800" spc="-1" strike="noStrike">
                <a:solidFill>
                  <a:srgbClr val="191966"/>
                </a:solidFill>
                <a:latin typeface="Arial"/>
              </a:rPr>
              <a:t>Federal Information Processing Standard (FIPS) 186</a:t>
            </a: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, the </a:t>
            </a:r>
            <a:r>
              <a:rPr b="1" lang="en-GB" sz="2800" spc="-1" strike="noStrike">
                <a:solidFill>
                  <a:srgbClr val="191966"/>
                </a:solidFill>
                <a:latin typeface="Arial"/>
              </a:rPr>
              <a:t>Digital Signature Standard (DSS)</a:t>
            </a: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, which defines a public key cryptographic system for generating and verifying digital sign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8ABFA-C07C-43C2-8498-2CA1170A5AA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The DSS standard specifies a </a:t>
            </a:r>
            <a:r>
              <a:rPr b="1" lang="en-GB" sz="2800" spc="-1" strike="noStrike">
                <a:solidFill>
                  <a:srgbClr val="191966"/>
                </a:solidFill>
                <a:latin typeface="Arial"/>
              </a:rPr>
              <a:t>Digital Signature Algorithm (DSA)</a:t>
            </a: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, which is a U.S. Federal Government standard for digital sign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It was proposed by the NIST in August 1991 and specified in</a:t>
            </a:r>
            <a:r>
              <a:rPr b="1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 FIPS 1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ACEE3-E787-4247-AB19-61CC1900C2E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The DSA provides the capability to generate and verify sign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Signature generation makes use of a private key to generate a digital sig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Signature verification makes use of a public key which corresponds to, but is not the same as, the privat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1D11A-EA7E-456E-B6B8-DD6C6423903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Each user possesses a private and public key pa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Anyone can verify the signature of a user by employing that user's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Signature generation can be performed only by the possessor of the user's privat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46E07-943D-4B2E-9FEE-BF03057ED86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A hash function is used in the signature generation process to obtain a message dige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The hash function is specified in a separate standard, the </a:t>
            </a:r>
            <a:r>
              <a:rPr b="1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Secure Hash Standard (SHS), FIPS 1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7CA55-1525-4997-ABEA-63EABE509F6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The message digest is then input to the DSA to generate the digital sig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The digital signature is sent to the intended verifier along with the </a:t>
            </a:r>
            <a:r>
              <a:rPr b="0" lang="en-US" sz="2800" spc="-1" strike="noStrike">
                <a:solidFill>
                  <a:srgbClr val="191966"/>
                </a:solidFill>
                <a:latin typeface="Arial"/>
              </a:rPr>
              <a:t>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6DF07-E30F-4D95-B9A8-DD14BCAF182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AC value protects both a message's data integrity as well as its authenticity, by allowing verifiers (who also possess the secret key) to detect any changes to the message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C0978-AC51-44DF-A44E-C5D3EA49E2A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Signatur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lp to pro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person sending the message with a public key is who they claim to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message was not al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onrepu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E332B-8D4C-4CA5-BE77-262E4C60888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833400" y="15228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Signatur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2"/>
          <p:cNvGraphicFramePr/>
          <p:nvPr/>
        </p:nvGraphicFramePr>
        <p:xfrm>
          <a:off x="1308240" y="1422360"/>
          <a:ext cx="676908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1422360"/>
                    <a:ext cx="676908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1D6B2-7AD3-4309-B052-ABF31FBFF9E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natomy of a Digital Sign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----BEGIN PGP SIGNED MESSAGE---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ash: SHA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ob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anks for the kind words after today's meet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est regard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----BEGIN PGP SIGNATURE---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ersion: PGP 8.0.3 - not licensed for commercial use: www.pgp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QA/AwUBTo3S/8hjUeoBAopPEQIyeACdEw7IO9HLrcHg6soLFaPJK5KzgBUAn02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5nn2ab1TQooYsLtapqA05V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=gfp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----END PGP SIGNATURE---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7C6B0-0622-4D3C-AE3F-4EC5F0CBCF9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9_Digital_Sign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GP Dem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igital Sign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Key Sig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62E5A-EDC3-4D48-AF93-7B0FC8FAB4A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lthough digital signatures go a long way toward addressing the need for authentication, they are not perf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How can Alice be sure that Bob (and not an imposter) posted his public key to a key server on the Intern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95040-C00F-418D-B932-8BB3E895269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gital certificates help solve this problem by providing a means of identification, much like a driver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 license, or a passport in face-to-face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9012E-C872-4989-B916-64C50724379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electronic documents which uses a digital signature to bind together a public key with an id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issued by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rtificate Authority (CA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signed with the CA's privat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19271-EB2D-4FE1-8390-D08887B0AA1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be distributed and copied without restriction - this is because digital certificates do not contain confidential information and their free distribution does not create a security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5EC9B-BE6F-4816-ABBC-F67160DC0C3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also be used to identify servers an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prevent Man-in-the-Middle (MITM) and spoofing attacks, whereby someone tries to impersonate the owner of a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CADE5-15FF-4D13-A702-579D84A459F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rmally include additional information that describe the digital certificate and limits the scope of its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1B32D-B704-48D8-A2A2-78A11B79209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 algorithms can be constructed from other cryptographic primitives, such as a secret-key symmetric block cipher in CBC mo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financial community has been using this approach for a long time to protect interbank electronic fund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D84E2-4E49-4FD5-A60F-1B9A66DCC5A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f a bank issues a digital certificate to Bob, what happens when he closes his account and moves his money to another ba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ob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 digital certificate should be revo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DC05B-FB5F-431E-8FCF-F7F6442333F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conta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wner's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wner's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xpiration date of the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9F69C-7438-4453-999F-4D9622FCC6B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contain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ame of the issuer (the CA that issued the Digital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rial number of the Digital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igital signature of the issu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F2404-80D2-415A-8583-95C14DE3BE9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st widely accepted format for Digital Certificates is defined by the 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Telecommunication Standardization Sector (ITU-T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.509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national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C8B24-5346-4F65-81B2-D8749F45C2E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ple contents of a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X.509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ertific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er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helps identify the latest version of the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rial Numb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used to uniquely identify the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ertificate Signature Algorith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the algorithm used to create the sig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A82A9-4E80-440F-9271-FD1522D1AD6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ple contents of a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X.509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ertificate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umbprint/Fingerpr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the hash itself to ensure that the certificate has not been tampered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2A199-A8B2-4465-83B7-BA283812A5D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ple contents of a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X.509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ertificate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ssu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the entity that verified the information and issued the certificate (e.g.,  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93BB9-E0E8-408F-9A65-66F2AB032C7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ple contents of a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X.509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ertificate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alid-Fro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the date the certificate is first valid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E057A-9231-4028-9B0F-EBBECCFACC6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ple contents of a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X.509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ertificate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alid-T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the expiration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ubj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the person, or entity iden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ublic Ke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of the owner of the digital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8D89D-B868-4E2A-AB27-DCE3BF40C1B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ertification Authority (CA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se organizations issue public and private key pairs to people, organizations, or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eeps track of issued credentials and manages revoking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lso verifies that the public and private keys have indeed been issued legitimately and are trustwor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7025E-15AB-4714-9453-8CB1F08C6B4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 many of the fastest MAC algorithms (e.g., UMAC and VMAC) are constructed based on universal ha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DA7E5-3EBC-42BF-A7AC-724CF59982D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A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owner of the public key listed in the digital certificate can be identified to the CA in different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y their e-mail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y going to the CA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 office to prove his/her existence and id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50D0F-1821-4C86-BC9D-107ACD3E746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TTP over S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bination of HTTP with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ure Sockets Layer/Transport Layer Securi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SL/T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F3D1B-1AD3-41D6-A74A-8165D3BB8E3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create a secure channel over an insecure network by providing encrypted communication (HTTPS URLs begin with https:// and use TCP port 443 by default) and secure identification of a web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D687C-8100-4376-B13A-5C355F873B1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connections are often used for payment transactions on the WWW, and for sensitive transactions in corporate informa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1A746-9263-4D0C-935F-D1943C12977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reasonable protection from eavesdroppers and MITM attacks (provided that adequate cipher suites are used and that the web server certificate is verified and trus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2BA60-F508-4BD1-98A0-41C7E63CC2E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r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herent in HTTPS is based on major CAs, which come pre-installed in browser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equivalent to saying “I trust CA (e.g. VeriSign (now Symantec), Microsoft, etc.) to tell me whom I should tru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7222D-DF29-4980-AFAE-FCC139BFD09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HTTPS connection to a web site can be trusted if and only if all of the following are tr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user trusts that their browser software correctly implements HTTPS with correctly pre-installed CAs (some browser vendors regularly audit their approved li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C1F90-36D5-474F-9B93-80303810686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browser makers decide which CAs to put into the produ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sof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oot Certificat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ozilla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A Certificate Inclusion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pple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oot Certificat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pera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ow to get a root certificate included in its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77412-CD2D-4B40-8915-85F7C220A5D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HTTPS connection to a web site can be trusted if and only if all of the following are tru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user trusts the CA to vouch only for legitimate web sites w/o misleading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3F88E-94E2-4622-8D05-3159DA1DC7A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HTTPS connection to a web site can be trusted if and only if all of the following are tru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web site provides a valid certificate (an invalid certificate shows a warning in most browsers), which means it was signed by a trusted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B4124-0523-426D-A442-10418555CC2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833400" y="2286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712800" y="1531800"/>
            <a:ext cx="7745400" cy="47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FE2CF-4CEC-4DB8-BAE1-3C4ED8805B7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HTTPS connection to a web site can be trusted if and only if all of the following are tru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certificate correctly identifies the web site and not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C21D6-96E8-4986-9BAB-E9996730B7C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Firefox_3.0_error_on_svn.boost.org.png"/>
          <p:cNvPicPr/>
          <p:nvPr/>
        </p:nvPicPr>
        <p:blipFill>
          <a:blip r:embed="rId1"/>
          <a:stretch/>
        </p:blipFill>
        <p:spPr>
          <a:xfrm>
            <a:off x="979560" y="2438280"/>
            <a:ext cx="801216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59A0F-E6BF-4587-A801-A1058D4DCF4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HTTPS connection to a web site can be trusted if and only if all of the following are tru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ither the intervening hops on the Internet are trustworthy, or the user trusts that SSL/TLS is unbreakable by an eavesdro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218D6-6087-4AFE-AB9E-D697B601A09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Determine the secure conn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rowser checks the certificate to make sure that the site is the real site (not spoofed, or MIT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A8E09-0C2B-4D0E-9E1B-B0677C48D4E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The SSL Handshak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customer's browser sends the web server it's methods of encryp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is includes the encryption type (e.g., DES-3, AES), some random data that the encryption programs on both sides can use in the scrambling routines, and other SSL rela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467E5-A50F-45C8-80C2-C9F286497D7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web server returns it's own random data to be used for encryption, as well as it's SSL certificate, and its public key that the browser will need in step #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03672-BB6D-4CF4-A63D-6D559C86C8B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browser checks the web server’s certificate it received and compares it to the domain it was trying to connect with secu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6F655-E877-4A39-9468-303ECB9C71A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f the certificate information on the web site doesn't match the domain name, the browser will notify the customer that there is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certificate expiration date and a valid CA are also checked at this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B628B-F839-41BD-B502-D4ED5EDD721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Completing the SSL Handshak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n this phase, the communicating systems create a new key that the remainder of the connection will be u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end product is an encrypted trans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29C87-C2A4-49E0-8144-3B175C29896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browser creates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premaster secr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that will be used to encrypt the rest of the ses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477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is is a random key that it encrypts using the agreed upon encryption method (step #2) combined with the web server's public key st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AD5EC-DCD0-4ECF-9F92-CC6AACE7EED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refore, the MAC has performed the fo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nsured to Bob that the message was not 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f an attacker tries to modify the message and not the MAC, then the 2 MACs will be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159F1-47DA-47DE-950C-D6893526832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browser then sends the new encrypted secret string back to the web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DCBA4-47BF-4B92-B730-FC3112CE971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If the web server requires client authentication, it is done at this point using the same steps as outlined in step #2  - however, the web server looks for a client certificate (implemented in corporate environ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7360A-7365-4B7A-A62F-6B859C24E4E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With the new premaster secret string, both the browser and the web server create a new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master secr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string and use it to create session keys (long strings of generated characters) that their encryption programs use for the rest of the session to encrypt/decrypt all trans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AFBA1-0F41-4F45-99F9-47EA6CE47DC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With the master secret key in place, both sides are also able to verify that the data hasn’t change en ro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13D6C-DA7C-41B8-BDCC-24AC21168C4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browser now has the information it needs to establish secure communication w/the web server - it sends a message to the server saying that it will start using the new session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84822-2202-41D9-A87F-2FE2EDB1C6E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browser (now talking in an encrypted manner) verifies to the web server that it is finished locking/securing it's part of the 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FC1DD-15EA-4240-8CC6-326BE6DEC7E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web server then sends a message to the browser saying that it too will start using the new session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4A5CB-E5DC-4688-8DCC-BDA106B3C46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web server (now talking in an encrypted manner too) verifies to the browser that it is finished locking/securing it's part of the 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E81E2-DCC1-4076-B18B-5C955204E09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 The browser and web server start talking using the encryption (the web browser shows the encrypting icon, and web pages are processed secu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ED918-1420-4FEE-BCC2-5F0EEAFD5BB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4" descr="ssl1.png"/>
          <p:cNvPicPr/>
          <p:nvPr/>
        </p:nvPicPr>
        <p:blipFill>
          <a:blip r:embed="rId1"/>
          <a:stretch/>
        </p:blipFill>
        <p:spPr>
          <a:xfrm>
            <a:off x="228600" y="457200"/>
            <a:ext cx="86407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1:38:06Z</dcterms:created>
  <dc:creator>cobrien</dc:creator>
  <dc:description/>
  <dc:language>en-US</dc:language>
  <cp:lastModifiedBy>Casey O'Brien</cp:lastModifiedBy>
  <dcterms:modified xsi:type="dcterms:W3CDTF">2014-01-14T15:10:25Z</dcterms:modified>
  <cp:revision>966</cp:revision>
  <dc:subject/>
  <dc:title>Slide 1</dc:title>
</cp:coreProperties>
</file>