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19.xml.rels" ContentType="application/vnd.openxmlformats-package.relationships+xml"/>
  <Override PartName="/ppt/notesSlides/_rels/notesSlide123.xml.rels" ContentType="application/vnd.openxmlformats-package.relationships+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9.xml.rels" ContentType="application/vnd.openxmlformats-package.relationships+xml"/>
  <Override PartName="/ppt/notesSlides/_rels/notesSlide148.xml.rels" ContentType="application/vnd.openxmlformats-package.relationships+xml"/>
  <Override PartName="/ppt/notesSlides/_rels/notesSlide11.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132.xml.rels" ContentType="application/vnd.openxmlformats-package.relationships+xml"/>
  <Override PartName="/ppt/notesSlides/_rels/notesSlide39.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2.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8.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100.xml.rels" ContentType="application/vnd.openxmlformats-package.relationships+xml"/>
  <Override PartName="/ppt/notesSlides/_rels/notesSlide4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3.xml.rels" ContentType="application/vnd.openxmlformats-package.relationships+xml"/>
  <Override PartName="/ppt/notesSlides/_rels/notesSlide146.xml.rels" ContentType="application/vnd.openxmlformats-package.relationships+xml"/>
  <Override PartName="/ppt/notesSlides/_rels/notesSlide131.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57.xml.rels" ContentType="application/vnd.openxmlformats-package.relationships+xml"/>
  <Override PartName="/ppt/notesSlides/_rels/notesSlide11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99.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54.xml" ContentType="application/vnd.openxmlformats-officedocument.presentationml.notesSlide+xml"/>
  <Override PartName="/ppt/notesSlides/notesSlide41.xml" ContentType="application/vnd.openxmlformats-officedocument.presentationml.notesSlide+xml"/>
  <Override PartName="/ppt/notesSlides/notesSlide146.xml" ContentType="application/vnd.openxmlformats-officedocument.presentationml.notesSlide+xml"/>
  <Override PartName="/ppt/notesSlides/notesSlide55.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56.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150.xml" ContentType="application/vnd.openxmlformats-officedocument.presentationml.notesSlide+xml"/>
  <Override PartName="/ppt/notesSlides/notesSlide44.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34.xml" ContentType="application/vnd.openxmlformats-officedocument.presentationml.notesSlide+xml"/>
  <Override PartName="/ppt/notesSlides/notesSlide133.xml" ContentType="application/vnd.openxmlformats-officedocument.presentationml.notesSlide+xml"/>
  <Override PartName="/ppt/notesSlides/notesSlide132.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6" name="AutoShape 1"/>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7" name="AutoShape 2"/>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8" name="AutoShape 3"/>
          <p:cNvSpPr/>
          <p:nvPr/>
        </p:nvSpPr>
        <p:spPr>
          <a:xfrm>
            <a:off x="0" y="0"/>
            <a:ext cx="7315200" cy="9601200"/>
          </a:xfrm>
          <a:custGeom>
            <a:avLst/>
            <a:gdLst>
              <a:gd name="textAreaLeft" fmla="*/ 360 w 7315200"/>
              <a:gd name="textAreaRight" fmla="*/ 7314840 w 7315200"/>
              <a:gd name="textAreaTop" fmla="*/ 360 h 9601200"/>
              <a:gd name="textAreaBottom" fmla="*/ 9600840 h 9601200"/>
            </a:gdLst>
            <a:ahLst/>
            <a:rect l="textAreaLeft" t="textAreaTop" r="textAreaRight" b="textAreaBottom"/>
            <a:pathLst>
              <a:path w="21600" h="28350">
                <a:moveTo>
                  <a:pt x="5" y="0"/>
                </a:moveTo>
                <a:arcTo wR="5" hR="5" stAng="16200000" swAng="-5400000"/>
                <a:lnTo>
                  <a:pt x="0" y="28345"/>
                </a:lnTo>
                <a:arcTo wR="5" hR="5" stAng="10800000" swAng="-5400000"/>
                <a:lnTo>
                  <a:pt x="21595" y="2835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99" name="Text Box 4"/>
          <p:cNvSpPr/>
          <p:nvPr/>
        </p:nvSpPr>
        <p:spPr>
          <a:xfrm>
            <a:off x="0" y="0"/>
            <a:ext cx="3170160" cy="48420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0" name="Text Box 5"/>
          <p:cNvSpPr/>
          <p:nvPr/>
        </p:nvSpPr>
        <p:spPr>
          <a:xfrm>
            <a:off x="4145040" y="0"/>
            <a:ext cx="3170160" cy="48420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1" name="PlaceHolder 1"/>
          <p:cNvSpPr>
            <a:spLocks noGrp="1"/>
          </p:cNvSpPr>
          <p:nvPr>
            <p:ph type="sldImg"/>
          </p:nvPr>
        </p:nvSpPr>
        <p:spPr>
          <a:xfrm>
            <a:off x="1258560" y="720720"/>
            <a:ext cx="4792680" cy="3594240"/>
          </a:xfrm>
          <a:prstGeom prst="rect">
            <a:avLst/>
          </a:prstGeom>
          <a:noFill/>
          <a:ln w="9360">
            <a:solidFill>
              <a:srgbClr val="000000"/>
            </a:solidFill>
            <a:miter/>
          </a:ln>
        </p:spPr>
        <p:txBody>
          <a:bodyPr lIns="95040" rIns="95040" tIns="49320" bIns="49320" anchor="ctr">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2" name="PlaceHolder 2"/>
          <p:cNvSpPr>
            <a:spLocks noGrp="1"/>
          </p:cNvSpPr>
          <p:nvPr>
            <p:ph type="body"/>
          </p:nvPr>
        </p:nvSpPr>
        <p:spPr>
          <a:xfrm>
            <a:off x="974520" y="4560840"/>
            <a:ext cx="5359320" cy="4314960"/>
          </a:xfrm>
          <a:prstGeom prst="rect">
            <a:avLst/>
          </a:prstGeom>
          <a:noFill/>
          <a:ln w="0">
            <a:noFill/>
          </a:ln>
        </p:spPr>
        <p:txBody>
          <a:bodyPr lIns="95040" rIns="95040" tIns="49320" bIns="493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Text Box 8"/>
          <p:cNvSpPr/>
          <p:nvPr/>
        </p:nvSpPr>
        <p:spPr>
          <a:xfrm>
            <a:off x="0" y="9118440"/>
            <a:ext cx="3170160" cy="482760"/>
          </a:xfrm>
          <a:prstGeom prst="rect">
            <a:avLst/>
          </a:prstGeom>
          <a:noFill/>
          <a:ln w="0">
            <a:noFill/>
          </a:ln>
        </p:spPr>
        <p:style>
          <a:lnRef idx="0"/>
          <a:fillRef idx="0"/>
          <a:effectRef idx="0"/>
          <a:fontRef idx="minor"/>
        </p:style>
        <p:txBody>
          <a:bodyPr wrap="none" lIns="96840" rIns="96840" tIns="48240" bIns="48240" anchor="ctr">
            <a:noAutofit/>
          </a:bodyPr>
          <a:p>
            <a:endParaRPr b="0" lang="en-US" sz="2400" spc="-1" strike="noStrike">
              <a:solidFill>
                <a:srgbClr val="ffffff"/>
              </a:solidFill>
              <a:latin typeface="Arial"/>
            </a:endParaRPr>
          </a:p>
        </p:txBody>
      </p:sp>
      <p:sp>
        <p:nvSpPr>
          <p:cNvPr id="104" name="PlaceHolder 3"/>
          <p:cNvSpPr>
            <a:spLocks noGrp="1"/>
          </p:cNvSpPr>
          <p:nvPr>
            <p:ph type="sldNum" idx="7"/>
          </p:nvPr>
        </p:nvSpPr>
        <p:spPr>
          <a:xfrm>
            <a:off x="4144680" y="9121320"/>
            <a:ext cx="3165480" cy="474840"/>
          </a:xfrm>
          <a:prstGeom prst="rect">
            <a:avLst/>
          </a:prstGeom>
          <a:noFill/>
          <a:ln w="0">
            <a:noFill/>
          </a:ln>
        </p:spPr>
        <p:txBody>
          <a:bodyPr lIns="95040" rIns="95040" tIns="49320" bIns="49320" anchor="b">
            <a:noAutofit/>
          </a:bodyPr>
          <a:lstStyle>
            <a:lvl1pPr indent="0" algn="r">
              <a:lnSpc>
                <a:spcPct val="100000"/>
              </a:lnSpc>
              <a:buNone/>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1BC460-C236-42CD-84CC-0ACAA06FC35C}" type="slidenum">
              <a:rPr b="0" lang="en-GB"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B8989-51FD-4CA3-A8DF-B14289A1CCC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59"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D74F5B-B9D3-4600-B81C-19F93CE0C0A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FA77BB4-CA05-4B96-B39D-4CE9A6159A0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92E30B-7441-4C39-B8EA-7BDE8F14AD5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97A14FE-0D21-4001-BA96-4FD3921DE6C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FF55D7-A74E-4A45-BF28-2DE84607FD6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8D7850A-423B-416F-AB60-1279289D152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EA5F93-73D8-48C9-A6E0-23B0D01BA15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9B2FF34-0CE2-40A0-8285-2A8F53ABC62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5488C-08A7-4E65-B5E6-5B06DB40E6E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3801F37-7460-4EEA-8674-A56F8BAFB8B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9C20CB-C9F9-46BA-A1D3-D99B295E5FE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580C270-09CB-455C-B681-45FB855BBFC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269273-03A6-4CDE-9701-6BD33C1832E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A6A44F9-7EBA-4CD7-A4E9-A99646B2C79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3F39C8-9E48-4847-B1AE-0BF02A02324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3D65BE8-FA1B-4143-B19B-B57C070581B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4AFB94-C1C5-4C8E-8B28-79272BDECBD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08C3BB5-C187-4CBB-BDCE-E08F0638FAA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FFBB9-DDDD-4C16-821D-3FD803F516D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3A0BF9F-42AE-472B-826E-15B3DBB4FDD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B3168A-437F-495C-8ED0-B91264F0434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DE6880B-2F3A-4893-A33C-DFD423D9E16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A4EDE-3C67-481A-B4CC-85AE5F64B1E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E26A7D8-ADB0-4B7B-A058-50676F883A8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278F3F-0464-4CDF-89F6-984823C71D5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2C35AD7-2D81-4D03-BC7E-14598A8C68E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140F1F-CCDD-412B-91CB-EA0CF264919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EF8E25B-D15F-4482-B2B5-62AA4A20D49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229B9-E048-4E6A-A0F4-A1D554C1DD8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47130FF-8921-471E-9300-752F1CED11A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41EF8-7262-4427-8BC4-025F4A45949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18BEB42-127B-4755-A9BA-EA258B74F76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F18779-357D-4FF7-B73D-02B18A3D763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16048D7-E0D5-496A-9B50-25C8E03DB5F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31E52-000E-4C6C-B279-4F46062DC3A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55567BB-55AD-4493-8573-8F81C2C9280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11492-086B-42E8-87E7-AEC6DDAF485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AC99BA3-0F19-4423-97BC-C658D015798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BC40D8-F2D2-4571-AFEC-E042D7B5E36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AAAE4A0-C073-487C-8E27-479237F2593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FE551-9920-45BD-9BB0-AAD33B311C2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6584240-9A10-48C0-BF15-5E73C742F73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0A022F-51C4-4C7E-A283-4C5B5E8252A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42BDD4D-F854-4230-BA00-829A35A9284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25A69C-0E7D-4F06-9FA8-267FCC0AB2F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0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1AD8C5E-9377-4477-9BA7-F15F038F664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0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3D3962-ED11-4DE8-ABC7-059E96B98FF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BE13937-BADF-4DC1-962F-9C0ECAE9032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35A20-CAC3-4AB2-B558-C9025C46BAE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CFBF465-49CC-44C7-AF35-AA32FFAC37B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DCE72-211D-4452-8317-CA59E26EA2F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4A4AE36-44BB-4C3F-850D-7FA257C864D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ECCD6-C39D-444A-A92A-2FDCD2F2AF7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23AD3D3-E19D-497C-9912-2A53C917676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2917B4-2436-41F7-9435-E16A1174698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47F56BE-089E-4BBE-862F-A132C677613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92CCD-520F-4034-A181-279925DD3A4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4F672C0-86C2-46A0-93EA-8DE842A90A6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C4464D-1351-487B-BC1B-D988740AD64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5CF5AC6-F39E-4C44-BC85-A420333EDA3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BE40B-5F25-4766-AB1C-F595C3CCE23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F7BCBF1-B137-454C-AE79-4E3398BBBE6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C1ADEC-24CE-4A23-8CEF-C194BBFEC69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CC86CA1-0A7C-43E5-8C73-A33B9A4AB7A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5A9631-7D08-4D84-B898-D87D33AD343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54B0BB8-C107-45A3-ACCD-AE2A33330AD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1DF77-EA7B-4942-93B3-DBC67FCA40A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0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69B7D42-AD99-4F7F-AEC5-6785E27D417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0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0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C3BEBC-1B5B-46C4-A1D0-AFA9DBC88DB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C9C5457-483D-480C-9E96-267B41FBC5B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57D2E7-C98A-4889-AB2E-AE43D05E13D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CC73001-1DA3-4AA2-A207-ECAF17389AD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9E8668-B1E6-48FF-89B3-ADFF82EBBF4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DB18881-AA8E-4D99-B4AB-3056AB69F8A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886F75-92A7-4CCA-8556-134A7B50C05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B9C278F-3A35-4160-9226-43185B25028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DAEB97-072A-4ACD-8DFE-316D365573F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C814A39-4BBA-4CFE-8844-25B227CF26F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07BCA2-C0DB-45B6-A388-14376D24A91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6D8C794-A303-4B5C-B8A5-A2DBAFD8009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A083E5-A4FD-4A66-A387-A229751D56C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0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22993F1-C098-4F19-B580-74C85EBDB35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0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A1102B-D80D-4C7C-A2AC-22CA7FED81C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E1F96B1-AD66-476E-9BB2-4E1FC3833D9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et key on 3 rotors</a:t>
            </a: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9CC18D-D55A-4D3B-9969-A4A152673C6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DAAEAF9-E1F3-4F66-87E6-AEE197365ED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B4B5B3-5AEF-4E81-BFF5-02024241BF3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36B805C-E313-4E40-A81A-DEECBFBF2EF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05F03C-CB84-4B47-A860-D4B2EE3E968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2CC7F61-F432-488D-A7BF-4342BE11360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45DF53-7956-476C-8317-F643ECEDC68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57BFC6C-F014-48DC-BDA3-4D8ECA583D6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5D4161-FDDD-4BAB-8A34-54DA55A9FC9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6932538-74CA-4637-8DDC-65F5A93E75D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4049A3-A4BD-4AB2-9DB7-2181DE4A637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589763D-32D8-42DF-87CD-DAC5B52DE36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341E16-926F-4FC0-BC63-E0AE444B9DD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80C4F68-F707-4F8B-B84C-96A340B2FA6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FCE93-B043-45C8-8560-D2C3876B46C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79615FC-718B-477E-874B-E225F032A71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7BA43-3A94-4542-A89E-B746D4D2056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153F26B-0270-4A2A-96C0-D7583D94478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65ECA-5EF6-4857-9CAF-7AE08D75A94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18FDCE5-A194-46FD-9D66-AB70DCF4BEC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AE1AAB-EA24-4999-8145-36473DC7060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D0C159E-7E1D-4DE4-B8AA-283477445C2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8180C4-EDE8-481B-A711-7AA59C7DAB0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3F1137F-8092-4E63-955D-52C991832B3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AE321C-B9CE-49B3-B910-FB782BB432C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E512CD5-D714-49FF-A750-9554315BEDA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8101F2-673B-4D93-882B-C21537ECC96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8165E12-A163-46D2-A97A-1FA3302EE9F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5DD17-0EB9-449B-8A21-80D8B933D5C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11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049B2B3-B4E0-45DB-A3D7-0B13F6921A1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11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1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201F9-4EC8-4A54-96AD-B91B92A676E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1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BF29FD1-2FEB-4EC4-82A6-504EC853A58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1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8ECB31-0F79-464B-A8C9-06DACA111CF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2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ECDB7CC-A0CB-46A3-BBF5-ACFB91AAECD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2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DD311-417A-436F-AB21-7FD3BB7C9E9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2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2E65B1F-66D3-4937-855F-E15A2CE7B44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2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A8FCBB-92A2-4BCE-BB38-BD3FD0B8E6F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D2A127B-A455-44D4-97FF-331FEE0D346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2E472D-E24E-4E72-B845-ECBC79C1B6D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6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6EE1F98-98F6-4C6F-84B8-F0BAA595B5F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6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FFD0A7-4B87-4B86-9530-D76FAFDE859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3F9DB3F-4023-4310-8E48-2D7E2B1B7B6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B97D6A-8484-4848-B294-8BDE32A35B1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3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D94DD5D-F3C8-4DFF-9A85-5B100F8C463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3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BA94A-8FB8-4815-8F96-E21E490109B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4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1ADEA74-4B7C-481F-88BB-62E4A79C93C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4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C40B56-F3CB-4C6B-8D64-3091DDD70CF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4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C1CBCB8-AEFD-4790-B04E-735F74BBBC1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4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4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70D7F2-068C-4E62-8ADC-65DD3D1ABB3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E4F42D7-1EEA-4DEA-8308-A3DFB404EB7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2EFEDD-862C-4D82-8DFA-6A6BA4A61A9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4088915-E799-4FEE-9615-9F383E6B90A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5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394107-DE8A-462F-B5E2-CFD43591904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5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1C3E15A-6632-4909-B61F-32963E8F9EB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5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AACED0-3EF9-4B47-9ACB-26EB41CB502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6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55C25C9-EC8E-4516-865C-71EE81271BA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6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3F3E58-D2D6-44B7-8504-53B22E2D1C6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6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045E6F2-5473-4DB7-A896-6B431F6A63A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6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6DDA16-E139-4454-A90A-99D817FCD99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18002CF-12B6-4C5B-B8A4-D6C1B3E4B61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7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450DA-2C32-4DB2-A45D-F179924F5E8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6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84FEBAB-84F3-447B-BEAA-FC86E816503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6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6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CrypTool Presentation (.pdf)</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CD5151-3CB6-4960-8676-CEED666ED42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4"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5"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B032E4-5084-4458-BF4D-D51609C5B32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77" name="Text Box 1"/>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7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08BA20-0424-4031-A7FD-CFF4A81F204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E56552C-97F3-4DBC-8E7A-A65868FFFEA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F77F35-0538-4F1A-8B61-EC0E1A94C37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C260EBC-B583-460C-96C8-1D6DA29969B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F23014-45E5-4023-AC64-3381BF8DE72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4E91C77-701F-4E1E-A4BA-FB731977377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0" name="PlaceHolder 1"/>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3D3DAC-7C99-4785-95F6-694739EE1DE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1410AC3-5580-4A7E-AC44-D369DA6A0DE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4" name="PlaceHolder 1"/>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1E84DD-1A0E-4E60-932F-720077136B9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6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FE2DC64-26D0-4B00-B122-0FD55A71548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6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15F419-07BA-43DA-97A4-F65A1151DEB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7063355-01E3-4CE9-9590-11F332EBCEE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0F46FF-4749-41DE-B873-2C9F7F2DD28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1992EE3-592F-4D9D-8546-E73D395708C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9AD72C-24E3-440A-85E9-772BDB32FEB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5B7846F-FFA6-4A2B-91F2-0BB926F85C5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345643-4770-4BB3-85AE-07E8E29D572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E23F886-722C-4805-B701-E3445946DC8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2C8550-7042-47C0-A967-A6976D9B2EF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83E914A-4166-4249-B37E-EB0B6E2D82E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04FE7-172C-4212-B131-EE6AE28DDC8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0EB6824-F696-413A-8E8F-05CEED44468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2BFF1-F9D1-4566-BD80-CE2647FC21D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6FE047C-BC81-434C-B719-FC95414BFD8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8F6B62-B362-492E-8D85-5EC6E5937B9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47B3CEF-0453-47B7-87E4-B678B75A83B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2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577F6E-DD29-40D2-B76A-83AD403DC87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3E3B7ADC-47DC-4879-92D9-C00780BD707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Answer</a:t>
            </a:r>
            <a:r>
              <a:rPr b="0" lang="en-US" sz="1200" spc="-1" strike="noStrike">
                <a:solidFill>
                  <a:srgbClr val="000000"/>
                </a:solidFill>
                <a:latin typeface="Times New Roman"/>
              </a:rPr>
              <a:t>: cryptography is cool</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64EC31-4EE1-4983-9EBF-E25151E43D2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D28192C-8B07-4EB4-A8F8-4BA3EA68127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4"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2C094-CD3D-4BB0-91B7-08FBE9E41E7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BBD85F5-8082-4E3C-9E7E-68272F52079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13B38-609D-411B-8868-017B051B208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13CFB62-D0C0-4795-96E8-AE5FD81705B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EFF8E-4B6B-47AA-83C4-2F5E9AB1021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EE70AED-B05F-4567-932E-66B8D540873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46"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Answer 1</a:t>
            </a:r>
            <a:r>
              <a:rPr b="0" lang="en-GB" sz="1200" spc="-1" strike="noStrike">
                <a:solidFill>
                  <a:srgbClr val="000000"/>
                </a:solidFill>
                <a:latin typeface="Times New Roman"/>
              </a:rPr>
              <a:t>: CRYPTOGRAPHY IS VERY COOL</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Answer 2</a:t>
            </a:r>
            <a:r>
              <a:rPr b="0" lang="en-GB" sz="1200" spc="-1" strike="noStrike">
                <a:solidFill>
                  <a:srgbClr val="000000"/>
                </a:solidFill>
                <a:latin typeface="Times New Roman"/>
              </a:rPr>
              <a:t>: PROFESSIONA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B38BB3-A4FA-4FEB-9B3E-7813F902E2C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A154DEB-F442-4CD7-8029-06AB7FFF7A1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chorCtr="1">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 Page15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153A87-0F1A-4520-A2DF-60F01409683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1A3E1B7-048C-41BC-AD56-08357B56417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99EBBE-4748-45D2-820F-E96FA390B7A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6C3686C-55C5-4531-9C3E-80B334C9ECD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1E6893-0133-4BC2-9919-F6B426D0B5C5}"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65416B8-5F34-4EAA-BA5C-94BFE5DFD9B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58"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F416B-87A3-4E7E-91A4-FC3DE5A6B19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6F12965-3F1A-4BEC-B8A4-140F50277E2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2"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E327B1-C8A9-42FE-9860-372E52AF4A1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AFAAF01-EA58-4725-8291-DCBF0306495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774A6-34A3-471C-8A42-B9E3BD2E6FD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061D5D1-7609-4F42-A36F-158569C906A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0"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890E81-F6D7-42AA-9193-A18D55176F9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55C2764-8185-4E5C-B89C-0D7311EF104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4" name="PlaceHolder 1"/>
          <p:cNvSpPr>
            <a:spLocks noGrp="1"/>
          </p:cNvSpPr>
          <p:nvPr>
            <p:ph type="body"/>
          </p:nvPr>
        </p:nvSpPr>
        <p:spPr>
          <a:xfrm>
            <a:off x="974520" y="4560840"/>
            <a:ext cx="5360760" cy="4316400"/>
          </a:xfrm>
          <a:prstGeom prst="rect">
            <a:avLst/>
          </a:prstGeom>
          <a:noFill/>
          <a:ln w="0">
            <a:noFill/>
          </a:ln>
        </p:spPr>
        <p:txBody>
          <a:bodyPr lIns="95040" rIns="95040" tIns="49320" bIns="49320" anchor="ctr">
            <a:noAutofit/>
          </a:bodyPr>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http://en.wikipedia.org/wiki/ROT13</a:t>
            </a:r>
            <a:endParaRPr b="0" lang="en-US" sz="1200" spc="-1" strike="noStrike">
              <a:solidFill>
                <a:srgbClr val="000000"/>
              </a:solidFill>
              <a:latin typeface="Times New Roman"/>
            </a:endParaRPr>
          </a:p>
          <a:p>
            <a:pPr indent="0">
              <a:spcBef>
                <a:spcPts val="451"/>
              </a:spcBef>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US" sz="1200" spc="-1" strike="noStrike">
                <a:solidFill>
                  <a:srgbClr val="000000"/>
                </a:solidFill>
                <a:latin typeface="Times New Roman"/>
              </a:rPr>
              <a:t>-</a:t>
            </a:r>
            <a:r>
              <a:rPr b="1" lang="en-US" sz="1200" spc="-1" strike="noStrike">
                <a:solidFill>
                  <a:srgbClr val="000000"/>
                </a:solidFill>
                <a:latin typeface="Times New Roman"/>
              </a:rPr>
              <a:t>tr</a:t>
            </a:r>
            <a:r>
              <a:rPr b="0" lang="en-US" sz="1200" spc="-1" strike="noStrike">
                <a:solidFill>
                  <a:srgbClr val="000000"/>
                </a:solidFill>
                <a:latin typeface="Times New Roman"/>
              </a:rPr>
              <a:t>: translate character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A194E9-AE6D-466C-B59E-79ED21F2D7E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2F47BBE-5F9B-43AC-969D-E4EB9FC8ACE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C2E2E1-C62F-42F3-B02D-A840A797688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4698597-D64A-453B-9AB7-E3611D79B78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429A1F-1FDF-404F-8B82-23EE3B24CDA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BA66162-8410-4C6D-9D42-3B7DC7CD114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B62158-29BA-47D7-8284-70C00D80E98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5DC35C6-18F4-4205-8EC7-863656A8473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0"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4037D-273E-48B0-BCEF-7DA74B62288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7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505BF8C-B1EF-4627-BB1E-F805A260E7D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7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9859A5-8E5A-4CA4-85A0-C33C3CF3C3A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51E4C7C-B119-4417-BB3E-1745C3961D1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4"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644AE-6D80-4F3F-9D7C-7B6656331AF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7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D0C2C44-17D9-40B4-AF34-9414F9B24E7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7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9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29AA02-A778-4D90-8A2D-2D2560038EA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A7AA8C7-D61F-4D11-AAA5-E67A73D20A6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03C911-0187-4A2E-A966-54BAFF8573F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6F15986F-1F90-4659-B32F-0B45488680C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06"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E2C0A3-4A41-4DC6-A54C-680602812DA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36E2200-CBFA-4B25-A9D5-51BCFBCDB54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0"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EDE97-B7AB-40AF-A441-9A5F17EBC38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D3474F38-EEA9-4D10-9826-22D2F8771C9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4"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2EFD5-25A4-4533-8DD8-9065A40775D4}"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7EB066A-6054-4AEA-8FDC-5E3B86A475E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8"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F0873D-0B77-4755-9C84-7127DE6E65B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7108412-4930-42A2-827E-D2CA95B81A0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2" name="PlaceHolder 1"/>
          <p:cNvSpPr>
            <a:spLocks noGrp="1"/>
          </p:cNvSpPr>
          <p:nvPr>
            <p:ph type="body"/>
          </p:nvPr>
        </p:nvSpPr>
        <p:spPr>
          <a:xfrm>
            <a:off x="974520" y="4560840"/>
            <a:ext cx="5360760" cy="4316400"/>
          </a:xfrm>
          <a:prstGeom prst="rect">
            <a:avLst/>
          </a:prstGeom>
          <a:noFill/>
          <a:ln w="0">
            <a:noFill/>
          </a:ln>
        </p:spPr>
        <p:txBody>
          <a:bodyPr lIns="96840" rIns="96840" tIns="48240" bIns="482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1" lang="en-US" sz="1200" spc="-1" strike="noStrike">
                <a:solidFill>
                  <a:srgbClr val="000000"/>
                </a:solidFill>
                <a:latin typeface="Times New Roman"/>
              </a:rPr>
              <a:t>Source</a:t>
            </a:r>
            <a:r>
              <a:rPr b="0" lang="en-US"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AF00E0-7DEF-4B87-A120-6835AF73137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81AD3B0-B515-4C64-AF9E-A69E509F3CD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6"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9C3518-92B4-4B9F-94D8-DDE46C3559D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7E8380A-A726-47F3-81FB-97034D7ABED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0"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Digital Certificates: Applied Internet Secur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A0F04D-31E7-4242-87D2-B7A9734C8EB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8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27E54AB-CBEA-421F-9DB5-1284112FA099}"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8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D83C83-1883-424C-92A6-3DCF14FCDF8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8202F8F-E3EE-49ED-8C8D-E194288C7D0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4"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21A193-2C50-423E-8E2C-9CB943E8D517}"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3A811A5-49CD-43EE-9412-218CAFDD2BF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1B541C-E13C-491C-A894-2CB7A2AD638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E94787B-F547-45E4-924C-BB87B319045D}"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76"/>
              </a:spcBef>
              <a:buNone/>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r>
              <a:rPr b="0" lang="en-GB" sz="1200" spc="-1" strike="noStrike">
                <a:solidFill>
                  <a:srgbClr val="000000"/>
                </a:solidFill>
                <a:latin typeface="Times New Roman"/>
              </a:rPr>
              <a:t>-</a:t>
            </a:r>
            <a:r>
              <a:rPr b="1" lang="en-GB" sz="1200" spc="-1" strike="noStrike">
                <a:solidFill>
                  <a:srgbClr val="000000"/>
                </a:solidFill>
                <a:latin typeface="Times New Roman"/>
              </a:rPr>
              <a:t>Source</a:t>
            </a:r>
            <a:r>
              <a:rPr b="0" lang="en-GB" sz="1200" spc="-1" strike="noStrike">
                <a:solidFill>
                  <a:srgbClr val="000000"/>
                </a:solidFill>
                <a:latin typeface="Times New Roman"/>
              </a:rPr>
              <a:t>: Guide to Strategic Infrastructure Security: Becoming a Security Network Professional</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EA393A-17CC-4715-A300-4CBD77A5678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A8AC19E-234F-4920-9F38-1155DE3CD76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B4FCA-C723-4BF1-99A4-9C26E779EB1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494B220-2053-4400-A2EC-59266B2B58F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9017A-8987-49F5-AF5B-D1FE3F6AEB9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5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A20C72F2-5DF5-4FB0-8C58-30DD47D1547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5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87331F-5AF0-43C2-A947-66D83F82A1A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5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793A1F4-B85F-4717-9800-BE62497F3D4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5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5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1B8A17-6349-4511-9BCC-3F39C12A5C6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F7673311-878D-4014-BCFC-2AC76CA5B878}"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19E23C-3076-4F88-BD6F-3A60A5FDBA10}"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40FF108-285B-4442-8182-C75305800A2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78DC4-6D22-4DED-A259-D91D5A585FB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6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21FCA75-F5CA-4777-971B-D6B7605B4EE1}"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6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45FFEF-5E50-45DB-AC4A-9FBFDC8B9CF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8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E47A1CC-7E00-4D6B-BBF8-C66AF014864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8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8"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E95DD6-626B-4123-AFE4-71BDC118902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7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8B3C0B4-F72E-4CAA-B0BE-AD99AA69DDB7}"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7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DA34F4-2609-4E74-B8D1-265E5E19FCFE}"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7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DE60BBF-93AF-4EC7-99DE-43D94EF20A1F}"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7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8B2BD-0352-48BC-844B-50E2CC2525C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93A8BD8-A232-4C06-8547-252BBF25BD4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B075EF-346E-47E7-8D7C-36F712445F0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0E969D57-6A20-4363-8F63-A75D1415C49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2589A-F522-4544-8992-89A3DF1CF1F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8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13F8F35-495F-4832-AB5E-966BFCDFAE6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8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26C537-EE21-4FD8-998E-DBFCE7EA88D3}"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9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8BB0A0C5-FF00-4E0E-8993-212589B465E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9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033633-6D82-4855-BD59-7C9464E5113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89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13D67D77-78A4-43FF-98E1-02617CE7A14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89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9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2ED1F8-9995-45D5-A557-799009304892}"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36C8AF6-45C5-4C91-A8CE-F8905B41A71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9B63AD-EF48-4D76-B59C-CEE73FD9599A}"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B4111EFD-B06F-4BB1-A241-E458E4471DC2}"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0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A5D59-855E-4418-B11C-488CDD8F9B4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0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41B45D9-102B-4774-ACD3-2F62FEC2E820}"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0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0C823C-4C74-464D-83BB-EF980148D58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9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0A2E307-4AEB-45C5-8BB8-0D20E28DF3D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59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2" name="PlaceHolder 1"/>
          <p:cNvSpPr>
            <a:spLocks noGrp="1"/>
          </p:cNvSpPr>
          <p:nvPr>
            <p:ph type="body"/>
          </p:nvPr>
        </p:nvSpPr>
        <p:spPr>
          <a:xfrm>
            <a:off x="974520" y="4560840"/>
            <a:ext cx="5360760" cy="4316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31DDB-59AD-4823-9230-D78AE440990C}"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5364B663-A5AE-48EB-86F6-91F5E8E0A8E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1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367026-8EB9-4291-B8B8-3ED0DF5B7F2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1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87459B8-D269-4DB6-8BFF-229CBE7FE4EE}"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1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46374A-5120-4A32-871C-ABF8405BD0C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923BF08-01CA-4DD3-B5C6-E7B7EA6128B4}"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9F1A8-89C9-4357-881B-397D393E02A6}"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979A099-CBB3-42FE-9582-E5DB44AE0C3A}"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2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C32E6E-195C-4CB2-922D-0677F0088A19}"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2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7B32669D-5767-4B26-B021-85067BB9A203}"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2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338C32-B609-4A27-B62F-2EB8E5291428}"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2"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4D502FEB-FFA0-402C-A2DE-4AF05DDAA425}"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33"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4"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BBDAA-B4EE-4999-979A-A2F06663C521}"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36"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C83442D9-DDC4-43F1-A1D1-DC3DC03DF28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37"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8"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2A7F7C-2980-4944-A162-E2777F516D0F}"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0"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251353F0-5085-4F39-BDF6-5670EB18329C}"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1"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2"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DA87CE-57A7-416E-B586-CBE3BCE8D65D}"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4"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EFC75844-0AE1-4D9B-8FA7-136FA77E8CC6}"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5"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6"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9"/>
          <p:cNvSpPr/>
          <p:nvPr/>
        </p:nvSpPr>
        <p:spPr>
          <a:xfrm>
            <a:off x="4145040" y="9121680"/>
            <a:ext cx="3165480" cy="47484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765000"/>
                <a:tab algn="l" pos="1530360"/>
                <a:tab algn="l" pos="2295360"/>
                <a:tab algn="l" pos="306072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C51054-65BD-4D09-81F3-F0B30417886B}" type="slidenum">
              <a:rPr b="0" lang="en-GB"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948" name="Text Box 1"/>
          <p:cNvSpPr/>
          <p:nvPr/>
        </p:nvSpPr>
        <p:spPr>
          <a:xfrm>
            <a:off x="4145040" y="9121680"/>
            <a:ext cx="3170160" cy="479520"/>
          </a:xfrm>
          <a:prstGeom prst="rect">
            <a:avLst/>
          </a:prstGeom>
          <a:noFill/>
          <a:ln w="0">
            <a:noFill/>
          </a:ln>
        </p:spPr>
        <p:style>
          <a:lnRef idx="0"/>
          <a:fillRef idx="0"/>
          <a:effectRef idx="0"/>
          <a:fontRef idx="minor"/>
        </p:style>
        <p:txBody>
          <a:bodyPr lIns="95040" rIns="95040" tIns="49320" bIns="49320" anchor="b">
            <a:noAutofit/>
          </a:bodyPr>
          <a:p>
            <a:pPr algn="r">
              <a:lnSpc>
                <a:spcPct val="100000"/>
              </a:lnSpc>
              <a:tabLst>
                <a:tab algn="l" pos="0"/>
                <a:tab algn="l" pos="482760"/>
                <a:tab algn="l" pos="965160"/>
                <a:tab algn="l" pos="1449360"/>
                <a:tab algn="l" pos="1932120"/>
                <a:tab algn="l" pos="2416320"/>
                <a:tab algn="l" pos="2898720"/>
                <a:tab algn="l" pos="3382920"/>
                <a:tab algn="l" pos="3865680"/>
                <a:tab algn="l" pos="4349880"/>
                <a:tab algn="l" pos="4832280"/>
                <a:tab algn="l" pos="5315040"/>
                <a:tab algn="l" pos="5799240"/>
                <a:tab algn="l" pos="6281640"/>
                <a:tab algn="l" pos="6765840"/>
                <a:tab algn="l" pos="7248600"/>
                <a:tab algn="l" pos="7732800"/>
                <a:tab algn="l" pos="8215200"/>
                <a:tab algn="l" pos="8699400"/>
                <a:tab algn="l" pos="9182160"/>
                <a:tab algn="l" pos="9664560"/>
                <a:tab algn="l" pos="10058400"/>
                <a:tab algn="l" pos="10515600"/>
              </a:tabLst>
            </a:pPr>
            <a:fld id="{97F1EC9D-81A0-4DE8-BC7D-552B22C588FB}" type="slidenum">
              <a:rPr b="0" lang="en-GB" sz="1300" spc="-1" strike="noStrike">
                <a:solidFill>
                  <a:srgbClr val="003366"/>
                </a:solidFill>
                <a:latin typeface="Times New Roman"/>
              </a:rPr>
              <a:t>&lt;number&gt;</a:t>
            </a:fld>
            <a:endParaRPr b="0" lang="en-US" sz="1300" spc="-1" strike="noStrike">
              <a:solidFill>
                <a:srgbClr val="ffffff"/>
              </a:solidFill>
              <a:latin typeface="Arial"/>
            </a:endParaRPr>
          </a:p>
        </p:txBody>
      </p:sp>
      <p:sp>
        <p:nvSpPr>
          <p:cNvPr id="949" name="Text Box 2"/>
          <p:cNvSpPr/>
          <p:nvPr/>
        </p:nvSpPr>
        <p:spPr>
          <a:xfrm>
            <a:off x="1219320" y="720720"/>
            <a:ext cx="4876560" cy="3600360"/>
          </a:xfrm>
          <a:prstGeom prst="rect">
            <a:avLst/>
          </a:prstGeom>
          <a:solidFill>
            <a:srgbClr val="ffffff"/>
          </a:solidFill>
          <a:ln w="9360">
            <a:solidFill>
              <a:srgbClr val="000000"/>
            </a:solidFill>
            <a:miter/>
          </a:ln>
        </p:spPr>
        <p:style>
          <a:lnRef idx="0"/>
          <a:fillRef idx="0"/>
          <a:effectRef idx="0"/>
          <a:fontRef idx="minor"/>
        </p:style>
        <p:txBody>
          <a:bodyPr wrap="none" lIns="96840" rIns="96840" tIns="48240" bIns="4824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50" name="PlaceHolder 1"/>
          <p:cNvSpPr>
            <a:spLocks noGrp="1"/>
          </p:cNvSpPr>
          <p:nvPr>
            <p:ph type="body"/>
          </p:nvPr>
        </p:nvSpPr>
        <p:spPr>
          <a:xfrm>
            <a:off x="974520" y="4560840"/>
            <a:ext cx="5360760" cy="4316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6983B-7955-4839-868E-46D2DF432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236232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5" name="PlaceHolder 3"/>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3ED56-39D3-4679-802A-BC07B00DD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8"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9"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0" name="PlaceHolder 5"/>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F799F-3864-4B6B-B039-2397D2D11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3" name="PlaceHolder 3"/>
          <p:cNvSpPr>
            <a:spLocks noGrp="1"/>
          </p:cNvSpPr>
          <p:nvPr>
            <p:ph/>
          </p:nvPr>
        </p:nvSpPr>
        <p:spPr>
          <a:xfrm>
            <a:off x="343728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4" name="PlaceHolder 4"/>
          <p:cNvSpPr>
            <a:spLocks noGrp="1"/>
          </p:cNvSpPr>
          <p:nvPr>
            <p:ph/>
          </p:nvPr>
        </p:nvSpPr>
        <p:spPr>
          <a:xfrm>
            <a:off x="603684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5" name="PlaceHolder 5"/>
          <p:cNvSpPr>
            <a:spLocks noGrp="1"/>
          </p:cNvSpPr>
          <p:nvPr>
            <p:ph/>
          </p:nvPr>
        </p:nvSpPr>
        <p:spPr>
          <a:xfrm>
            <a:off x="83772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6" name="PlaceHolder 6"/>
          <p:cNvSpPr>
            <a:spLocks noGrp="1"/>
          </p:cNvSpPr>
          <p:nvPr>
            <p:ph/>
          </p:nvPr>
        </p:nvSpPr>
        <p:spPr>
          <a:xfrm>
            <a:off x="343728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7" name="PlaceHolder 7"/>
          <p:cNvSpPr>
            <a:spLocks noGrp="1"/>
          </p:cNvSpPr>
          <p:nvPr>
            <p:ph/>
          </p:nvPr>
        </p:nvSpPr>
        <p:spPr>
          <a:xfrm>
            <a:off x="603684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D4A4A-3032-474A-9C49-6F0D29E79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B13FA-E2AE-4537-975B-8A5483981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7720" y="2362320"/>
            <a:ext cx="7688520" cy="37195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FEC7-BFB0-4ACA-A285-6C7BBCDD0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2" name="PlaceHolder 2"/>
          <p:cNvSpPr>
            <a:spLocks noGrp="1"/>
          </p:cNvSpPr>
          <p:nvPr>
            <p:ph/>
          </p:nvPr>
        </p:nvSpPr>
        <p:spPr>
          <a:xfrm>
            <a:off x="837720" y="2362320"/>
            <a:ext cx="76885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8DB32F-7263-4BE9-94A8-7CE01FBB8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4"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5"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5FB34-A221-48D9-91E8-E57B5A1D9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FAAFF1-D76A-4385-BB9E-200B576D3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3040" y="833040"/>
            <a:ext cx="7775640" cy="460872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41084B-74AB-4A89-B9DB-10C447A7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69"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0"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1"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EF892-9F38-42DA-84E9-9623DB242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2362320"/>
            <a:ext cx="7688520" cy="37195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2F66F-2D58-476B-BAB9-B3E9765B5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3"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4"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5" name="PlaceHolder 4"/>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66DC2-8801-49F3-BB0F-D82F6DEE8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77"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8"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9" name="PlaceHolder 4"/>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DAF06-4A3B-4199-BE34-941515A8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1" name="PlaceHolder 2"/>
          <p:cNvSpPr>
            <a:spLocks noGrp="1"/>
          </p:cNvSpPr>
          <p:nvPr>
            <p:ph/>
          </p:nvPr>
        </p:nvSpPr>
        <p:spPr>
          <a:xfrm>
            <a:off x="837720" y="236232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2" name="PlaceHolder 3"/>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6D96C-0715-4BFA-A2F2-58E93F94E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4"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5"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6"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87" name="PlaceHolder 5"/>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FCB6DB-3EF4-4CA9-A28F-A2E82CD21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89" name="PlaceHolder 2"/>
          <p:cNvSpPr>
            <a:spLocks noGrp="1"/>
          </p:cNvSpPr>
          <p:nvPr>
            <p:ph/>
          </p:nvPr>
        </p:nvSpPr>
        <p:spPr>
          <a:xfrm>
            <a:off x="83772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0" name="PlaceHolder 3"/>
          <p:cNvSpPr>
            <a:spLocks noGrp="1"/>
          </p:cNvSpPr>
          <p:nvPr>
            <p:ph/>
          </p:nvPr>
        </p:nvSpPr>
        <p:spPr>
          <a:xfrm>
            <a:off x="343728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1" name="PlaceHolder 4"/>
          <p:cNvSpPr>
            <a:spLocks noGrp="1"/>
          </p:cNvSpPr>
          <p:nvPr>
            <p:ph/>
          </p:nvPr>
        </p:nvSpPr>
        <p:spPr>
          <a:xfrm>
            <a:off x="6036840" y="236232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2" name="PlaceHolder 5"/>
          <p:cNvSpPr>
            <a:spLocks noGrp="1"/>
          </p:cNvSpPr>
          <p:nvPr>
            <p:ph/>
          </p:nvPr>
        </p:nvSpPr>
        <p:spPr>
          <a:xfrm>
            <a:off x="83772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3" name="PlaceHolder 6"/>
          <p:cNvSpPr>
            <a:spLocks noGrp="1"/>
          </p:cNvSpPr>
          <p:nvPr>
            <p:ph/>
          </p:nvPr>
        </p:nvSpPr>
        <p:spPr>
          <a:xfrm>
            <a:off x="343728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4" name="PlaceHolder 7"/>
          <p:cNvSpPr>
            <a:spLocks noGrp="1"/>
          </p:cNvSpPr>
          <p:nvPr>
            <p:ph/>
          </p:nvPr>
        </p:nvSpPr>
        <p:spPr>
          <a:xfrm>
            <a:off x="6036840" y="4305240"/>
            <a:ext cx="247536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CD5FFB-87C3-470D-A39E-9CE15866A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2362320"/>
            <a:ext cx="76885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5C5B7-2193-46A6-992E-BB8A0FF71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18"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8D012-D549-429D-B249-42F6E6F4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F9BE-9D88-448F-9E21-C77EE3EB2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3040" y="833040"/>
            <a:ext cx="7775640" cy="460872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26D6D-8543-465F-BB0D-2ACE7688C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3" name="PlaceHolder 3"/>
          <p:cNvSpPr>
            <a:spLocks noGrp="1"/>
          </p:cNvSpPr>
          <p:nvPr>
            <p:ph/>
          </p:nvPr>
        </p:nvSpPr>
        <p:spPr>
          <a:xfrm>
            <a:off x="477756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4" name="PlaceHolder 4"/>
          <p:cNvSpPr>
            <a:spLocks noGrp="1"/>
          </p:cNvSpPr>
          <p:nvPr>
            <p:ph/>
          </p:nvPr>
        </p:nvSpPr>
        <p:spPr>
          <a:xfrm>
            <a:off x="83772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3E9C8-FF9A-4A37-82AF-B99087899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2362320"/>
            <a:ext cx="3751920" cy="37195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7"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28" name="PlaceHolder 4"/>
          <p:cNvSpPr>
            <a:spLocks noGrp="1"/>
          </p:cNvSpPr>
          <p:nvPr>
            <p:ph/>
          </p:nvPr>
        </p:nvSpPr>
        <p:spPr>
          <a:xfrm>
            <a:off x="4777560" y="430524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6A51-465D-44B7-B882-3FEE34D97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1" name="PlaceHolder 3"/>
          <p:cNvSpPr>
            <a:spLocks noGrp="1"/>
          </p:cNvSpPr>
          <p:nvPr>
            <p:ph/>
          </p:nvPr>
        </p:nvSpPr>
        <p:spPr>
          <a:xfrm>
            <a:off x="4777560" y="2362320"/>
            <a:ext cx="37519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32" name="PlaceHolder 4"/>
          <p:cNvSpPr>
            <a:spLocks noGrp="1"/>
          </p:cNvSpPr>
          <p:nvPr>
            <p:ph/>
          </p:nvPr>
        </p:nvSpPr>
        <p:spPr>
          <a:xfrm>
            <a:off x="837720" y="4305240"/>
            <a:ext cx="7688520" cy="177408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7037A-D102-4E9F-9DD8-DF0B85111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
          <p:cNvGrpSpPr/>
          <p:nvPr/>
        </p:nvGrpSpPr>
        <p:grpSpPr>
          <a:xfrm>
            <a:off x="0" y="0"/>
            <a:ext cx="7617960" cy="6856560"/>
            <a:chOff x="0" y="0"/>
            <a:chExt cx="7617960" cy="6856560"/>
          </a:xfrm>
        </p:grpSpPr>
        <p:grpSp>
          <p:nvGrpSpPr>
            <p:cNvPr id="1" name="Group 2"/>
            <p:cNvGrpSpPr/>
            <p:nvPr/>
          </p:nvGrpSpPr>
          <p:grpSpPr>
            <a:xfrm>
              <a:off x="0" y="0"/>
              <a:ext cx="3198600" cy="6856560"/>
              <a:chOff x="0" y="0"/>
              <a:chExt cx="3198600" cy="6856560"/>
            </a:xfrm>
          </p:grpSpPr>
          <p:sp>
            <p:nvSpPr>
              <p:cNvPr id="2" name="Rectangle 3"/>
              <p:cNvSpPr/>
              <p:nvPr/>
            </p:nvSpPr>
            <p:spPr>
              <a:xfrm>
                <a:off x="0" y="0"/>
                <a:ext cx="761760" cy="68565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AutoShape 4"/>
              <p:cNvSpPr/>
              <p:nvPr/>
            </p:nvSpPr>
            <p:spPr>
              <a:xfrm>
                <a:off x="456840" y="0"/>
                <a:ext cx="2741760" cy="1166400"/>
              </a:xfrm>
              <a:custGeom>
                <a:avLst/>
                <a:gdLst>
                  <a:gd name="textAreaLeft" fmla="*/ 0 w 2741760"/>
                  <a:gd name="textAreaRight" fmla="*/ 2741760 w 2741760"/>
                  <a:gd name="textAreaTop" fmla="*/ 0 h 1166400"/>
                  <a:gd name="textAreaBottom" fmla="*/ 1166760 h 116640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4" name="Group 5"/>
            <p:cNvGrpSpPr/>
            <p:nvPr/>
          </p:nvGrpSpPr>
          <p:grpSpPr>
            <a:xfrm>
              <a:off x="228240" y="1981080"/>
              <a:ext cx="7389720" cy="317520"/>
              <a:chOff x="228240" y="1981080"/>
              <a:chExt cx="7389720" cy="317520"/>
            </a:xfrm>
          </p:grpSpPr>
          <p:sp>
            <p:nvSpPr>
              <p:cNvPr id="5" name="AutoShape 6"/>
              <p:cNvSpPr/>
              <p:nvPr/>
            </p:nvSpPr>
            <p:spPr>
              <a:xfrm>
                <a:off x="609120" y="1981080"/>
                <a:ext cx="7008840" cy="3157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 name="AutoShape 7"/>
              <p:cNvSpPr/>
              <p:nvPr/>
            </p:nvSpPr>
            <p:spPr>
              <a:xfrm flipH="1">
                <a:off x="227880" y="1981080"/>
                <a:ext cx="393480" cy="3175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sp>
        <p:nvSpPr>
          <p:cNvPr id="7"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7720" y="2362320"/>
            <a:ext cx="7688520" cy="3719520"/>
          </a:xfrm>
          <a:prstGeom prst="rect">
            <a:avLst/>
          </a:prstGeom>
          <a:noFill/>
          <a:ln w="0">
            <a:noFill/>
          </a:ln>
        </p:spPr>
        <p:txBody>
          <a:bodyPr lIns="90000" rIns="90000" tIns="46800" bIns="46800" anchor="t">
            <a:normAutofit/>
          </a:bodyPr>
          <a:p>
            <a:pPr marL="338040" indent="-33804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38360" indent="-281160">
              <a:spcBef>
                <a:spcPts val="700"/>
              </a:spcBef>
              <a:buClr>
                <a:srgbClr val="003366"/>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7920" y="6248160"/>
            <a:ext cx="2125800" cy="4698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8/12/04</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1320" y="6199200"/>
            <a:ext cx="2892240" cy="51912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ea typeface="DejaVu Sans"/>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ea typeface="DejaVu Sans"/>
              </a:rPr>
              <a:t>Security+ Guide to Network Security Fundamentals, 2e</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4240" y="6207120"/>
            <a:ext cx="582480" cy="519120"/>
          </a:xfrm>
          <a:prstGeom prst="rect">
            <a:avLst/>
          </a:prstGeom>
          <a:noFill/>
          <a:ln w="0">
            <a:noFill/>
          </a:ln>
        </p:spPr>
        <p:txBody>
          <a:bodyPr lIns="90000" rIns="90000" tIns="46800" bIns="46800" anchor="b" anchorCtr="1">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2600" spc="-1" strike="noStrike">
                <a:solidFill>
                  <a:srgbClr val="ffffff"/>
                </a:solidFill>
                <a:latin typeface="Times New Roman"/>
                <a:ea typeface="DejaVu Sans"/>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23D600-30C1-4ED6-9678-43B7C7A3067D}" type="slidenum">
              <a:rPr b="1" lang="en-GB" sz="2600" spc="-1" strike="noStrike">
                <a:solidFill>
                  <a:srgbClr val="ffffff"/>
                </a:solidFill>
                <a:latin typeface="Times New Roman"/>
                <a:ea typeface="DejaVu Sans"/>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1"/>
          <p:cNvGrpSpPr/>
          <p:nvPr/>
        </p:nvGrpSpPr>
        <p:grpSpPr>
          <a:xfrm>
            <a:off x="0" y="0"/>
            <a:ext cx="5865480" cy="6856560"/>
            <a:chOff x="0" y="0"/>
            <a:chExt cx="5865480" cy="6856560"/>
          </a:xfrm>
        </p:grpSpPr>
        <p:sp>
          <p:nvSpPr>
            <p:cNvPr id="49" name="Rectangle 2"/>
            <p:cNvSpPr/>
            <p:nvPr/>
          </p:nvSpPr>
          <p:spPr>
            <a:xfrm>
              <a:off x="0" y="0"/>
              <a:ext cx="4570560" cy="685656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AutoShape 3"/>
            <p:cNvSpPr/>
            <p:nvPr/>
          </p:nvSpPr>
          <p:spPr>
            <a:xfrm>
              <a:off x="685440" y="990360"/>
              <a:ext cx="5180040" cy="190404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grpSp>
        <p:nvGrpSpPr>
          <p:cNvPr id="51" name="Group 4"/>
          <p:cNvGrpSpPr/>
          <p:nvPr/>
        </p:nvGrpSpPr>
        <p:grpSpPr>
          <a:xfrm>
            <a:off x="3632040" y="4889520"/>
            <a:ext cx="4875120" cy="317520"/>
            <a:chOff x="3632040" y="4889520"/>
            <a:chExt cx="4875120" cy="317520"/>
          </a:xfrm>
        </p:grpSpPr>
        <p:sp>
          <p:nvSpPr>
            <p:cNvPr id="52" name="AutoShape 5"/>
            <p:cNvSpPr/>
            <p:nvPr/>
          </p:nvSpPr>
          <p:spPr>
            <a:xfrm flipH="1">
              <a:off x="3632040" y="4889520"/>
              <a:ext cx="4624560" cy="31608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 name="AutoShape 6"/>
            <p:cNvSpPr/>
            <p:nvPr/>
          </p:nvSpPr>
          <p:spPr>
            <a:xfrm>
              <a:off x="8247240" y="4889520"/>
              <a:ext cx="259920" cy="3175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grpSp>
      <p:sp>
        <p:nvSpPr>
          <p:cNvPr id="54" name="PlaceHolder 1"/>
          <p:cNvSpPr>
            <a:spLocks noGrp="1"/>
          </p:cNvSpPr>
          <p:nvPr>
            <p:ph type="title"/>
          </p:nvPr>
        </p:nvSpPr>
        <p:spPr>
          <a:xfrm>
            <a:off x="833040" y="833040"/>
            <a:ext cx="7775640" cy="99396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7720" y="2362320"/>
            <a:ext cx="7688520" cy="3719520"/>
          </a:xfrm>
          <a:prstGeom prst="rect">
            <a:avLst/>
          </a:prstGeom>
          <a:noFill/>
          <a:ln w="0">
            <a:noFill/>
          </a:ln>
        </p:spPr>
        <p:txBody>
          <a:bodyPr lIns="90000" rIns="90000" tIns="46800" bIns="46800" anchor="t">
            <a:normAutofit/>
          </a:bodyPr>
          <a:p>
            <a:pPr marL="338040" indent="-33804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38360" indent="-281160">
              <a:spcBef>
                <a:spcPts val="700"/>
              </a:spcBef>
              <a:buClr>
                <a:srgbClr val="003366"/>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0000"/>
              </a:buClr>
              <a:buSzPct val="6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7920" y="6248160"/>
            <a:ext cx="2125800" cy="4698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ffffff"/>
                </a:solidFill>
                <a:latin typeface="Times New Roman"/>
                <a:ea typeface="DejaVu San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ffffff"/>
                </a:solidFill>
                <a:latin typeface="Times New Roman"/>
                <a:ea typeface="DejaVu Sans"/>
              </a:rPr>
              <a:t>8/12/04</a:t>
            </a:r>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1320" y="6199200"/>
            <a:ext cx="2892240" cy="5191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3366"/>
                </a:solidFill>
                <a:latin typeface="Times New Roman"/>
                <a:ea typeface="DejaVu Sans"/>
              </a:defRPr>
            </a:lvl1pPr>
          </a:lstStyle>
          <a:p>
            <a:pPr indent="0" algn="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imes New Roman"/>
                <a:ea typeface="DejaVu Sans"/>
              </a:rPr>
              <a:t>Security+ Guide to Network Security Fundamentals, 2e</a:t>
            </a:r>
            <a:endParaRPr b="0" lang="en-US" sz="1400" spc="-1" strike="noStrike">
              <a:solidFill>
                <a:srgbClr val="000000"/>
              </a:solidFill>
              <a:latin typeface="Times New Roman"/>
            </a:endParaRPr>
          </a:p>
        </p:txBody>
      </p:sp>
      <p:sp>
        <p:nvSpPr>
          <p:cNvPr id="58" name="PlaceHolder 5"/>
          <p:cNvSpPr>
            <a:spLocks noGrp="1"/>
          </p:cNvSpPr>
          <p:nvPr>
            <p:ph type="sldNum" idx="6"/>
          </p:nvPr>
        </p:nvSpPr>
        <p:spPr>
          <a:xfrm>
            <a:off x="76320" y="6208560"/>
            <a:ext cx="582480" cy="524160"/>
          </a:xfrm>
          <a:prstGeom prst="rect">
            <a:avLst/>
          </a:prstGeom>
          <a:noFill/>
          <a:ln w="0">
            <a:noFill/>
          </a:ln>
        </p:spPr>
        <p:txBody>
          <a:bodyPr lIns="90000" rIns="90000" tIns="46800" bIns="4680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GB" sz="2600" spc="-1" strike="noStrike">
                <a:solidFill>
                  <a:srgbClr val="ffffff"/>
                </a:solidFill>
                <a:latin typeface="Times New Roman"/>
                <a:ea typeface="DejaVu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ACAB8-8EBE-446F-9425-31A136AD5982}" type="slidenum">
              <a:rPr b="1" lang="en-GB" sz="2600" spc="-1" strike="noStrike">
                <a:solidFill>
                  <a:srgbClr val="ffffff"/>
                </a:solidFill>
                <a:latin typeface="Times New Roman"/>
                <a:ea typeface="DejaVu Sans"/>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1"/>
          <p:cNvSpPr/>
          <p:nvPr/>
        </p:nvSpPr>
        <p:spPr>
          <a:xfrm>
            <a:off x="776160" y="1479600"/>
            <a:ext cx="74376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3366"/>
                </a:solidFill>
                <a:latin typeface="Arial"/>
              </a:rPr>
              <a:t>Hands-On Cryptography</a:t>
            </a:r>
            <a:endParaRPr b="0" lang="en-US" sz="3600" spc="-1" strike="noStrike">
              <a:solidFill>
                <a:srgbClr val="ffffff"/>
              </a:solidFill>
              <a:latin typeface="Arial"/>
            </a:endParaRPr>
          </a:p>
        </p:txBody>
      </p:sp>
      <p:sp>
        <p:nvSpPr>
          <p:cNvPr id="106" name="Text Box 2"/>
          <p:cNvSpPr/>
          <p:nvPr/>
        </p:nvSpPr>
        <p:spPr>
          <a:xfrm>
            <a:off x="1371600" y="2895480"/>
            <a:ext cx="6400800" cy="1447920"/>
          </a:xfrm>
          <a:prstGeom prst="rect">
            <a:avLst/>
          </a:prstGeom>
          <a:noFill/>
          <a:ln w="0">
            <a:noFill/>
          </a:ln>
        </p:spPr>
        <p:style>
          <a:lnRef idx="0"/>
          <a:fillRef idx="0"/>
          <a:effectRef idx="0"/>
          <a:fontRef idx="minor"/>
        </p:style>
        <p:txBody>
          <a:bodyPr lIns="90000" rIns="90000" tIns="46800" bIns="46800" anchor="b">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600" spc="-1" strike="noStrike">
                <a:solidFill>
                  <a:srgbClr val="0000cc"/>
                </a:solidFill>
                <a:latin typeface="Arial"/>
              </a:rPr>
              <a:t>Casey W. O</a:t>
            </a:r>
            <a:r>
              <a:rPr b="0" lang="ja-JP" sz="2600" spc="-1" strike="noStrike">
                <a:solidFill>
                  <a:srgbClr val="0000cc"/>
                </a:solidFill>
                <a:latin typeface="Arial"/>
              </a:rPr>
              <a:t>’</a:t>
            </a:r>
            <a:r>
              <a:rPr b="0" lang="en-GB" sz="2600" spc="-1" strike="noStrike">
                <a:solidFill>
                  <a:srgbClr val="0000cc"/>
                </a:solidFill>
                <a:latin typeface="Arial"/>
              </a:rPr>
              <a:t>Brien</a:t>
            </a:r>
            <a:endParaRPr b="0"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F4E880-0D4C-4D80-A18E-3739D788E98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uthentication</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Verify the send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Trust the sender is whom they claim to b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Asymmetric cryptography and hashing</a:t>
            </a:r>
            <a:endParaRPr b="0" lang="en-US" sz="28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40010A-B7C3-477C-8F84-C72E132E13C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0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is example, w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re going to add another row across the top, with number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5_Numbered_Transposition_Table</a:t>
            </a:r>
            <a:endParaRPr b="0" lang="en-US" sz="2800" spc="-1" strike="noStrike">
              <a:solidFill>
                <a:srgbClr val="ffffff"/>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A48F01-1715-4E40-A3C1-8A0F5082C05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0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Use the numbers to identify the order to write the columns for the new ciphertex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OREEISYHBTWKPAHLAHESEELHEPTSTHAAFENMCMRAITMH</a:t>
            </a:r>
            <a:endParaRPr b="0" lang="en-US" sz="1800" spc="-1" strike="noStrike">
              <a:solidFill>
                <a:srgbClr val="ffffff"/>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7064A5-46A9-4A0A-979E-A6DEF4F048F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ill limited to English characters, and linguistic patterns</a:t>
            </a:r>
            <a:endParaRPr b="0" lang="en-US" sz="2800" spc="-1" strike="noStrike">
              <a:solidFill>
                <a:srgbClr val="ffffff"/>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EBD929-4731-4201-973E-DB2CC234D31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We can greatly increase the level of difficulty of breaking the ciphertext in the previous example by performing another round of transposition, complete w/numbered columns</a:t>
            </a:r>
            <a:endParaRPr b="0" lang="en-US" sz="2800" spc="-1" strike="noStrike">
              <a:solidFill>
                <a:srgbClr val="ffffff"/>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A28F65-ED52-429B-B11E-C64A90DC7EF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1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take the previous exampl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ending ciphertext and plug it into a Numbered 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6_Numbered_Transposition_Table_2</a:t>
            </a:r>
            <a:endParaRPr b="0" lang="en-US" sz="28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C72805-A7AA-40A7-AFCE-EA994F0DA12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1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new ciphertext, after a second round of transposition, becomes:</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RBLLHCHYAESNTEWHEAROHHETMMSPSTEIETAHAMIKEPFA</a:t>
            </a:r>
            <a:endParaRPr b="0" lang="en-US" sz="18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EEEA2-9E21-480F-9D8F-6CB3992E513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a:t>
            </a:r>
            <a:endParaRPr b="0" lang="en-US" sz="3600" spc="-1" strike="noStrike">
              <a:solidFill>
                <a:srgbClr val="ffffff"/>
              </a:solidFill>
              <a:latin typeface="Arial"/>
            </a:endParaRPr>
          </a:p>
        </p:txBody>
      </p:sp>
      <p:sp>
        <p:nvSpPr>
          <p:cNvPr id="42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ombine substitution and transposi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math4163752</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I love this applied cryptography workshop</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key in this example means to take the plaintext message and encrypt it using the Vigenere cipher w/a key(word) of </a:t>
            </a:r>
            <a:r>
              <a:rPr b="0" i="1" lang="en-GB" sz="2800" spc="-1" strike="noStrike">
                <a:solidFill>
                  <a:srgbClr val="003366"/>
                </a:solidFill>
                <a:latin typeface="Arial"/>
                <a:ea typeface="ＭＳ Ｐゴシック"/>
              </a:rPr>
              <a:t>math</a:t>
            </a:r>
            <a:endParaRPr b="0" lang="en-US" sz="2800" spc="-1" strike="noStrike">
              <a:solidFill>
                <a:srgbClr val="ffffff"/>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F4D784-DEFD-42DA-90C8-9282F1D765A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encryption is done, then create a Numbered Transposition Table with 7 columns and order them as 4163752, performing a transposition in that order</a:t>
            </a:r>
            <a:endParaRPr b="0" lang="en-US" sz="28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D3C64E-23CC-4254-A7F1-8CED70F0580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2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and Numbered 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2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7_Substitution_and_Numbered_Transposition_Table</a:t>
            </a:r>
            <a:endParaRPr b="0" lang="en-US" sz="28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3B2FD1-2119-4CAE-B6A7-5A2FCACC723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a:t>
            </a:r>
            <a:endParaRPr b="0" lang="en-US" sz="3600" spc="-1" strike="noStrike">
              <a:solidFill>
                <a:srgbClr val="ffffff"/>
              </a:solidFill>
              <a:latin typeface="Arial"/>
            </a:endParaRPr>
          </a:p>
        </p:txBody>
      </p:sp>
      <p:sp>
        <p:nvSpPr>
          <p:cNvPr id="43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s stated earlier, the resultant ciphertext should have </a:t>
            </a:r>
            <a:r>
              <a:rPr b="0" i="1" lang="en-GB" sz="2800" spc="-1" strike="noStrike">
                <a:solidFill>
                  <a:srgbClr val="003366"/>
                </a:solidFill>
                <a:latin typeface="Arial"/>
              </a:rPr>
              <a:t>zero</a:t>
            </a:r>
            <a:r>
              <a:rPr b="0" lang="en-GB" sz="2800" spc="-1" strike="noStrike">
                <a:solidFill>
                  <a:srgbClr val="003366"/>
                </a:solidFill>
                <a:latin typeface="Arial"/>
              </a:rPr>
              <a:t> resemblance to the plaintex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How can we achieve this goal? How do we remove any of the frequency and statistical relationship between our ciphertext and our plaintex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onfusion and Diffusion</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9B6564-D75F-4CD7-8F5E-41CAC4E8CBF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Integrity</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Trust the information has not been alt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hashing and digital signatures</a:t>
            </a:r>
            <a:endParaRPr b="0" lang="en-US" sz="2800" spc="-1" strike="noStrike">
              <a:solidFill>
                <a:srgbClr val="ffffff"/>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CF6787-6534-4E25-BE3B-7B7D04E1C5A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3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order to have </a:t>
            </a:r>
            <a:r>
              <a:rPr b="1" lang="en-GB" sz="2800" spc="-1" strike="noStrike">
                <a:solidFill>
                  <a:srgbClr val="003366"/>
                </a:solidFill>
                <a:latin typeface="Arial"/>
              </a:rPr>
              <a:t>confusion</a:t>
            </a:r>
            <a:r>
              <a:rPr b="0" lang="en-GB" sz="2800" spc="-1" strike="noStrike">
                <a:solidFill>
                  <a:srgbClr val="003366"/>
                </a:solidFill>
                <a:latin typeface="Arial"/>
              </a:rPr>
              <a:t>, we must have a method of removing any association between the key and the ciphertex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 matter how long a cryptanalyst has, there should be no clues of any sort in the ciphertext that can be used to determine the key or key length</a:t>
            </a:r>
            <a:endParaRPr b="0" lang="en-US" sz="2800" spc="-1" strike="noStrike">
              <a:solidFill>
                <a:srgbClr val="ffffff"/>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2F63F-44A4-430B-807C-DA54C4FE2DD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3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nfusion and Diffusion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3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order to have </a:t>
            </a:r>
            <a:r>
              <a:rPr b="1" lang="en-GB" sz="2800" spc="-1" strike="noStrike">
                <a:solidFill>
                  <a:srgbClr val="003366"/>
                </a:solidFill>
                <a:latin typeface="Arial"/>
              </a:rPr>
              <a:t>diffusion</a:t>
            </a:r>
            <a:r>
              <a:rPr b="0" lang="en-GB" sz="2800" spc="-1" strike="noStrike">
                <a:solidFill>
                  <a:srgbClr val="003366"/>
                </a:solidFill>
                <a:latin typeface="Arial"/>
              </a:rPr>
              <a:t>, we must have a method of removing any association between the ciphertext and the plaintext</a:t>
            </a:r>
            <a:endParaRPr b="0" lang="en-US" sz="2800" spc="-1" strike="noStrike">
              <a:solidFill>
                <a:srgbClr val="ffffff"/>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856A30-1B41-4A9E-A79B-A1FE4A742F8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Diffusion Cipher</a:t>
            </a:r>
            <a:endParaRPr b="0" lang="en-US" sz="3600" spc="-1" strike="noStrike">
              <a:solidFill>
                <a:srgbClr val="ffffff"/>
              </a:solidFill>
              <a:latin typeface="Arial"/>
            </a:endParaRPr>
          </a:p>
        </p:txBody>
      </p:sp>
      <p:sp>
        <p:nvSpPr>
          <p:cNvPr id="44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olybius cipher</a:t>
            </a:r>
            <a:endParaRPr b="0" lang="en-US" sz="28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7D0D5D-9EE9-4F73-AE65-61FB1CD39A2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a:t>
            </a:r>
            <a:endParaRPr b="0" lang="en-US" sz="3600" spc="-1" strike="noStrike">
              <a:solidFill>
                <a:srgbClr val="ffffff"/>
              </a:solidFill>
              <a:latin typeface="Arial"/>
            </a:endParaRPr>
          </a:p>
        </p:txBody>
      </p:sp>
      <p:sp>
        <p:nvSpPr>
          <p:cNvPr id="44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lybius was a citizen of ancient Greece (approximately 200-120 B.C.)</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 was the first known use of a diffusion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8_Polybius_Cipher</a:t>
            </a:r>
            <a:endParaRPr b="0" lang="en-US" sz="2800" spc="-1" strike="noStrike">
              <a:solidFill>
                <a:srgbClr val="ffffff"/>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3D4442-9A19-4710-95D6-9A89C4204DD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4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You can see the letters of the English alphabet in a 5-by-5 grid</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letters I/J are in the same place (leaving it up to the recipient to recognize the correct letter based on the context of the message)</a:t>
            </a:r>
            <a:endParaRPr b="0" lang="en-US" sz="28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531188-7794-4C0D-B207-F972BB66408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4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hen a letter is to be converted to a number, you first read the vertical number and then find the corresponding horizontal numb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us, every letter will have a 2-digit number</a:t>
            </a:r>
            <a:endParaRPr b="0" lang="en-US" sz="2800" spc="-1" strike="noStrike">
              <a:solidFill>
                <a:srgbClr val="ffffff"/>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9682CE-CA89-4AA7-98AD-DAB34B06BB5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ncrypt the plaintext: </a:t>
            </a:r>
            <a:r>
              <a:rPr b="0" lang="en-GB" sz="1800" spc="-1" strike="noStrike">
                <a:solidFill>
                  <a:srgbClr val="003366"/>
                </a:solidFill>
                <a:latin typeface="Arial"/>
                <a:ea typeface="ＭＳ Ｐゴシック"/>
              </a:rPr>
              <a:t>CIPHE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13, I=24, P=35, H=23, E=15, R=4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c=132435231542</a:t>
            </a:r>
            <a:endParaRPr b="0" lang="en-US" sz="1800" spc="-1" strike="noStrike">
              <a:solidFill>
                <a:srgbClr val="ffffff"/>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Text Box 1"/>
          <p:cNvSpPr/>
          <p:nvPr/>
        </p:nvSpPr>
        <p:spPr>
          <a:xfrm>
            <a:off x="0" y="6242040"/>
            <a:ext cx="749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2454D5-33F3-4CBA-960E-C6997B7FA1A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previous example can be made stronger by either creating a keyphrase instead of a numerical key, or a single key word</a:t>
            </a:r>
            <a:endParaRPr b="0" lang="en-US" sz="28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AFC276-8BBB-41EE-926C-0644190FAAA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5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5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When in the course of human events</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arting in position 11, spell out the keyphras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However, you can use each letter only once, so when there is a repeat, skip that letter</a:t>
            </a:r>
            <a:endParaRPr b="0" lang="en-US" sz="28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E0679-599B-4E3D-9E00-BBB0A414868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you have used all the letters in the keyphrase, the rest of the alphabet is put in place, often with the letters Y and Z on the last square of the grid</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CCA81-2E7A-4BC7-A278-1BA2CA47259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3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9"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Nonrepudiation</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Ensure that the sender cannot deny a message was deliv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hashing and digital signatures</a:t>
            </a:r>
            <a:endParaRPr b="0" lang="en-US" sz="28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35E317-F24D-4E34-97BC-C76810A056C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9_Polybius_Cipher_with_Keyphrase</a:t>
            </a:r>
            <a:endParaRPr b="0" lang="en-US" sz="28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975307-DDF0-4594-8632-55E236AA47B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6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bius Diffus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6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w encrypt the plaintext: </a:t>
            </a:r>
            <a:r>
              <a:rPr b="0" lang="en-GB" sz="1800" spc="-1" strike="noStrike">
                <a:solidFill>
                  <a:srgbClr val="003366"/>
                </a:solidFill>
                <a:latin typeface="Arial"/>
                <a:ea typeface="ＭＳ Ｐゴシック"/>
              </a:rPr>
              <a:t>CIPHE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22, I=15, P=52, H=12, E=13, R=25</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c=221552121325</a:t>
            </a:r>
            <a:endParaRPr b="0" lang="en-US" sz="1800" spc="-1" strike="noStrike">
              <a:solidFill>
                <a:srgbClr val="ffffff"/>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535BE4-5BB7-4E28-B65C-5AAE621407A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echanical Encryption Machines</a:t>
            </a:r>
            <a:endParaRPr b="0" lang="en-US" sz="3600" spc="-1" strike="noStrike">
              <a:solidFill>
                <a:srgbClr val="ffffff"/>
              </a:solidFill>
              <a:latin typeface="Arial"/>
            </a:endParaRPr>
          </a:p>
        </p:txBody>
      </p:sp>
      <p:sp>
        <p:nvSpPr>
          <p:cNvPr id="47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learly adding multiple layers of encryption is the significant factor in creating a secure mess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owever, to do so by hand is monotonous, time consuming, and error-prone</a:t>
            </a:r>
            <a:endParaRPr b="0" lang="en-US" sz="2800" spc="-1" strike="noStrike">
              <a:solidFill>
                <a:srgbClr val="ffffff"/>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0A0CDF-8477-4D46-965E-77BBEA6DDF7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echanical Encryption Machine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7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o perform the same simple tasks repeatedly without making a mistake is difficul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hat is good at performing that sort of thing?</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a:t>
            </a:r>
            <a:r>
              <a:rPr b="0" i="1" lang="en-GB" sz="2800" spc="-1" strike="noStrike">
                <a:solidFill>
                  <a:srgbClr val="003366"/>
                </a:solidFill>
                <a:latin typeface="Arial"/>
                <a:ea typeface="ＭＳ Ｐゴシック"/>
              </a:rPr>
              <a:t>machine</a:t>
            </a:r>
            <a:endParaRPr b="0" lang="en-US" sz="2800" spc="-1" strike="noStrike">
              <a:solidFill>
                <a:srgbClr val="ffffff"/>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52C50-F402-49B1-B07B-0B3B8E2258D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7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or Machines</a:t>
            </a:r>
            <a:endParaRPr b="0" lang="en-US" sz="3600" spc="-1" strike="noStrike">
              <a:solidFill>
                <a:srgbClr val="ffffff"/>
              </a:solidFill>
              <a:latin typeface="Arial"/>
            </a:endParaRPr>
          </a:p>
        </p:txBody>
      </p:sp>
      <p:sp>
        <p:nvSpPr>
          <p:cNvPr id="477" name="Text Box 3"/>
          <p:cNvSpPr/>
          <p:nvPr/>
        </p:nvSpPr>
        <p:spPr>
          <a:xfrm>
            <a:off x="838080" y="2362320"/>
            <a:ext cx="510552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a:t>
            </a:r>
            <a:r>
              <a:rPr b="1" lang="en-GB" sz="2800" spc="-1" strike="noStrike">
                <a:solidFill>
                  <a:srgbClr val="003366"/>
                </a:solidFill>
                <a:latin typeface="Arial"/>
              </a:rPr>
              <a:t>Enigma machine</a:t>
            </a:r>
            <a:r>
              <a:rPr b="0" lang="en-GB" sz="2800" spc="-1" strike="noStrike">
                <a:solidFill>
                  <a:srgbClr val="003366"/>
                </a:solidFill>
                <a:latin typeface="Arial"/>
              </a:rPr>
              <a:t> is perhaps the most famous of all cryptography machine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More than 200,000 machines were used in WWII</a:t>
            </a:r>
            <a:endParaRPr b="0" lang="en-US" sz="2800" spc="-1" strike="noStrike">
              <a:solidFill>
                <a:srgbClr val="ffffff"/>
              </a:solidFill>
              <a:latin typeface="Arial"/>
            </a:endParaRPr>
          </a:p>
        </p:txBody>
      </p:sp>
      <p:pic>
        <p:nvPicPr>
          <p:cNvPr id="478" name="Picture 5" descr=""/>
          <p:cNvPicPr/>
          <p:nvPr/>
        </p:nvPicPr>
        <p:blipFill>
          <a:blip r:embed="rId1"/>
          <a:stretch/>
        </p:blipFill>
        <p:spPr>
          <a:xfrm>
            <a:off x="6095880" y="2990880"/>
            <a:ext cx="2286000" cy="272412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C396F-5AEF-4A93-8F87-93AC46E98A6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a:t>
            </a:r>
            <a:endParaRPr b="0" lang="en-US" sz="3600" spc="-1" strike="noStrike">
              <a:solidFill>
                <a:srgbClr val="ffffff"/>
              </a:solidFill>
              <a:latin typeface="Arial"/>
            </a:endParaRPr>
          </a:p>
        </p:txBody>
      </p:sp>
      <p:sp>
        <p:nvSpPr>
          <p:cNvPr id="48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Was a cipher machine used by the German army in WWII to encrypt and decrypt message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Over the years there were many variants - the most widespread was the standard Enigma machine "Enigma I", which was used by the Wehrmacht</a:t>
            </a:r>
            <a:endParaRPr b="0" lang="en-US" sz="2800" spc="-1" strike="noStrike">
              <a:solidFill>
                <a:srgbClr val="ffffff"/>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EF2FD-E116-4AA8-AF70-BC5A0240D18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84" name="Text Box 3"/>
          <p:cNvSpPr/>
          <p:nvPr/>
        </p:nvSpPr>
        <p:spPr>
          <a:xfrm>
            <a:off x="838080" y="2362320"/>
            <a:ext cx="335304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side the machine are 3 (or more) independent spinning rotors w/26 electrical contacts on either side</a:t>
            </a:r>
            <a:endParaRPr b="0" lang="en-US" sz="2800" spc="-1" strike="noStrike">
              <a:solidFill>
                <a:srgbClr val="ffffff"/>
              </a:solidFill>
              <a:latin typeface="Arial"/>
            </a:endParaRPr>
          </a:p>
        </p:txBody>
      </p:sp>
      <p:pic>
        <p:nvPicPr>
          <p:cNvPr id="485" name="Picture 4" descr="enigma-installed-rotors-100.jpg"/>
          <p:cNvPicPr/>
          <p:nvPr/>
        </p:nvPicPr>
        <p:blipFill>
          <a:blip r:embed="rId1"/>
          <a:stretch/>
        </p:blipFill>
        <p:spPr>
          <a:xfrm>
            <a:off x="4419720" y="2743200"/>
            <a:ext cx="4243320" cy="318132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277C48-BD8D-4B19-9ADB-8611B49BFC6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8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8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One rotor contains 26 possible pins and electrical connections that represent the 26 letters of the alphabet</a:t>
            </a:r>
            <a:endParaRPr b="0" lang="en-US" sz="2800" spc="-1" strike="noStrike">
              <a:solidFill>
                <a:srgbClr val="ffffff"/>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0BCFE-96EB-41AE-9DB2-A348ED2B66F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9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ith a single rotor, the net result would be no different than a single Caesar shift, or a single transposition cipher – as there are only 26 positions on either side of the rotor, allowing for only 26 possibilities</a:t>
            </a:r>
            <a:endParaRPr b="0" lang="en-US" sz="2800" spc="-1" strike="noStrike">
              <a:solidFill>
                <a:srgbClr val="ffffff"/>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92E416-5237-4931-A1AD-D565C376551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49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lines in the diagram on the next slide represent the logical electrical signal as it passes through the machin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7D015-1163-4438-A3AB-54727C14EF4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4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ccess Control</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Restrict availability to inform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Symmetric and Asymmetric cryptography</a:t>
            </a:r>
            <a:endParaRPr b="0" lang="en-US" sz="2800" spc="-1" strike="noStrike">
              <a:solidFill>
                <a:srgbClr val="ffffff"/>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ACFD5-A641-48B4-88AB-D294B962EE5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pic>
        <p:nvPicPr>
          <p:cNvPr id="497" name="Picture 3" descr=""/>
          <p:cNvPicPr/>
          <p:nvPr/>
        </p:nvPicPr>
        <p:blipFill>
          <a:blip r:embed="rId1"/>
          <a:stretch/>
        </p:blipFill>
        <p:spPr>
          <a:xfrm>
            <a:off x="1219320" y="2438280"/>
            <a:ext cx="7453080" cy="419112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7384CF-F0BD-4E20-96C6-09A72D92198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9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fter pressing the letter H, there would be a change in the setting of the machin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rotor on the far right had rotated 1 position, so once the letter H had been pressed, and the ciphertext printed, the rotor would move</a:t>
            </a:r>
            <a:endParaRPr b="0" lang="en-US" sz="2800" spc="-1" strike="noStrike">
              <a:solidFill>
                <a:srgbClr val="ffffff"/>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AE0A1C-6689-4725-8815-DAF798DB350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Notice the settings of the 3 rotors on the right are slightly different than the settings of the 3 rotors on the lef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essence, every time a letter was entered, the far right rotor rotated 1 position</a:t>
            </a:r>
            <a:endParaRPr b="0" lang="en-US" sz="2800" spc="-1" strike="noStrike">
              <a:solidFill>
                <a:srgbClr val="ffffff"/>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B038D6-DE4E-45C2-B0FA-76AFE23A286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far right (outside) rotor rotated w/every key strok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enter rotor rotated one position after the far right rotor made a full 26-key cyc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far left rotor rotated one position after the center rotor made a full 26-key cycle</a:t>
            </a:r>
            <a:endParaRPr b="0" lang="en-US" sz="2800" spc="-1" strike="noStrike">
              <a:solidFill>
                <a:srgbClr val="ffffff"/>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103BC5-5CDC-4B47-B698-7B6CDC82BAC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0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0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very single keystroke made the substitution different – which made this a difficult cipher to break</a:t>
            </a:r>
            <a:endParaRPr b="0" lang="en-US" sz="2800" spc="-1" strike="noStrike">
              <a:solidFill>
                <a:srgbClr val="ffffff"/>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85DB2C-0C8F-4D8D-9174-5EBBA8E18AC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1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 the receiving end, the rotors would be set, the daily key would be set, and the Enigma operator would type the ciphertext on the key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machine would output the plaintext just as it was entered</a:t>
            </a:r>
            <a:endParaRPr b="0" lang="en-US" sz="2800" spc="-1" strike="noStrike">
              <a:solidFill>
                <a:srgbClr val="ffffff"/>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0BB83-6B5A-4E5C-B414-F16A69EF98A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pic>
        <p:nvPicPr>
          <p:cNvPr id="515" name="Picture 4" descr="enigma_visualization.png"/>
          <p:cNvPicPr/>
          <p:nvPr/>
        </p:nvPicPr>
        <p:blipFill>
          <a:blip r:embed="rId1"/>
          <a:stretch/>
        </p:blipFill>
        <p:spPr>
          <a:xfrm>
            <a:off x="1143000" y="2362320"/>
            <a:ext cx="7562880" cy="4419360"/>
          </a:xfrm>
          <a:prstGeom prst="rect">
            <a:avLst/>
          </a:prstGeom>
          <a:ln w="0">
            <a:noFill/>
          </a:ln>
        </p:spPr>
      </p:pic>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0589D7-3ACB-4969-A593-B3EF32A555D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1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1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US" sz="2800" spc="-1" strike="noStrike">
                <a:solidFill>
                  <a:srgbClr val="003366"/>
                </a:solidFill>
                <a:latin typeface="Arial"/>
              </a:rPr>
              <a:t>CrypTool demonstration</a:t>
            </a:r>
            <a:r>
              <a:rPr b="0" lang="en-US" sz="2800" spc="-1" strike="noStrike">
                <a:solidFill>
                  <a:srgbClr val="00336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Enigma Visualization</a:t>
            </a:r>
            <a:endParaRPr b="0" lang="en-US" sz="2800" spc="-1" strike="noStrike">
              <a:solidFill>
                <a:srgbClr val="ffffff"/>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EFB1CF9-864B-4A7E-BF6B-9B94E750078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2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setting of the key turned out to be one of the primary downfalls of the machin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The Polish Cipher Bureau broke the pre-war Enigma prototype as early as 1932</a:t>
            </a:r>
            <a:endParaRPr b="0" lang="en-US" sz="2800" spc="-1" strike="noStrike">
              <a:solidFill>
                <a:srgbClr val="ffffff"/>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D2689-854F-4400-AF2C-DBEE2457617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nigma Machin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52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Based on this work, the later Enigma was broken with massive effor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About 7,000 cryptographers in the UK used decryption machines, captured Enigma prototypes, and intercepted daily status reports</a:t>
            </a:r>
            <a:r>
              <a:rPr b="0" lang="en-GB" sz="2800" spc="-1" strike="noStrike">
                <a:solidFill>
                  <a:srgbClr val="003366"/>
                </a:solidFill>
                <a:latin typeface="Arial"/>
                <a:ea typeface="ＭＳ Ｐゴシック"/>
              </a:rPr>
              <a:t> (e.g., weather reports)</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A773B8-1C6D-4632-98E0-8BEDE30D798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4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Encryption cannot protect against: stolen keys, DoS attacks, mistakes (humans can be the weakest links in the syste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Hide the fact that a message was sent (the act of merely sending a message can have interesting ramifications)</a:t>
            </a:r>
            <a:endParaRPr b="0" lang="en-US" sz="2800" spc="-1" strike="noStrike">
              <a:solidFill>
                <a:srgbClr val="ffffff"/>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B2F2D3-C5D0-48ED-85F0-360AC674324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a:t>
            </a:r>
            <a:endParaRPr b="0" lang="en-US" sz="3600" spc="-1" strike="noStrike">
              <a:solidFill>
                <a:srgbClr val="ffffff"/>
              </a:solidFill>
              <a:latin typeface="Arial"/>
            </a:endParaRPr>
          </a:p>
        </p:txBody>
      </p:sp>
      <p:sp>
        <p:nvSpPr>
          <p:cNvPr id="52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odern encryption techniques are more sophisticated than simply exchanging one letter for another, or mixing up the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dern algorithms use math</a:t>
            </a:r>
            <a:endParaRPr b="0" lang="en-US" sz="2800" spc="-1" strike="noStrike">
              <a:solidFill>
                <a:srgbClr val="ffffff"/>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C208D9-8A2B-45B6-A1B7-42AAB5E2435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2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most all the math formulas in cryptography involve letters and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ot letters as in the letters of the plaintext message, but letters that represent a specific valu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the encryption process is referred to as </a:t>
            </a:r>
            <a:r>
              <a:rPr b="0" i="1" lang="en-GB" sz="2800" spc="-1" strike="noStrike">
                <a:solidFill>
                  <a:srgbClr val="003366"/>
                </a:solidFill>
                <a:latin typeface="Arial"/>
                <a:ea typeface="ＭＳ Ｐゴシック"/>
              </a:rPr>
              <a:t>E</a:t>
            </a:r>
            <a:r>
              <a:rPr b="0" lang="en-GB" sz="2800" spc="-1" strike="noStrike">
                <a:solidFill>
                  <a:srgbClr val="003366"/>
                </a:solidFill>
                <a:latin typeface="Arial"/>
                <a:ea typeface="ＭＳ Ｐゴシック"/>
              </a:rPr>
              <a:t>; the decryption process as </a:t>
            </a:r>
            <a:r>
              <a:rPr b="0" i="1" lang="en-GB" sz="2800" spc="-1" strike="noStrike">
                <a:solidFill>
                  <a:srgbClr val="003366"/>
                </a:solidFill>
                <a:latin typeface="Arial"/>
                <a:ea typeface="ＭＳ Ｐゴシック"/>
              </a:rPr>
              <a:t>D</a:t>
            </a:r>
            <a:r>
              <a:rPr b="0" lang="en-GB" sz="2800" spc="-1" strike="noStrike">
                <a:solidFill>
                  <a:srgbClr val="003366"/>
                </a:solidFill>
                <a:latin typeface="Arial"/>
                <a:ea typeface="ＭＳ Ｐゴシック"/>
              </a:rPr>
              <a:t>; the ciphertext as </a:t>
            </a:r>
            <a:r>
              <a:rPr b="0" i="1" lang="en-GB" sz="2800" spc="-1" strike="noStrike">
                <a:solidFill>
                  <a:srgbClr val="003366"/>
                </a:solidFill>
                <a:latin typeface="Arial"/>
                <a:ea typeface="ＭＳ Ｐゴシック"/>
              </a:rPr>
              <a:t>C</a:t>
            </a:r>
            <a:endParaRPr b="0" lang="en-US" sz="2800" spc="-1" strike="noStrike">
              <a:solidFill>
                <a:srgbClr val="ffffff"/>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015DF2-BC03-41BC-8ABC-73D04416A10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lay a vital role in modern cryptography system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re numbers that can be divided by 1 and the number itself (e.g., 11, 13, 17, 19)</a:t>
            </a:r>
            <a:endParaRPr b="0" lang="en-US" sz="2800" spc="-1" strike="noStrike">
              <a:solidFill>
                <a:srgbClr val="ffffff"/>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56F910-FE8E-44BA-ABE6-139BD6E0DD3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ryptographical value of prime numbers is as follow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f we have 2 primes, </a:t>
            </a:r>
            <a:r>
              <a:rPr b="0" i="1" lang="en-GB" sz="2800" spc="-1" strike="noStrike">
                <a:solidFill>
                  <a:srgbClr val="003366"/>
                </a:solidFill>
                <a:latin typeface="Arial"/>
                <a:ea typeface="ＭＳ Ｐゴシック"/>
              </a:rPr>
              <a:t>p</a:t>
            </a:r>
            <a:r>
              <a:rPr b="0" lang="en-GB" sz="2800" spc="-1" strike="noStrike">
                <a:solidFill>
                  <a:srgbClr val="003366"/>
                </a:solidFill>
                <a:latin typeface="Arial"/>
                <a:ea typeface="ＭＳ Ｐゴシック"/>
              </a:rPr>
              <a:t> and </a:t>
            </a:r>
            <a:r>
              <a:rPr b="0" i="1" lang="en-GB" sz="2800" spc="-1" strike="noStrike">
                <a:solidFill>
                  <a:srgbClr val="003366"/>
                </a:solidFill>
                <a:latin typeface="Arial"/>
                <a:ea typeface="ＭＳ Ｐゴシック"/>
              </a:rPr>
              <a:t>q</a:t>
            </a:r>
            <a:r>
              <a:rPr b="0" lang="en-GB" sz="2800" spc="-1" strike="noStrike">
                <a:solidFill>
                  <a:srgbClr val="003366"/>
                </a:solidFill>
                <a:latin typeface="Arial"/>
                <a:ea typeface="ＭＳ Ｐゴシック"/>
              </a:rPr>
              <a:t>, and we multiply them together to get </a:t>
            </a:r>
            <a:r>
              <a:rPr b="0" i="1" lang="en-GB" sz="2800" spc="-1" strike="noStrike">
                <a:solidFill>
                  <a:srgbClr val="003366"/>
                </a:solidFill>
                <a:latin typeface="Arial"/>
                <a:ea typeface="ＭＳ Ｐゴシック"/>
              </a:rPr>
              <a:t>n</a:t>
            </a:r>
            <a:r>
              <a:rPr b="0" lang="en-GB" sz="2800" spc="-1" strike="noStrike">
                <a:solidFill>
                  <a:srgbClr val="003366"/>
                </a:solidFill>
                <a:latin typeface="Arial"/>
                <a:ea typeface="ＭＳ Ｐゴシック"/>
              </a:rPr>
              <a:t> (</a:t>
            </a:r>
            <a:r>
              <a:rPr b="0" i="1" lang="en-GB" sz="2800" spc="-1" strike="noStrike">
                <a:solidFill>
                  <a:srgbClr val="003366"/>
                </a:solidFill>
                <a:latin typeface="Arial"/>
                <a:ea typeface="ＭＳ Ｐゴシック"/>
              </a:rPr>
              <a:t>p x q = n</a:t>
            </a:r>
            <a:r>
              <a:rPr b="0" lang="en-GB" sz="2800" spc="-1" strike="noStrike">
                <a:solidFill>
                  <a:srgbClr val="003366"/>
                </a:solidFill>
                <a:latin typeface="Arial"/>
                <a:ea typeface="ＭＳ Ｐゴシック"/>
              </a:rPr>
              <a:t>), there is no simple way to determine either </a:t>
            </a:r>
            <a:r>
              <a:rPr b="0" i="1" lang="en-GB" sz="2800" spc="-1" strike="noStrike">
                <a:solidFill>
                  <a:srgbClr val="003366"/>
                </a:solidFill>
                <a:latin typeface="Arial"/>
                <a:ea typeface="ＭＳ Ｐゴシック"/>
              </a:rPr>
              <a:t>p</a:t>
            </a:r>
            <a:r>
              <a:rPr b="0" lang="en-GB" sz="2800" spc="-1" strike="noStrike">
                <a:solidFill>
                  <a:srgbClr val="003366"/>
                </a:solidFill>
                <a:latin typeface="Arial"/>
                <a:ea typeface="ＭＳ Ｐゴシック"/>
              </a:rPr>
              <a:t> or </a:t>
            </a:r>
            <a:r>
              <a:rPr b="0" i="1" lang="en-GB" sz="2800" spc="-1" strike="noStrike">
                <a:solidFill>
                  <a:srgbClr val="003366"/>
                </a:solidFill>
                <a:latin typeface="Arial"/>
                <a:ea typeface="ＭＳ Ｐゴシック"/>
              </a:rPr>
              <a:t>q</a:t>
            </a:r>
            <a:r>
              <a:rPr b="0" lang="en-GB" sz="2800" spc="-1" strike="noStrike">
                <a:solidFill>
                  <a:srgbClr val="003366"/>
                </a:solidFill>
                <a:latin typeface="Arial"/>
                <a:ea typeface="ＭＳ Ｐゴシック"/>
              </a:rPr>
              <a:t> from </a:t>
            </a:r>
            <a:r>
              <a:rPr b="0" i="1" lang="en-GB" sz="2800" spc="-1" strike="noStrike">
                <a:solidFill>
                  <a:srgbClr val="003366"/>
                </a:solidFill>
                <a:latin typeface="Arial"/>
                <a:ea typeface="ＭＳ Ｐゴシック"/>
              </a:rPr>
              <a:t>n</a:t>
            </a:r>
            <a:endParaRPr b="0" lang="en-US" sz="2800" spc="-1" strike="noStrike">
              <a:solidFill>
                <a:srgbClr val="ffffff"/>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C8335C-2E32-4E0F-BEF6-741CDE303FC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3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3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rime Number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rom a cryptography viewpoint, this is useful as the ciphertext should never reveal anything about the plaintext, and the ciphertext should never reveal anything about the key</a:t>
            </a:r>
            <a:endParaRPr b="0" lang="en-US" sz="2800" spc="-1" strike="noStrike">
              <a:solidFill>
                <a:srgbClr val="ffffff"/>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CA12B7-8C38-46E0-9AF5-4B3CC0A763D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4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X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KA </a:t>
            </a:r>
            <a:r>
              <a:rPr b="1" lang="en-GB" sz="2800" spc="-1" strike="noStrike">
                <a:solidFill>
                  <a:srgbClr val="003366"/>
                </a:solidFill>
                <a:latin typeface="Arial"/>
                <a:ea typeface="ＭＳ Ｐゴシック"/>
              </a:rPr>
              <a:t>Exclusive O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s a standard method of bit manipulation in computers (it is not unique to cryptography)</a:t>
            </a:r>
            <a:endParaRPr b="0" lang="en-US" sz="2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774844-D3E5-4D4B-BE60-9FDF9AEB0F4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Math and Algorithms (con’t)</a:t>
            </a:r>
            <a:endParaRPr b="0" lang="en-US" sz="3600" spc="-1" strike="noStrike">
              <a:solidFill>
                <a:srgbClr val="ffffff"/>
              </a:solidFill>
              <a:latin typeface="Arial"/>
            </a:endParaRPr>
          </a:p>
        </p:txBody>
      </p:sp>
      <p:sp>
        <p:nvSpPr>
          <p:cNvPr id="5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XOR Operation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ince examining the XOR operation requires looking at the OR operation first, we</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ll start w/the OR operation</a:t>
            </a:r>
            <a:endParaRPr b="0" lang="en-US" sz="2800" spc="-1" strike="noStrike">
              <a:solidFill>
                <a:srgbClr val="ffffff"/>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BB4816-9295-4510-9559-FB06F5AD588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OR Operation</a:t>
            </a:r>
            <a:endParaRPr b="0" lang="en-US" sz="3600" spc="-1" strike="noStrike">
              <a:solidFill>
                <a:srgbClr val="ffffff"/>
              </a:solidFill>
              <a:latin typeface="Arial"/>
            </a:endParaRPr>
          </a:p>
        </p:txBody>
      </p:sp>
      <p:sp>
        <p:nvSpPr>
          <p:cNvPr id="5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so a bit manipula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ssible 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0 = 0</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1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0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1 = 1</a:t>
            </a:r>
            <a:endParaRPr b="0" lang="en-US" sz="2800" spc="-1" strike="noStrike">
              <a:solidFill>
                <a:srgbClr val="ffffff"/>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0061B5-9BFE-4C96-B82D-C951718E3CB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OR Operation (con’t)</a:t>
            </a:r>
            <a:endParaRPr b="0" lang="en-US" sz="3600" spc="-1" strike="noStrike">
              <a:solidFill>
                <a:srgbClr val="ffffff"/>
              </a:solidFill>
              <a:latin typeface="Arial"/>
            </a:endParaRPr>
          </a:p>
        </p:txBody>
      </p:sp>
      <p:sp>
        <p:nvSpPr>
          <p:cNvPr id="5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10_OR_Operation</a:t>
            </a:r>
            <a:endParaRPr b="0" lang="en-US" sz="2800" spc="-1" strike="noStrike">
              <a:solidFill>
                <a:srgbClr val="ffffff"/>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1"/>
          <p:cNvSpPr/>
          <p:nvPr/>
        </p:nvSpPr>
        <p:spPr>
          <a:xfrm>
            <a:off x="0" y="6242040"/>
            <a:ext cx="830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883B8C-1E9E-4F1C-AE1F-E7105C1CFC0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XOR Operations</a:t>
            </a:r>
            <a:endParaRPr b="0" lang="en-US" sz="3600" spc="-1" strike="noStrike">
              <a:solidFill>
                <a:srgbClr val="ffffff"/>
              </a:solidFill>
              <a:latin typeface="Arial"/>
            </a:endParaRPr>
          </a:p>
        </p:txBody>
      </p:sp>
      <p:sp>
        <p:nvSpPr>
          <p:cNvPr id="5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Possible XOR operatio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0 = 0</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0 OR 1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0 =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1 OR 1 = 0</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25DFA6-10D8-44F8-B3D0-F25D6C7041C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a:t>
            </a:r>
            <a:endParaRPr b="0" lang="en-US" sz="3600" spc="-1" strike="noStrike">
              <a:solidFill>
                <a:srgbClr val="ffffff"/>
              </a:solidFill>
              <a:latin typeface="Arial"/>
            </a:endParaRPr>
          </a:p>
        </p:txBody>
      </p:sp>
      <p:sp>
        <p:nvSpPr>
          <p:cNvPr id="148"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Plaintext</a:t>
            </a:r>
            <a:r>
              <a:rPr b="0" lang="en-GB" sz="2800" spc="-1" strike="noStrike">
                <a:solidFill>
                  <a:srgbClr val="002a56"/>
                </a:solidFill>
                <a:latin typeface="Arial"/>
              </a:rPr>
              <a:t>: </a:t>
            </a:r>
            <a:r>
              <a:rPr b="0" lang="en-US" sz="2800" spc="-1" strike="noStrike">
                <a:solidFill>
                  <a:srgbClr val="002a56"/>
                </a:solidFill>
                <a:latin typeface="Arial"/>
              </a:rPr>
              <a:t>is information a sender wishes to transmit to a receiver:</a:t>
            </a:r>
            <a:endParaRPr b="0" lang="en-US" sz="2800" spc="-1" strike="noStrike">
              <a:solidFill>
                <a:srgbClr val="ffffff"/>
              </a:solidFill>
              <a:latin typeface="Arial"/>
            </a:endParaRPr>
          </a:p>
          <a:p>
            <a:pPr lvl="1" marL="795240" indent="-338040">
              <a:lnSpc>
                <a:spcPct val="10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ea typeface="ＭＳ Ｐゴシック"/>
              </a:rPr>
              <a:t>Sender and receiver: </a:t>
            </a:r>
            <a:r>
              <a:rPr b="1" lang="en-US" sz="2800" spc="-1" strike="noStrike">
                <a:solidFill>
                  <a:srgbClr val="002a56"/>
                </a:solidFill>
                <a:latin typeface="Arial"/>
                <a:ea typeface="ＭＳ Ｐゴシック"/>
              </a:rPr>
              <a:t>Alice</a:t>
            </a:r>
            <a:r>
              <a:rPr b="0" lang="en-US" sz="2800" spc="-1" strike="noStrike">
                <a:solidFill>
                  <a:srgbClr val="002a56"/>
                </a:solidFill>
                <a:latin typeface="Arial"/>
                <a:ea typeface="ＭＳ Ｐゴシック"/>
              </a:rPr>
              <a:t> and </a:t>
            </a:r>
            <a:r>
              <a:rPr b="1" lang="en-US" sz="2800" spc="-1" strike="noStrike">
                <a:solidFill>
                  <a:srgbClr val="002a56"/>
                </a:solidFill>
                <a:latin typeface="Arial"/>
                <a:ea typeface="ＭＳ Ｐゴシック"/>
              </a:rPr>
              <a:t>Bob</a:t>
            </a:r>
            <a:endParaRPr b="0" lang="en-US" sz="2800" spc="-1" strike="noStrike">
              <a:solidFill>
                <a:srgbClr val="ffffff"/>
              </a:solidFill>
              <a:latin typeface="Arial"/>
            </a:endParaRPr>
          </a:p>
          <a:p>
            <a:pPr lvl="1" marL="795240" indent="-338040">
              <a:lnSpc>
                <a:spcPct val="10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ea typeface="ＭＳ Ｐゴシック"/>
              </a:rPr>
              <a:t>Attacker: </a:t>
            </a:r>
            <a:r>
              <a:rPr b="1" lang="en-US" sz="2800" spc="-1" strike="noStrike">
                <a:solidFill>
                  <a:srgbClr val="002a56"/>
                </a:solidFill>
                <a:latin typeface="Arial"/>
                <a:ea typeface="ＭＳ Ｐゴシック"/>
              </a:rPr>
              <a:t>Eve</a:t>
            </a:r>
            <a:endParaRPr b="0" lang="en-US" sz="2800" spc="-1" strike="noStrike">
              <a:solidFill>
                <a:srgbClr val="ffffff"/>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1"/>
          <p:cNvSpPr/>
          <p:nvPr/>
        </p:nvSpPr>
        <p:spPr>
          <a:xfrm>
            <a:off x="0" y="6242040"/>
            <a:ext cx="75420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B0E9BC-DBF4-4309-9E66-AC2BE44F7AC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5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XOR Operations (con’t)</a:t>
            </a:r>
            <a:endParaRPr b="0" lang="en-US" sz="3600" spc="-1" strike="noStrike">
              <a:solidFill>
                <a:srgbClr val="ffffff"/>
              </a:solidFill>
              <a:latin typeface="Arial"/>
            </a:endParaRPr>
          </a:p>
        </p:txBody>
      </p:sp>
      <p:sp>
        <p:nvSpPr>
          <p:cNvPr id="5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Lab: 11_XOR_Operation</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BEB0C8-C2AA-4F0F-BE0E-F0D08F058DC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51"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Encryption</a:t>
            </a:r>
            <a:r>
              <a:rPr b="0" lang="en-GB" sz="2800" spc="-1" strike="noStrike">
                <a:solidFill>
                  <a:srgbClr val="002a56"/>
                </a:solidFill>
                <a:latin typeface="Arial"/>
              </a:rPr>
              <a:t>: changing the original text to a secret message using cryptography</a:t>
            </a:r>
            <a:endParaRPr b="0" lang="en-US" sz="2800" spc="-1" strike="noStrike">
              <a:solidFill>
                <a:srgbClr val="ffffff"/>
              </a:solidFill>
              <a:latin typeface="Arial"/>
            </a:endParaRPr>
          </a:p>
          <a:p>
            <a:pPr marL="338040" indent="-338040">
              <a:lnSpc>
                <a:spcPct val="90000"/>
              </a:lnSpc>
              <a:spcBef>
                <a:spcPts val="675"/>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Decryption</a:t>
            </a:r>
            <a:r>
              <a:rPr b="0" lang="en-GB" sz="2800" spc="-1" strike="noStrike">
                <a:solidFill>
                  <a:srgbClr val="002a56"/>
                </a:solidFill>
                <a:latin typeface="Arial"/>
              </a:rPr>
              <a:t>: reverse process of encryption</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99AB17-D586-46AC-AC75-415DE9B2B50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54"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Algorithm</a:t>
            </a:r>
            <a:r>
              <a:rPr b="0" lang="en-GB" sz="2800" spc="-1" strike="noStrike">
                <a:solidFill>
                  <a:srgbClr val="002a56"/>
                </a:solidFill>
                <a:latin typeface="Arial"/>
              </a:rPr>
              <a:t>: mathematical procedure that works with a key to generate ciphertext from plaintext input</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AKA </a:t>
            </a:r>
            <a:r>
              <a:rPr b="1" lang="en-GB" sz="2800" spc="-1" strike="noStrike">
                <a:solidFill>
                  <a:srgbClr val="002a56"/>
                </a:solidFill>
                <a:latin typeface="Arial"/>
              </a:rPr>
              <a:t>cipher</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27DD39-AC6A-42CE-BD6B-94D9638CD7B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ublished vs. Secret Algorithms</a:t>
            </a:r>
            <a:endParaRPr b="0" lang="en-US" sz="3600" spc="-1" strike="noStrike">
              <a:solidFill>
                <a:srgbClr val="ffffff"/>
              </a:solidFill>
              <a:latin typeface="Arial"/>
            </a:endParaRPr>
          </a:p>
        </p:txBody>
      </p:sp>
      <p:sp>
        <p:nvSpPr>
          <p:cNvPr id="157"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graphic algorithms that are published and open to public scrutiny offer the benefit of uncovering weaknesses in the cipher</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Some of the best algorithms currently in use have evolved as a result of repeated improvements to fix possible attacks discovered by other researchers</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369546-2D1A-477C-841D-BF5F4F4FFAA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5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ublished vs. Secret Algorithm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60"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onversely, some organizations (e.g., NSA) have world-renown cryptographers and mathematicians and a homeland security mandate that warrants their algorithms remain secret</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3ACC2-7D6E-4E77-98D9-D6BD3020048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0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Workshop Learning Objectives</a:t>
            </a:r>
            <a:endParaRPr b="0" lang="en-US" sz="3600" spc="-1" strike="noStrike">
              <a:solidFill>
                <a:srgbClr val="ffffff"/>
              </a:solidFill>
              <a:latin typeface="Arial"/>
            </a:endParaRPr>
          </a:p>
        </p:txBody>
      </p:sp>
      <p:sp>
        <p:nvSpPr>
          <p:cNvPr id="109" name="Text Box 3"/>
          <p:cNvSpPr/>
          <p:nvPr/>
        </p:nvSpPr>
        <p:spPr>
          <a:xfrm>
            <a:off x="838080" y="2362320"/>
            <a:ext cx="7693200" cy="403848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fine cryptographic terminolog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scribe the benefits of using cryptograph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escribe how and when to use cryptography</a:t>
            </a:r>
            <a:endParaRPr b="0" lang="en-US" sz="2800" spc="-1" strike="noStrike">
              <a:solidFill>
                <a:srgbClr val="ffffff"/>
              </a:solidFill>
              <a:latin typeface="Arial"/>
            </a:endParaRPr>
          </a:p>
          <a:p>
            <a:pPr marL="338040" indent="-338040">
              <a:spcBef>
                <a:spcPts val="624"/>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ork with various hardware/software that implement cryptography</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634D88-AECD-4F37-83DA-36572273CCB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3"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lvl="1" marL="3380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Key</a:t>
            </a:r>
            <a:r>
              <a:rPr b="0" lang="en-GB" sz="2800" spc="-1" strike="noStrike">
                <a:solidFill>
                  <a:srgbClr val="003366"/>
                </a:solidFill>
                <a:latin typeface="Arial"/>
                <a:ea typeface="ＭＳ Ｐゴシック"/>
              </a:rPr>
              <a:t>: is a mathematical value (e.g., word, number, phrase) that determines how a plaintext message is encrypted to produce ciphertext</a:t>
            </a:r>
            <a:endParaRPr b="0" lang="en-US" sz="2800" spc="-1" strike="noStrike">
              <a:solidFill>
                <a:srgbClr val="ffffff"/>
              </a:solidFill>
              <a:latin typeface="Arial"/>
            </a:endParaRPr>
          </a:p>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s possession is required to decrypt the ciphertext and recover the original message</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95995A-EB82-4E5C-BE44-2806A52F4D2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6"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Key Length</a:t>
            </a:r>
            <a:r>
              <a:rPr b="0" lang="en-GB" sz="2800" spc="-1" strike="noStrike">
                <a:solidFill>
                  <a:srgbClr val="003366"/>
                </a:solidFill>
                <a:latin typeface="Arial"/>
              </a:rPr>
              <a:t>: keys have a corresponding key length</a:t>
            </a:r>
            <a:r>
              <a:rPr b="1" lang="en-GB" sz="2800" spc="-1" strike="noStrike">
                <a:solidFill>
                  <a:srgbClr val="003366"/>
                </a:solidFill>
                <a:latin typeface="Arial"/>
              </a:rPr>
              <a:t> </a:t>
            </a:r>
            <a:r>
              <a:rPr b="0" lang="en-GB" sz="2800" spc="-1" strike="noStrike">
                <a:solidFill>
                  <a:srgbClr val="003366"/>
                </a:solidFill>
                <a:latin typeface="Arial"/>
              </a:rPr>
              <a:t>(or </a:t>
            </a:r>
            <a:r>
              <a:rPr b="1" lang="en-GB" sz="2800" spc="-1" strike="noStrike">
                <a:solidFill>
                  <a:srgbClr val="003366"/>
                </a:solidFill>
                <a:latin typeface="Arial"/>
              </a:rPr>
              <a:t>key size</a:t>
            </a:r>
            <a:r>
              <a:rPr b="0" lang="en-GB" sz="2800" spc="-1" strike="noStrike">
                <a:solidFill>
                  <a:srgbClr val="003366"/>
                </a:solidFill>
                <a:latin typeface="Arial"/>
              </a:rPr>
              <a:t>): which is the number of bits, or sometimes bytes, in the key</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ey lengths tend to be huge numbers</a:t>
            </a:r>
            <a:endParaRPr b="0" lang="en-US" sz="2800" spc="-1" strike="noStrike">
              <a:solidFill>
                <a:srgbClr val="ffffff"/>
              </a:solidFill>
              <a:latin typeface="Arial"/>
            </a:endParaRPr>
          </a:p>
          <a:p>
            <a:pPr lvl="2" marL="12524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number representing a 2048-bit key i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0BBEB2-46FC-40B5-9752-49B11A4F213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6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69"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Key Space</a:t>
            </a:r>
            <a:r>
              <a:rPr b="0" lang="en-GB" sz="2800" spc="-1" strike="noStrike">
                <a:solidFill>
                  <a:srgbClr val="003366"/>
                </a:solidFill>
                <a:latin typeface="Arial"/>
              </a:rPr>
              <a:t>: </a:t>
            </a:r>
            <a:r>
              <a:rPr b="0" lang="en-US" sz="2800" spc="-1" strike="noStrike">
                <a:solidFill>
                  <a:srgbClr val="003366"/>
                </a:solidFill>
                <a:latin typeface="Arial"/>
              </a:rPr>
              <a:t>refers to the set of all possible mathematical values that have the same length as the key</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90F36-68B9-4036-AFEB-72E2F329BD9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2"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y Space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Ex. 1: if an algorithm works using a key that is a string of 10 bits, then its key space is the set of all binary strings of length 10 (2</a:t>
            </a:r>
            <a:r>
              <a:rPr b="0" lang="en-US" sz="2800" spc="-1" strike="noStrike" baseline="30000">
                <a:solidFill>
                  <a:srgbClr val="003366"/>
                </a:solidFill>
                <a:latin typeface="Arial"/>
                <a:ea typeface="ＭＳ Ｐゴシック"/>
              </a:rPr>
              <a:t>10</a:t>
            </a:r>
            <a:r>
              <a:rPr b="0" lang="en-US" sz="2800" spc="-1" strike="noStrike">
                <a:solidFill>
                  <a:srgbClr val="003366"/>
                </a:solidFill>
                <a:latin typeface="Arial"/>
                <a:ea typeface="ＭＳ Ｐゴシック"/>
              </a:rPr>
              <a:t> = 1024)</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2: a 2-bit key has 4 values in its key space (00, 01, 10, 11)</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E2FDCF-F7F0-42AC-90B8-731A5B1DF80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5"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y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enerally, the larger the key length, the more secure the ciphertext </a:t>
            </a:r>
            <a:endParaRPr b="0" lang="en-US" sz="2800" spc="-1" strike="noStrike">
              <a:solidFill>
                <a:srgbClr val="ffffff"/>
              </a:solidFill>
              <a:latin typeface="Arial"/>
            </a:endParaRPr>
          </a:p>
          <a:p>
            <a:pPr lvl="1" marL="795240" indent="-33804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rger keys also offer more protection against </a:t>
            </a:r>
            <a:r>
              <a:rPr b="1" lang="en-GB" sz="2800" spc="-1" strike="noStrike">
                <a:solidFill>
                  <a:srgbClr val="003366"/>
                </a:solidFill>
                <a:latin typeface="Arial"/>
                <a:ea typeface="ＭＳ Ｐゴシック"/>
              </a:rPr>
              <a:t>brute-force attacks</a:t>
            </a:r>
            <a:r>
              <a:rPr b="0" lang="en-GB" sz="2800" spc="-1" strike="noStrike">
                <a:solidFill>
                  <a:srgbClr val="003366"/>
                </a:solidFill>
                <a:latin typeface="Arial"/>
                <a:ea typeface="ＭＳ Ｐゴシック"/>
              </a:rPr>
              <a:t>, in which every possible key is tried to decrypt a messag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DEFC2-BB1F-4CA2-AFBE-F511E9A67B7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78"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s computers have increased in processing power, and with the advent of cloud computing environments, attackers have been able to carry out brute-force attacks more quickly and break encryption keys</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8DAF5-717D-40E6-878F-13CA437BF74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1"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o keep up with advances in processing power, encryption key sizes have increased too</a:t>
            </a:r>
            <a:endParaRPr b="0" lang="en-US" sz="2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7EDF6C-365F-4C5A-92CB-7DD3DC8B980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4"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 is very important to pick keys of the right length/size:</a:t>
            </a:r>
            <a:endParaRPr b="0" lang="en-US" sz="2800" spc="-1" strike="noStrike">
              <a:solidFill>
                <a:srgbClr val="ffffff"/>
              </a:solidFill>
              <a:latin typeface="Arial"/>
            </a:endParaRPr>
          </a:p>
          <a:p>
            <a:pPr lvl="1" marL="738360" indent="-28116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rge enough to be secure, but small enough to be applied fairly quickly</a:t>
            </a:r>
            <a:endParaRPr b="0" lang="en-US" sz="2800" spc="-1" strike="noStrike">
              <a:solidFill>
                <a:srgbClr val="ffffff"/>
              </a:solidFill>
              <a:latin typeface="Arial"/>
            </a:endParaRPr>
          </a:p>
          <a:p>
            <a:pPr lvl="1" marL="738360" indent="-281160">
              <a:lnSpc>
                <a:spcPct val="100000"/>
              </a:lnSpc>
              <a:spcBef>
                <a:spcPts val="55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dditionally, you need to consider who might be trying to read your files, how determined they are, how much time they have, and what their resources might be </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63AF96-9605-469A-93C0-F2DA2F99181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87"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Larger keys will be cryptographically secure for a longer period of time</a:t>
            </a:r>
            <a:endParaRPr b="0" lang="en-US" sz="2800" spc="-1" strike="noStrike">
              <a:solidFill>
                <a:srgbClr val="ffffff"/>
              </a:solidFill>
              <a:latin typeface="Arial"/>
            </a:endParaRPr>
          </a:p>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f what you want to encrypt needs to be hidden for many years, you might want to use a very large key (e.g., &gt; 2048-bits)</a:t>
            </a:r>
            <a:endParaRPr b="0" lang="en-US" sz="2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A61E87-E026-42A9-877A-228D4F26FE0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0" name="Text Box 3"/>
          <p:cNvSpPr/>
          <p:nvPr/>
        </p:nvSpPr>
        <p:spPr>
          <a:xfrm>
            <a:off x="838080" y="2362320"/>
            <a:ext cx="7693200" cy="43434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f course, who knows how long it will take to determine your key using tomorrow's faster, more efficient computing environments? </a:t>
            </a:r>
            <a:endParaRPr b="0" lang="en-US" sz="2800" spc="-1" strike="noStrike">
              <a:solidFill>
                <a:srgbClr val="ffffff"/>
              </a:solidFill>
              <a:latin typeface="Arial"/>
            </a:endParaRPr>
          </a:p>
          <a:p>
            <a:pPr lvl="1" marL="738360" indent="-281160">
              <a:lnSpc>
                <a:spcPct val="100000"/>
              </a:lnSpc>
              <a:spcBef>
                <a:spcPts val="649"/>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re was a time when a 56-bit symmetric key was considered extremely safe </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B9C30A-EAFE-454A-9081-7A2905344B0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logy</a:t>
            </a:r>
            <a:endParaRPr b="0" lang="en-US" sz="3600" spc="-1" strike="noStrike">
              <a:solidFill>
                <a:srgbClr val="ffffff"/>
              </a:solidFill>
              <a:latin typeface="Arial"/>
            </a:endParaRPr>
          </a:p>
        </p:txBody>
      </p:sp>
      <p:sp>
        <p:nvSpPr>
          <p:cNvPr id="11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From the Greek </a:t>
            </a:r>
            <a:r>
              <a:rPr b="1" lang="en-US" sz="2800" spc="-1" strike="noStrike">
                <a:solidFill>
                  <a:srgbClr val="002a56"/>
                </a:solidFill>
                <a:latin typeface="Arial"/>
              </a:rPr>
              <a:t>kryptós</a:t>
            </a:r>
            <a:r>
              <a:rPr b="0" lang="en-US" sz="2800" spc="-1" strike="noStrike">
                <a:solidFill>
                  <a:srgbClr val="002a56"/>
                </a:solidFill>
                <a:latin typeface="Arial"/>
              </a:rPr>
              <a:t>, "hidden," and </a:t>
            </a:r>
            <a:r>
              <a:rPr b="1" lang="en-US" sz="2800" spc="-1" strike="noStrike">
                <a:solidFill>
                  <a:srgbClr val="002a56"/>
                </a:solidFill>
                <a:latin typeface="Arial"/>
              </a:rPr>
              <a:t>lógos</a:t>
            </a:r>
            <a:r>
              <a:rPr b="0" lang="en-US" sz="2800" spc="-1" strike="noStrike">
                <a:solidFill>
                  <a:srgbClr val="002a56"/>
                </a:solidFill>
                <a:latin typeface="Arial"/>
              </a:rPr>
              <a:t>, "word“</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Is the science of secure (or, generally speaking), secret communication</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D8ACFC-353D-4275-A8AF-48BFA31F1ED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Cryptosystem</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s a combination of cryptographic functions that work together as the basic building blocks of modern cryptography</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E48C90-D5DE-45D0-821D-0C2F7A72C16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Terminolog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9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system (con</a:t>
            </a:r>
            <a:r>
              <a:rPr b="0" lang="ja-JP" sz="2800" spc="-1" strike="noStrike">
                <a:solidFill>
                  <a:srgbClr val="002a56"/>
                </a:solidFill>
                <a:latin typeface="Arial"/>
              </a:rPr>
              <a:t>’</a:t>
            </a:r>
            <a:r>
              <a:rPr b="0" lang="en-GB" sz="2800" spc="-1" strike="noStrike">
                <a:solidFill>
                  <a:srgbClr val="002a5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nclude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Encryption and decryption algorithm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Key generation algorithm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Hashing functions</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Pseudorandom Number Generators (PRNG)</a:t>
            </a:r>
            <a:endParaRPr b="0" lang="en-US" sz="28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FAFFB5-0A4A-4855-B318-20F4A461B85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a:t>
            </a:r>
            <a:endParaRPr b="0" lang="en-US" sz="3600" spc="-1" strike="noStrike">
              <a:solidFill>
                <a:srgbClr val="ffffff"/>
              </a:solidFill>
              <a:latin typeface="Arial"/>
            </a:endParaRPr>
          </a:p>
        </p:txBody>
      </p:sp>
      <p:sp>
        <p:nvSpPr>
          <p:cNvPr id="199"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There are two kinds of cryptography in this world: cryptography that will stop your kid sister from reading your files, and cryptography that will stop major governments from reading your files.</a:t>
            </a:r>
            <a:r>
              <a:rPr b="0" i="1" lang="ja-JP" sz="2800" spc="-1" strike="noStrike">
                <a:solidFill>
                  <a:srgbClr val="003366"/>
                </a:solidFill>
                <a:latin typeface="Arial"/>
              </a:rPr>
              <a:t>”</a:t>
            </a:r>
            <a:r>
              <a:rPr b="0" lang="en-GB" sz="2800" spc="-1" strike="noStrike">
                <a:solidFill>
                  <a:srgbClr val="003366"/>
                </a:solidFill>
                <a:latin typeface="Arial"/>
              </a:rPr>
              <a:t>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rom Bruce Schneier, </a:t>
            </a:r>
            <a:r>
              <a:rPr b="0" i="1" lang="en-GB" sz="2800" spc="-1" strike="noStrike">
                <a:solidFill>
                  <a:srgbClr val="003366"/>
                </a:solidFill>
                <a:latin typeface="Arial"/>
                <a:ea typeface="ＭＳ Ｐゴシック"/>
              </a:rPr>
              <a:t>Applied Cryptography: Protocols, Algorithms, and Source Code in C</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493CEB-431C-457B-939D-690C449F657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02"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security of data relies on the:</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trength of the algorithm</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crecy of the key</a:t>
            </a:r>
            <a:endParaRPr b="0" lang="en-US" sz="2800" spc="-1" strike="noStrike">
              <a:solidFill>
                <a:srgbClr val="ffffff"/>
              </a:solidFill>
              <a:latin typeface="Arial"/>
            </a:endParaRPr>
          </a:p>
          <a:p>
            <a:pPr lvl="1" marL="738360" indent="-28116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ength/size of the key</a:t>
            </a: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417A7-AE85-4EB4-8000-C6B092EB492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05"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ryptographic strength is measured in the time and resources it would require to recover the plaintext</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BAEF2-E0E7-475F-8779-CAE73540496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ic Strength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08" name="Text Box 3"/>
          <p:cNvSpPr/>
          <p:nvPr/>
        </p:nvSpPr>
        <p:spPr>
          <a:xfrm>
            <a:off x="838080" y="2362320"/>
            <a:ext cx="7693200" cy="396216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601"/>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Given all of today's computing power and available time - even a billion computers doing a billion checks a second - it is not possible to decipher the result of strong cryptography given the age of the universe (which is roughly 10</a:t>
            </a:r>
            <a:r>
              <a:rPr b="0" lang="en-GB" sz="2800" spc="-1" strike="noStrike" baseline="30000">
                <a:solidFill>
                  <a:srgbClr val="003366"/>
                </a:solidFill>
                <a:latin typeface="Arial"/>
              </a:rPr>
              <a:t>10</a:t>
            </a:r>
            <a:r>
              <a:rPr b="0" lang="en-GB" sz="2800" spc="-1" strike="noStrike">
                <a:solidFill>
                  <a:srgbClr val="003366"/>
                </a:solidFill>
                <a:latin typeface="Arial"/>
              </a:rPr>
              <a:t> years old)</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B95A3-8F2B-48D6-8464-693761B1FC8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a:t>
            </a:r>
            <a:endParaRPr b="0" lang="en-US" sz="3600" spc="-1" strike="noStrike">
              <a:solidFill>
                <a:srgbClr val="ffffff"/>
              </a:solidFill>
              <a:latin typeface="Arial"/>
            </a:endParaRPr>
          </a:p>
        </p:txBody>
      </p:sp>
      <p:sp>
        <p:nvSpPr>
          <p:cNvPr id="21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arliest known use of cryptography is in hieroglyphs from Egypt's Old Kingdom, more than 4,000 years ago</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hieroglyphs appeared to be for amusement or mystery instead of hiding information, demonstrating yet another use for secret codes </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490BE-1070-4B37-8391-608029E70B5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1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the era of classical cryptography, messages were usually sent in written documents via courier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ecause of the threat of these documents being intercepted, cryptographic techniques were developed to secure messages</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7D5E7-3D70-49A6-96F1-E1BF7EB5282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1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lthough these methods are primitive by today's standards, they were fairly secure for their time</a:t>
            </a:r>
            <a:endParaRPr b="0" lang="en-US" sz="2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17EE4-5C65-44BC-B060-1B0AC54E0BA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1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lassical Cryptography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2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main forms of classical cryptography ar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ciphers</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2624A-BEF7-423C-B4D8-22408630BF9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a:t>
            </a:r>
            <a:endParaRPr b="0" lang="en-US" sz="3600" spc="-1" strike="noStrike">
              <a:solidFill>
                <a:srgbClr val="ffffff"/>
              </a:solidFill>
              <a:latin typeface="Arial"/>
            </a:endParaRPr>
          </a:p>
        </p:txBody>
      </p:sp>
      <p:sp>
        <p:nvSpPr>
          <p:cNvPr id="11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The branch of applied mathematics that concerns itself with transforming messages into seemingly unintelligible forms and back again so it cannot be viewed by unauthorized users</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C4183B-AF3C-456A-8F49-18E33E30351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a:t>
            </a:r>
            <a:endParaRPr b="0" lang="en-US" sz="3600" spc="-1" strike="noStrike">
              <a:solidFill>
                <a:srgbClr val="ffffff"/>
              </a:solidFill>
              <a:latin typeface="Arial"/>
            </a:endParaRPr>
          </a:p>
        </p:txBody>
      </p:sp>
      <p:sp>
        <p:nvSpPr>
          <p:cNvPr id="22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aps each character, such as a letter of the alphabet, to a different character, to obscure the mess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Fast decryption when the ciphertext is shor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an consume much more processing/decrypting power/time if the ciphertext is long</a:t>
            </a:r>
            <a:endParaRPr b="0" lang="en-US" sz="28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3E64A-7212-495A-89BD-B3F3DFFC1CC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2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yp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noalphabetic 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olyalphabetic substitu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Diffusion ciph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otor machines</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D738C0-77DD-4B4E-8532-82C2727D9D5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2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onoalphabetic Substitution Ciphers</a:t>
            </a:r>
            <a:endParaRPr b="0" lang="en-US" sz="3600" spc="-1" strike="noStrike">
              <a:solidFill>
                <a:srgbClr val="ffffff"/>
              </a:solidFill>
              <a:latin typeface="Arial"/>
            </a:endParaRPr>
          </a:p>
        </p:txBody>
      </p:sp>
      <p:sp>
        <p:nvSpPr>
          <p:cNvPr id="22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 alphabet is used for the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for-one character substitution</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 </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aptain Midnight's Secret Decoder Ring</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tbash Cipher</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aesar Cipher</a:t>
            </a:r>
            <a:endParaRPr b="0" lang="en-US" sz="2800" spc="-1" strike="noStrike">
              <a:solidFill>
                <a:srgbClr val="ffffff"/>
              </a:solidFill>
              <a:latin typeface="Arial"/>
            </a:endParaRPr>
          </a:p>
          <a:p>
            <a:pPr lvl="2" marL="1143000" indent="-22860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OT13</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D6B044-5730-4360-8B90-B9532DF9E02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1"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a:t>
            </a:r>
            <a:endParaRPr b="0" lang="en-US" sz="3600" spc="-1" strike="noStrike">
              <a:solidFill>
                <a:srgbClr val="ffffff"/>
              </a:solidFill>
              <a:latin typeface="Arial"/>
            </a:endParaRPr>
          </a:p>
        </p:txBody>
      </p:sp>
      <p:sp>
        <p:nvSpPr>
          <p:cNvPr id="23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ebrew secret languag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 simple substitution cipher based on reversing the order of the alphabe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Dates back to around 600 B.C.</a:t>
            </a:r>
            <a:endParaRPr b="0" lang="en-US" sz="2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AA95E5-C5E4-47A6-815B-B607E28BE78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3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a:t>
            </a:r>
            <a:r>
              <a:rPr b="0" lang="en-GB" sz="1800" spc="-1" strike="noStrike">
                <a:solidFill>
                  <a:srgbClr val="003366"/>
                </a:solidFill>
                <a:latin typeface="Arial"/>
              </a:rPr>
              <a:t>XIBKGLTIZKSB RH XLLO</a:t>
            </a:r>
            <a:endParaRPr b="0" lang="en-US" sz="18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740EEE-8768-471B-BE3D-3B3B3B6B0E1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3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Atbash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3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nyone who knows the alphabet of the language used can decrypt the message simply by reversing the alphabet</a:t>
            </a:r>
            <a:endParaRPr b="0" lang="en-US" sz="28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378EC-E10C-481E-A274-E66A28E1237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a:t>
            </a:r>
            <a:endParaRPr b="0" lang="en-US" sz="3600" spc="-1" strike="noStrike">
              <a:solidFill>
                <a:srgbClr val="ffffff"/>
              </a:solidFill>
              <a:latin typeface="Arial"/>
            </a:endParaRPr>
          </a:p>
        </p:txBody>
      </p:sp>
      <p:sp>
        <p:nvSpPr>
          <p:cNvPr id="241" name="Text Box 3"/>
          <p:cNvSpPr/>
          <p:nvPr/>
        </p:nvSpPr>
        <p:spPr>
          <a:xfrm>
            <a:off x="838080" y="2362320"/>
            <a:ext cx="381024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ased on shifting letters of the alphabet by a certain number of position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for-one character substitution</a:t>
            </a:r>
            <a:endParaRPr b="0" lang="en-US" sz="2800" spc="-1" strike="noStrike">
              <a:solidFill>
                <a:srgbClr val="ffffff"/>
              </a:solidFill>
              <a:latin typeface="Arial"/>
            </a:endParaRPr>
          </a:p>
        </p:txBody>
      </p:sp>
      <p:pic>
        <p:nvPicPr>
          <p:cNvPr id="242" name="Picture 6" descr=""/>
          <p:cNvPicPr/>
          <p:nvPr/>
        </p:nvPicPr>
        <p:blipFill>
          <a:blip r:embed="rId1"/>
          <a:stretch/>
        </p:blipFill>
        <p:spPr>
          <a:xfrm>
            <a:off x="4924440" y="609480"/>
            <a:ext cx="3533760" cy="5715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9FF6F-2A45-4AD2-B51F-3C691AFE368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4"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torically, Julius Caesar used 3 shift positions for encrypted messages</a:t>
            </a:r>
            <a:endParaRPr b="0" lang="en-US" sz="28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3BF31E-DDE6-41F4-8E30-ECFB15C64FD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4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See classic Caesar char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1_Caesar_Shift_Tab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 </a:t>
            </a:r>
            <a:r>
              <a:rPr b="0" lang="en-GB" sz="1800" spc="-1" strike="noStrike">
                <a:solidFill>
                  <a:srgbClr val="003366"/>
                </a:solidFill>
                <a:latin typeface="Arial"/>
              </a:rPr>
              <a:t>FUBSWRJUDSKB LV YHUB FRRO</a:t>
            </a:r>
            <a:endParaRPr b="0" lang="en-US" sz="1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a:t>
            </a:r>
            <a:r>
              <a:rPr b="0" lang="en-GB" sz="1800" spc="-1" strike="noStrike">
                <a:solidFill>
                  <a:srgbClr val="003366"/>
                </a:solidFill>
                <a:latin typeface="Arial"/>
              </a:rPr>
              <a:t>QSPGFTTJPOBM</a:t>
            </a:r>
            <a:r>
              <a:rPr b="1" lang="en-GB" sz="2800" spc="-1" strike="noStrike">
                <a:solidFill>
                  <a:srgbClr val="003366"/>
                </a:solidFill>
                <a:latin typeface="Arial"/>
              </a:rPr>
              <a:t> </a:t>
            </a:r>
            <a:r>
              <a:rPr b="0" lang="en-GB" sz="2800" spc="-1" strike="noStrike">
                <a:solidFill>
                  <a:srgbClr val="003366"/>
                </a:solidFill>
                <a:latin typeface="Arial"/>
              </a:rPr>
              <a:t>(shift = 1)</a:t>
            </a:r>
            <a:endParaRPr b="0" lang="en-US" sz="2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B163F-EC51-41D2-AF1B-18E1FFE1ED0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ipher depends on shifting positions of letters in an alphabet, making it susceptible to a brute-force attack, as well as frequency analysis attacks</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33D071-F42E-4C1F-BB46-FEFFAA853DC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17"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1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Cryptography is the process of converting </a:t>
            </a:r>
            <a:r>
              <a:rPr b="1" lang="en-GB" sz="2800" spc="-1" strike="noStrike">
                <a:solidFill>
                  <a:srgbClr val="002a56"/>
                </a:solidFill>
                <a:latin typeface="Arial"/>
              </a:rPr>
              <a:t>plaintext</a:t>
            </a:r>
            <a:r>
              <a:rPr b="0" lang="en-GB" sz="2800" spc="-1" strike="noStrike">
                <a:solidFill>
                  <a:srgbClr val="002a56"/>
                </a:solidFill>
                <a:latin typeface="Arial"/>
              </a:rPr>
              <a:t> into </a:t>
            </a:r>
            <a:r>
              <a:rPr b="1" lang="en-GB" sz="2800" spc="-1" strike="noStrike">
                <a:solidFill>
                  <a:srgbClr val="002a56"/>
                </a:solidFill>
                <a:latin typeface="Arial"/>
              </a:rPr>
              <a:t>ciphertext</a:t>
            </a:r>
            <a:r>
              <a:rPr b="0" lang="en-GB" sz="2800" spc="-1" strike="noStrike">
                <a:solidFill>
                  <a:srgbClr val="002a56"/>
                </a:solidFill>
                <a:latin typeface="Arial"/>
              </a:rPr>
              <a:t> (unreadable text) by using an encoding function, such as an encryption algorithm or a secret list of substitution characters</a:t>
            </a:r>
            <a:endParaRPr b="0" lang="en-US" sz="2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C66632-458E-4013-9CDC-B1F5BAE10FB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aesar Cipher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Introduction to CrypTool:</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Originated as an awareness program for a large bank (internal training)</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Visualization of Algorithms</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74C57B-AEE7-4AFF-9CBC-7D9F858FB9F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2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a:t>
            </a:r>
            <a:r>
              <a:rPr b="0" i="1" lang="en-US" sz="2800" spc="-1" strike="noStrike">
                <a:solidFill>
                  <a:srgbClr val="003366"/>
                </a:solidFill>
                <a:latin typeface="Arial"/>
              </a:rPr>
              <a:t>Rotate by 13 places</a:t>
            </a:r>
            <a:r>
              <a:rPr b="0" lang="en-US" sz="2800" spc="-1" strike="noStrike">
                <a:solidFill>
                  <a:srgbClr val="003366"/>
                </a:solidFill>
                <a:latin typeface="Arial"/>
              </a:rPr>
              <a:t>”</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Replaces each letter by its partner 13 characters further along the alphabet</a:t>
            </a:r>
            <a:endParaRPr b="0" lang="en-US" sz="28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21853-3F50-4280-B809-8F4E40F3642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5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In the Basic Latin alphabet, ROT13 is its own invers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ea typeface="ＭＳ Ｐゴシック"/>
              </a:rPr>
              <a:t>That is, to undo ROT13, the same algorithm is applied, so the same action can be used for encoding and decoding (AKA a </a:t>
            </a:r>
            <a:r>
              <a:rPr b="1" lang="en-US" sz="2800" spc="-1" strike="noStrike">
                <a:solidFill>
                  <a:srgbClr val="003366"/>
                </a:solidFill>
                <a:latin typeface="Arial"/>
                <a:ea typeface="ＭＳ Ｐゴシック"/>
              </a:rPr>
              <a:t>Reciprocal Cipher</a:t>
            </a:r>
            <a:r>
              <a:rPr b="0" lang="en-US"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6E7C3-D2CB-4E34-A316-2411738CCAB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pic>
        <p:nvPicPr>
          <p:cNvPr id="263" name="Picture 1" descr=""/>
          <p:cNvPicPr/>
          <p:nvPr/>
        </p:nvPicPr>
        <p:blipFill>
          <a:blip r:embed="rId1"/>
          <a:stretch/>
        </p:blipFill>
        <p:spPr>
          <a:xfrm>
            <a:off x="1600200" y="2736720"/>
            <a:ext cx="6337440" cy="36640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14594D-6C14-4C64-AD91-5692248CB11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5"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3366"/>
                </a:solidFill>
                <a:latin typeface="Arial"/>
              </a:rPr>
              <a:t>The algorithm provides no cryptographic security, and is often cited as a canonical example of weak encryption</a:t>
            </a:r>
            <a:endParaRPr b="0" lang="en-US" sz="28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A32F12-BC0F-428F-A500-0FD0C43AF67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68"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ROT13</a:t>
            </a:r>
            <a:r>
              <a:rPr b="1" lang="ar-SA" sz="3600" spc="-1" strike="noStrike">
                <a:solidFill>
                  <a:srgbClr val="006666"/>
                </a:solidFill>
                <a:latin typeface="Arial"/>
                <a:ea typeface="Arial"/>
              </a:rPr>
              <a:t>‏</a:t>
            </a:r>
            <a:r>
              <a:rPr b="1" lang="en-US" sz="3600" spc="-1" strike="noStrike">
                <a:solidFill>
                  <a:srgbClr val="006666"/>
                </a:solidFill>
                <a:latin typeface="Arial"/>
                <a:ea typeface="Arial"/>
              </a:rPr>
              <a:t> (con’t)</a:t>
            </a:r>
            <a:endParaRPr b="0" lang="en-US" sz="3600" spc="-1" strike="noStrike">
              <a:solidFill>
                <a:srgbClr val="ffffff"/>
              </a:solidFill>
              <a:latin typeface="Arial"/>
            </a:endParaRPr>
          </a:p>
        </p:txBody>
      </p:sp>
      <p:sp>
        <p:nvSpPr>
          <p:cNvPr id="26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 Map upper case A-Z to N-ZA-M and lower case a-z to n-za-m</a:t>
            </a:r>
            <a:endParaRPr b="0" lang="en-US" sz="2000" spc="-1" strike="noStrike">
              <a:solidFill>
                <a:srgbClr val="ffffff"/>
              </a:solidFill>
              <a:latin typeface="Arial"/>
            </a:endParaRPr>
          </a:p>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 echo "The Quick Brown Fox Jumps Over The Lazy Dog" | tr 'A-Za-z' 'N-ZA-Mn-za-m‘</a:t>
            </a:r>
            <a:endParaRPr b="0" lang="en-US" sz="2000" spc="-1" strike="noStrike">
              <a:solidFill>
                <a:srgbClr val="ffffff"/>
              </a:solidFill>
              <a:latin typeface="Arial"/>
            </a:endParaRPr>
          </a:p>
          <a:p>
            <a:pPr marL="338040" indent="-338040">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000" spc="-1" strike="noStrike">
                <a:solidFill>
                  <a:srgbClr val="003366"/>
                </a:solidFill>
                <a:latin typeface="Arial"/>
              </a:rPr>
              <a:t>Gur Dhvpx Oebja Sbk Whzcf Bire Gur Ynml Qbt </a:t>
            </a:r>
            <a:endParaRPr b="0" lang="en-US" sz="20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1AD38D-FFA2-401E-B4E6-9605D1F3C70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endParaRPr b="0" lang="en-US" sz="3600" spc="-1" strike="noStrike">
              <a:solidFill>
                <a:srgbClr val="ffffff"/>
              </a:solidFill>
              <a:latin typeface="Arial"/>
            </a:endParaRPr>
          </a:p>
        </p:txBody>
      </p:sp>
      <p:sp>
        <p:nvSpPr>
          <p:cNvPr id="27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ja-JP" sz="2800" spc="-1" strike="noStrike">
                <a:solidFill>
                  <a:srgbClr val="003366"/>
                </a:solidFill>
                <a:latin typeface="Arial"/>
              </a:rPr>
              <a:t>“</a:t>
            </a:r>
            <a:r>
              <a:rPr b="0" i="1" lang="en-GB" sz="2800" spc="-1" strike="noStrike">
                <a:solidFill>
                  <a:srgbClr val="003366"/>
                </a:solidFill>
                <a:latin typeface="Arial"/>
              </a:rPr>
              <a:t>Human ingenuity cannot concoct a cipher which human ingenuity cannot resolve</a:t>
            </a:r>
            <a:r>
              <a:rPr b="0" lang="ja-JP" sz="2800" spc="-1" strike="noStrike">
                <a:solidFill>
                  <a:srgbClr val="00336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dgar Allen Poe</a:t>
            </a:r>
            <a:endParaRPr b="0" lang="en-US" sz="28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BB360-204D-4A62-988F-47F2A9AC36F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7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s the science of analyzing and breaking secure communication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Classical cryptanalysis involves a combination of analytical reasoning, application of mathematical tools, pattern finding, patience, determination, and luck</a:t>
            </a:r>
            <a:endParaRPr b="0" lang="en-US" sz="28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E7FD4-C112-4546-B54F-55F19B169DA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7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 cryptanalyst may break a cryptosystem with varying degrees of severity, ranging from deciphering some bits of information about a ciphertext to recovering the key</a:t>
            </a:r>
            <a:endParaRPr b="0" lang="en-US" sz="28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183BB4-2B16-4D0B-A896-17D1B950458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8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Levels of breaks:</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formation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stance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lobal Deduction</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otal Break</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A53F2C-8453-4DAD-829B-A4F9062729D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0"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ography (con</a:t>
            </a:r>
            <a:r>
              <a:rPr b="1" lang="ja-JP" sz="3600" spc="-1" strike="noStrike">
                <a:solidFill>
                  <a:srgbClr val="006666"/>
                </a:solidFill>
                <a:latin typeface="Arial"/>
              </a:rPr>
              <a:t>’</a:t>
            </a:r>
            <a:r>
              <a:rPr b="1" lang="en-GB" sz="3600" spc="-1" strike="noStrike">
                <a:solidFill>
                  <a:srgbClr val="006666"/>
                </a:solidFill>
                <a:latin typeface="Arial"/>
              </a:rPr>
              <a:t>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12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This encrypted text can then be transmitted or stored in many forms, including written messages and electronic data</a:t>
            </a: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B9F30D-4F5A-4F3D-BC99-6902DF86A54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Information Deduction</a:t>
            </a:r>
            <a:endParaRPr b="0" lang="en-US" sz="3600" spc="-1" strike="noStrike">
              <a:solidFill>
                <a:srgbClr val="ffffff"/>
              </a:solidFill>
              <a:latin typeface="Arial"/>
            </a:endParaRPr>
          </a:p>
        </p:txBody>
      </p:sp>
      <p:sp>
        <p:nvSpPr>
          <p:cNvPr id="28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s the lowest level of a break</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may obtain some bits of the key or some information about the plaintext</a:t>
            </a:r>
            <a:endParaRPr b="0" lang="en-US" sz="28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430B74-07A0-4CB7-833E-41C200381FE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Instance Deduction</a:t>
            </a:r>
            <a:endParaRPr b="0" lang="en-US" sz="3600" spc="-1" strike="noStrike">
              <a:solidFill>
                <a:srgbClr val="ffffff"/>
              </a:solidFill>
              <a:latin typeface="Arial"/>
            </a:endParaRPr>
          </a:p>
        </p:txBody>
      </p:sp>
      <p:sp>
        <p:nvSpPr>
          <p:cNvPr id="287"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finds the entire plaintext corresponding to an intercepted ciphertext</a:t>
            </a:r>
            <a:endParaRPr b="0" lang="en-US" sz="2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5145D9-3CFB-4EF9-81E9-0F9E9A81CA6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Global Deduction</a:t>
            </a:r>
            <a:endParaRPr b="0" lang="en-US" sz="3600" spc="-1" strike="noStrike">
              <a:solidFill>
                <a:srgbClr val="ffffff"/>
              </a:solidFill>
              <a:latin typeface="Arial"/>
            </a:endParaRPr>
          </a:p>
        </p:txBody>
      </p:sp>
      <p:sp>
        <p:nvSpPr>
          <p:cNvPr id="29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devices another cryptographic algorithm that decrypts a ciphertext to the same plaintext that would be obtained by the original algorithm</a:t>
            </a:r>
            <a:endParaRPr b="0" lang="en-US" sz="28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70D29C-7663-44C1-A816-A1234BE70D1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otal Break</a:t>
            </a:r>
            <a:endParaRPr b="0" lang="en-US" sz="3600" spc="-1" strike="noStrike">
              <a:solidFill>
                <a:srgbClr val="ffffff"/>
              </a:solidFill>
              <a:latin typeface="Arial"/>
            </a:endParaRPr>
          </a:p>
        </p:txBody>
      </p:sp>
      <p:sp>
        <p:nvSpPr>
          <p:cNvPr id="293"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cryptanalyst successfully recovers the key and can decrypt any encrypted messages</a:t>
            </a:r>
            <a:endParaRPr b="0" lang="en-US" sz="28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8E683B-DA02-44C4-A60F-C42266D15B42}"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a:t>
            </a:r>
            <a:endParaRPr b="0" lang="en-US" sz="3600" spc="-1" strike="noStrike">
              <a:solidFill>
                <a:srgbClr val="ffffff"/>
              </a:solidFill>
              <a:latin typeface="Arial"/>
            </a:endParaRPr>
          </a:p>
        </p:txBody>
      </p:sp>
      <p:sp>
        <p:nvSpPr>
          <p:cNvPr id="296"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ost cryptosystems are only </a:t>
            </a:r>
            <a:r>
              <a:rPr b="1" lang="en-GB" sz="2800" spc="-1" strike="noStrike">
                <a:solidFill>
                  <a:srgbClr val="003366"/>
                </a:solidFill>
                <a:latin typeface="Arial"/>
              </a:rPr>
              <a:t>computationally secure</a:t>
            </a:r>
            <a:r>
              <a:rPr b="0" lang="en-GB" sz="2800" spc="-1" strike="noStrike">
                <a:solidFill>
                  <a:srgbClr val="003366"/>
                </a:solidFill>
                <a:latin typeface="Arial"/>
              </a:rPr>
              <a:t>, meaning that with enough processing power and data storage, someone can eventually break the syste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800" spc="-1" strike="noStrike">
                <a:solidFill>
                  <a:srgbClr val="003366"/>
                </a:solidFill>
                <a:latin typeface="Arial"/>
              </a:rPr>
              <a:t>Eventually</a:t>
            </a:r>
            <a:r>
              <a:rPr b="0" lang="en-GB" sz="2800" spc="-1" strike="noStrike">
                <a:solidFill>
                  <a:srgbClr val="003366"/>
                </a:solidFill>
                <a:latin typeface="Arial"/>
              </a:rPr>
              <a:t> might be many times more than the age of the universe, but in theory, these systems can be broken</a:t>
            </a:r>
            <a:endParaRPr b="0" lang="en-US" sz="2800" spc="-1" strike="noStrike">
              <a:solidFill>
                <a:srgbClr val="ffffff"/>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70AAB0-37EC-447F-964F-6D8F32CB107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2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299"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dvances in computer technology reduce the computational difficulty of breaking a cryptosystem, whereas increasing key lengths makes it more difficult</a:t>
            </a:r>
            <a:endParaRPr b="0" lang="en-US" sz="2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ED8912-2A23-4E46-BEDE-8AB9B6E9955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02"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rPr>
              <a:t>Unconditionally Secure</a:t>
            </a:r>
            <a:r>
              <a:rPr b="0" lang="en-GB" sz="2800" spc="-1" strike="noStrike">
                <a:solidFill>
                  <a:srgbClr val="003366"/>
                </a:solidFill>
                <a:latin typeface="Arial"/>
              </a:rPr>
              <a:t>: a cryptosystem is said to be unconditionally secure if no amount of computing power or ciphertext can ever crack the cipher:</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eory, there is simply not enough information available to decipher an encrypted message even if an infinite amount of resources are available</a:t>
            </a:r>
            <a:endParaRPr b="0" lang="en-US" sz="28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4D71EE-3CB5-4CE9-A3B9-E708348F0B1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omputational Difficult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05"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Unconditionally Secure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e-time pads are the only examples of unconditionally secure cryptosystems (OTPs are briefly discussed in the section on stream ciphers)</a:t>
            </a:r>
            <a:endParaRPr b="0" lang="en-US" sz="2800" spc="-1" strike="noStrike">
              <a:solidFill>
                <a:srgbClr val="ffffff"/>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8B1AA-E78E-49DA-9047-E733A9907D1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0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a:t>
            </a:r>
            <a:endParaRPr b="0" lang="en-US" sz="3600" spc="-1" strike="noStrike">
              <a:solidFill>
                <a:srgbClr val="ffffff"/>
              </a:solidFill>
              <a:latin typeface="Arial"/>
            </a:endParaRPr>
          </a:p>
        </p:txBody>
      </p:sp>
      <p:sp>
        <p:nvSpPr>
          <p:cNvPr id="308"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the English alphabet, there are 26! (26! Is 26 x 25 x 24… x 2 x 1), or approximately 4 x 10</a:t>
            </a:r>
            <a:r>
              <a:rPr b="0" lang="en-GB" sz="2800" spc="-1" strike="noStrike" baseline="30000">
                <a:solidFill>
                  <a:srgbClr val="003366"/>
                </a:solidFill>
                <a:latin typeface="Arial"/>
              </a:rPr>
              <a:t>26</a:t>
            </a:r>
            <a:r>
              <a:rPr b="0" lang="en-GB" sz="2800" spc="-1" strike="noStrike">
                <a:solidFill>
                  <a:srgbClr val="003366"/>
                </a:solidFill>
                <a:latin typeface="Arial"/>
              </a:rPr>
              <a:t> possible pairings of letter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f it takes 1 nanosecond (one billionth of a second, or 10</a:t>
            </a:r>
            <a:r>
              <a:rPr b="0" lang="en-GB" sz="2800" spc="-1" strike="noStrike" baseline="30000">
                <a:solidFill>
                  <a:srgbClr val="003366"/>
                </a:solidFill>
                <a:latin typeface="Arial"/>
              </a:rPr>
              <a:t>-9</a:t>
            </a:r>
            <a:r>
              <a:rPr b="0" lang="en-GB" sz="2800" spc="-1" strike="noStrike">
                <a:solidFill>
                  <a:srgbClr val="003366"/>
                </a:solidFill>
                <a:latin typeface="Arial"/>
              </a:rPr>
              <a:t> second) to try each pairing, it will take roughly 10 thousand million years to break a monoalphabetic substitution cipher by brute-force attack</a:t>
            </a:r>
            <a:endParaRPr b="0" lang="en-US" sz="2800" spc="-1" strike="noStrike">
              <a:solidFill>
                <a:srgbClr val="ffffff"/>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8FB41-69F8-40BE-8DF4-B47286443F95}"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11"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t turns out, however, that by using statistical and frequency analysis of a language and determining the letters and letter sequences that are more likely to appear than others, it is relatively easy to break monoalphabetic substitution cipher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5506EE-BCE5-4EB7-81AE-ACCBBE71187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3"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Examples of Applied Cryptography</a:t>
            </a:r>
            <a:endParaRPr b="0" lang="en-US" sz="3600" spc="-1" strike="noStrike">
              <a:solidFill>
                <a:srgbClr val="ffffff"/>
              </a:solidFill>
              <a:latin typeface="Arial"/>
            </a:endParaRPr>
          </a:p>
        </p:txBody>
      </p:sp>
      <p:sp>
        <p:nvSpPr>
          <p:cNvPr id="12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Phone cards, cell phones, remote control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Cash machines, money transfer between banks</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Electronic cash, online banking, secure email</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Satellite TV, pay-per-view TV</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Digital Rights Management (DRM)</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US" sz="2800" spc="-1" strike="noStrike">
                <a:solidFill>
                  <a:srgbClr val="002a56"/>
                </a:solidFill>
                <a:latin typeface="Arial"/>
              </a:rPr>
              <a:t>Etc., etc…</a:t>
            </a: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BD85EA-C537-4017-966C-F8D99B28626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1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Historically, cryptanalysts used </a:t>
            </a:r>
            <a:r>
              <a:rPr b="1" lang="en-GB" sz="2800" spc="-1" strike="noStrike">
                <a:solidFill>
                  <a:srgbClr val="003366"/>
                </a:solidFill>
                <a:latin typeface="Arial"/>
              </a:rPr>
              <a:t>frequency analysis</a:t>
            </a:r>
            <a:r>
              <a:rPr b="0" lang="en-GB" sz="2800" spc="-1" strike="noStrike">
                <a:solidFill>
                  <a:srgbClr val="003366"/>
                </a:solidFill>
                <a:latin typeface="Arial"/>
              </a:rPr>
              <a:t> to examine the number of times certain letters appeared in a message and extrapolated likely character substitutions</a:t>
            </a:r>
            <a:endParaRPr b="0" lang="en-US" sz="2800" spc="-1" strike="noStrike">
              <a:solidFill>
                <a:srgbClr val="ffffff"/>
              </a:solidFill>
              <a:latin typeface="Arial"/>
            </a:endParaRPr>
          </a:p>
          <a:p>
            <a:pPr lvl="1" marL="743040" indent="-2858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x.: letters such as E and T appear more frequently in the English language than Z and X</a:t>
            </a:r>
            <a:endParaRPr b="0" lang="en-US" sz="28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3A74B6-6F63-43C1-A169-1B4B1E4C8C0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6666"/>
                </a:solidFill>
                <a:latin typeface="Arial"/>
              </a:rPr>
              <a:t>Linguistic Patterns: Frequency</a:t>
            </a:r>
            <a:endParaRPr b="0" lang="en-US" sz="3600" spc="-1" strike="noStrike">
              <a:solidFill>
                <a:srgbClr val="ffffff"/>
              </a:solidFill>
              <a:latin typeface="Arial"/>
            </a:endParaRPr>
          </a:p>
        </p:txBody>
      </p:sp>
      <p:pic>
        <p:nvPicPr>
          <p:cNvPr id="317" name="Picture 4" descr=""/>
          <p:cNvPicPr/>
          <p:nvPr/>
        </p:nvPicPr>
        <p:blipFill>
          <a:blip r:embed="rId1"/>
          <a:stretch/>
        </p:blipFill>
        <p:spPr>
          <a:xfrm>
            <a:off x="1631880" y="2514600"/>
            <a:ext cx="6445440" cy="4038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EB9C0C-42B4-40C1-B418-EE3EADBCEB7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1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Cryptanalysis</a:t>
            </a:r>
            <a:r>
              <a:rPr b="1" lang="ar-SA" sz="3600" spc="-1" strike="noStrike">
                <a:solidFill>
                  <a:srgbClr val="006666"/>
                </a:solidFill>
                <a:latin typeface="Arial"/>
                <a:ea typeface="Arial"/>
              </a:rPr>
              <a:t>‏</a:t>
            </a:r>
            <a:r>
              <a:rPr b="1" lang="en-GB" sz="3600" spc="-1" strike="noStrike">
                <a:solidFill>
                  <a:srgbClr val="006666"/>
                </a:solidFill>
                <a:latin typeface="Arial"/>
              </a:rPr>
              <a:t> on </a:t>
            </a:r>
            <a:endParaRPr b="0" lang="en-US" sz="3600" spc="-1" strike="noStrike">
              <a:solidFill>
                <a:srgbClr val="ffffff"/>
              </a:solidFill>
              <a:latin typeface="Arial"/>
            </a:endParaRPr>
          </a:p>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ubstitution Ciphers (con't)</a:t>
            </a:r>
            <a:r>
              <a:rPr b="1" lang="ar-SA" sz="3600" spc="-1" strike="noStrike">
                <a:solidFill>
                  <a:srgbClr val="006666"/>
                </a:solidFill>
                <a:latin typeface="Arial"/>
                <a:ea typeface="Arial"/>
              </a:rPr>
              <a:t>‏</a:t>
            </a:r>
            <a:endParaRPr b="0" lang="en-US" sz="3600" spc="-1" strike="noStrike">
              <a:solidFill>
                <a:srgbClr val="ffffff"/>
              </a:solidFill>
              <a:latin typeface="Arial"/>
            </a:endParaRPr>
          </a:p>
        </p:txBody>
      </p:sp>
      <p:sp>
        <p:nvSpPr>
          <p:cNvPr id="32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The engine that generates the stream does not vary; the only change is the plaintext itself</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Because of this, the attacker can examine streams and determine the key</a:t>
            </a:r>
            <a:endParaRPr b="0" lang="en-US" sz="28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23A29-5B10-461D-BB43-1BB2B6347C9D}"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2"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Monoalphabetic Substitution Ciphers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23" name="Text Box 3"/>
          <p:cNvSpPr/>
          <p:nvPr/>
        </p:nvSpPr>
        <p:spPr>
          <a:xfrm>
            <a:off x="838080" y="2362320"/>
            <a:ext cx="7693200" cy="372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4"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lvl="1" marL="3380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2_Fun_With_Cryptograms</a:t>
            </a:r>
            <a:endParaRPr b="0" lang="en-US" sz="28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EBFD5C-0037-4E9E-8BCC-7227DA7176F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alphabetic Substitution Cipher</a:t>
            </a:r>
            <a:endParaRPr b="0" lang="en-US" sz="3600" spc="-1" strike="noStrike">
              <a:solidFill>
                <a:srgbClr val="ffffff"/>
              </a:solidFill>
              <a:latin typeface="Arial"/>
            </a:endParaRPr>
          </a:p>
        </p:txBody>
      </p:sp>
      <p:sp>
        <p:nvSpPr>
          <p:cNvPr id="32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Multiple alphabets are used for the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Usually, this is nothing more than using a unique monoalphabetic substitution cipher</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Vigenere cipher</a:t>
            </a:r>
            <a:endParaRPr b="0" lang="en-US" sz="28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024774-47DA-41AF-848F-11710275663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2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Polyalphabetic Substitu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In general, all polyalphabetic ciphers are similar in the following way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defined key(word) determines the shift of each lett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A set of monoalphabetic substitutions are used</a:t>
            </a:r>
            <a:endParaRPr b="0" lang="en-US" sz="2800" spc="-1" strike="noStrike">
              <a:solidFill>
                <a:srgbClr val="ffffff"/>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425EBB-A331-4934-A9F7-2EA4D54EDD4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a:t>
            </a:r>
            <a:endParaRPr b="0" lang="en-US" sz="3600" spc="-1" strike="noStrike">
              <a:solidFill>
                <a:srgbClr val="ffffff"/>
              </a:solidFill>
              <a:latin typeface="Arial"/>
            </a:endParaRPr>
          </a:p>
        </p:txBody>
      </p:sp>
      <p:sp>
        <p:nvSpPr>
          <p:cNvPr id="33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you need a chart diagramming the possible alphabet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e Vigenere chart:</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3_Vigenere_Chart</a:t>
            </a:r>
            <a:endParaRPr b="0" lang="en-US" sz="2800" spc="-1" strike="noStrike">
              <a:solidFill>
                <a:srgbClr val="ffffff"/>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AD01C7-F823-46AC-9C72-A119FF71FB3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is chart appears to be identical to the Caesar Shifting chart, but the difference is along the left-hand sid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Vigenere chart has letters instead of numb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868070-2E71-49A6-A554-1C8F0D5F64D1}"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3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3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Generate the plaintext messag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Today we move, be prepared.</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emove any punctuation and spaces, and re-write the messag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TODAYWEMOVEBEPREPARED</a:t>
            </a:r>
            <a:endParaRPr b="0" lang="en-US" sz="18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AE40E9-65C6-459D-80D4-3439C3FC915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ext, create a key(word):</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MOVE</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lace the keyword above the plaintext, and repeat it until every letter of the plaintext is cover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05A002-C7C2-427F-B4CF-32004DFBA2D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6"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a:t>
            </a:r>
            <a:endParaRPr b="0" lang="en-US" sz="3600" spc="-1" strike="noStrike">
              <a:solidFill>
                <a:srgbClr val="ffffff"/>
              </a:solidFill>
              <a:latin typeface="Arial"/>
            </a:endParaRPr>
          </a:p>
        </p:txBody>
      </p:sp>
      <p:sp>
        <p:nvSpPr>
          <p:cNvPr id="127"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rPr>
              <a:t>Protections provided:</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Confidentialit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uthentic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ntegrit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Nonrepudi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ccess control</a:t>
            </a:r>
            <a:endParaRPr b="0" lang="en-US" sz="2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8F45B5-CFA8-409E-8201-BF3D2E5D390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astly, use the Vigenere chart to map the keyword letter (horizontal letters in chart) with the plaintext letter (vertical letters in chart) to create the ciphertext</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F64709-2F89-46A4-A132-12C9ADB73BF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4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4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a:t>
            </a:r>
            <a:r>
              <a:rPr b="0" lang="en-GB" sz="1800" spc="-1" strike="noStrike">
                <a:solidFill>
                  <a:srgbClr val="003366"/>
                </a:solidFill>
                <a:latin typeface="Arial"/>
                <a:ea typeface="ＭＳ Ｐゴシック"/>
              </a:rPr>
              <a:t>MOVEM OV EMOV EM OVEMOVEM</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TODAY WE MOVE BE PREPARED</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FCYEK KZ QAJZ FQ DMIBOMIP</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18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FB4908-C95A-4269-A5DE-2A455E315CE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primary way to break this cipher was not to go right into decoding the message, but instead, in figuring out the key</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key length was determined, the ciphertext could be broken into smaller groups of characters, which could be decoded using frequency analysi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E3F65-A9FB-4B60-AD94-994682DE3F4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 (con</a:t>
            </a:r>
            <a:r>
              <a:rPr b="0" lang="ja-JP" sz="2800" spc="-1" strike="noStrike">
                <a:solidFill>
                  <a:srgbClr val="003366"/>
                </a:solidFill>
                <a:latin typeface="Arial"/>
              </a:rPr>
              <a:t>’</a:t>
            </a:r>
            <a:r>
              <a:rPr b="0" lang="en-GB" sz="2800" spc="-1" strike="noStrike">
                <a:solidFill>
                  <a:srgbClr val="003366"/>
                </a:solidFill>
                <a:latin typeface="Arial"/>
              </a:rPr>
              <a:t>t): </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e complexity and length of the key became the critical component (and strength) of this cipher</a:t>
            </a:r>
            <a:endParaRPr b="0" lang="en-US" sz="2800" spc="-1" strike="noStrike">
              <a:solidFill>
                <a:srgbClr val="ffffff"/>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8A0E69-46D1-4E6B-BCA8-9332D8F5F7D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Vigenere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5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You</a:t>
            </a:r>
            <a:r>
              <a:rPr b="0" lang="ja-JP" sz="2800" spc="-1" strike="noStrike">
                <a:solidFill>
                  <a:srgbClr val="003366"/>
                </a:solidFill>
                <a:latin typeface="Arial"/>
              </a:rPr>
              <a:t>’</a:t>
            </a:r>
            <a:r>
              <a:rPr b="0" lang="en-GB" sz="2800" spc="-1" strike="noStrike">
                <a:solidFill>
                  <a:srgbClr val="003366"/>
                </a:solidFill>
                <a:latin typeface="Arial"/>
              </a:rPr>
              <a:t>ll see as we progress w/the material how this cipher has evolved into very complex and long keys to create very secure messages</a:t>
            </a:r>
            <a:endParaRPr b="0" lang="en-US" sz="2800" spc="-1" strike="noStrike">
              <a:solidFill>
                <a:srgbClr val="ffffff"/>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08EAE-F9BB-4A6F-BCBC-61328F7C5A0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5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a:t>
            </a:r>
            <a:endParaRPr b="0" lang="en-US" sz="3600" spc="-1" strike="noStrike">
              <a:solidFill>
                <a:srgbClr val="ffffff"/>
              </a:solidFill>
              <a:latin typeface="Arial"/>
            </a:endParaRPr>
          </a:p>
        </p:txBody>
      </p:sp>
      <p:sp>
        <p:nvSpPr>
          <p:cNvPr id="36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Keeps the original letters and shifts their positions so the end result in unreadabl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ove characters left 3 spac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Mix a few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plit Rail cipher</a:t>
            </a:r>
            <a:endParaRPr b="0" lang="en-US" sz="2800" spc="-1" strike="noStrike">
              <a:solidFill>
                <a:srgbClr val="ffffff"/>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5B25B5-AB2E-4906-90E9-2008F54AFC7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mples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Numbered Transposition Table</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ubstitution and Numbered Transposition Table</a:t>
            </a:r>
            <a:endParaRPr b="0" lang="en-US" sz="2800" spc="-1" strike="noStrike">
              <a:solidFill>
                <a:srgbClr val="ffffff"/>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D56DCA-D4B4-4416-89AE-4DAEE5B9DB58}"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move the characters left 3 spac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caesar shift</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sarshi ftcae</a:t>
            </a:r>
            <a:endParaRPr b="0" lang="en-US" sz="1800" spc="-1" strike="noStrike">
              <a:solidFill>
                <a:srgbClr val="ffffff"/>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F913E4-4DEF-40AC-A247-E58DA18D0BE0}"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6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6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mited to English characters, and linguistic patter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asy to </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eye up</a:t>
            </a:r>
            <a:r>
              <a:rPr b="0" lang="ja-JP"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428B8-733E-4413-9C15-E9AC641CCDD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7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2: mix of a few letter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caesar shift</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a:t>
            </a:r>
            <a:r>
              <a:rPr b="0" lang="en-GB" sz="1800" spc="-1" strike="noStrike">
                <a:solidFill>
                  <a:srgbClr val="003366"/>
                </a:solidFill>
                <a:latin typeface="Arial"/>
                <a:ea typeface="ＭＳ Ｐゴシック"/>
              </a:rPr>
              <a:t>saesat chifr</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Here, the first and last letters of the plaintext words were switched</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F34B0D-74ED-4048-8FD1-BED73500BD1A}"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129" name="Text Box 2"/>
          <p:cNvSpPr/>
          <p:nvPr/>
        </p:nvSpPr>
        <p:spPr>
          <a:xfrm>
            <a:off x="833400" y="833400"/>
            <a:ext cx="7780320" cy="998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Benefits of Cryptography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130" name="Text Box 3"/>
          <p:cNvSpPr/>
          <p:nvPr/>
        </p:nvSpPr>
        <p:spPr>
          <a:xfrm>
            <a:off x="838080" y="2362320"/>
            <a:ext cx="76932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2a56"/>
                </a:solidFill>
                <a:latin typeface="Arial"/>
              </a:rPr>
              <a:t>Confidentiality</a:t>
            </a:r>
            <a:r>
              <a:rPr b="0" lang="en-GB" sz="2800" spc="-1" strike="noStrike">
                <a:solidFill>
                  <a:srgbClr val="002a56"/>
                </a:solidFill>
                <a:latin typeface="Arial"/>
              </a:rPr>
              <a: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Allows only authorized users to access the information</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2a56"/>
                </a:solidFill>
                <a:latin typeface="Arial"/>
                <a:ea typeface="ＭＳ Ｐゴシック"/>
              </a:rPr>
              <a:t>Implemented through Symmetric and Asymmetric cryptography</a:t>
            </a:r>
            <a:endParaRPr b="0" lang="en-US" sz="2800" spc="-1" strike="noStrike">
              <a:solidFill>
                <a:srgbClr val="ffffff"/>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3FE18B-85A3-4023-898F-EEFEE6E8AA07}"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4"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75"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mited to English characters, and linguistic pattern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Easy to </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eye up</a:t>
            </a:r>
            <a:r>
              <a:rPr b="0" lang="ja-JP" sz="2800" spc="-1" strike="noStrike">
                <a:solidFill>
                  <a:srgbClr val="003366"/>
                </a:solidFill>
                <a:latin typeface="Arial"/>
                <a:ea typeface="ＭＳ Ｐゴシック"/>
              </a:rPr>
              <a:t>”</a:t>
            </a:r>
            <a:endParaRPr b="0" lang="en-US" sz="2800" spc="-1" strike="noStrike">
              <a:solidFill>
                <a:srgbClr val="ffffff"/>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9A47B2-0D8A-4ED2-B7B0-D9C5C1FB4AE9}"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77"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a:t>
            </a:r>
            <a:endParaRPr b="0" lang="en-US" sz="3600" spc="-1" strike="noStrike">
              <a:solidFill>
                <a:srgbClr val="ffffff"/>
              </a:solidFill>
              <a:latin typeface="Arial"/>
            </a:endParaRPr>
          </a:p>
        </p:txBody>
      </p:sp>
      <p:sp>
        <p:nvSpPr>
          <p:cNvPr id="378"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AKA </a:t>
            </a:r>
            <a:r>
              <a:rPr b="1" lang="en-GB" sz="2800" spc="-1" strike="noStrike">
                <a:solidFill>
                  <a:srgbClr val="003366"/>
                </a:solidFill>
                <a:latin typeface="Arial"/>
              </a:rPr>
              <a:t>Rail Fence technique</a:t>
            </a:r>
            <a:endParaRPr b="0" lang="en-US" sz="2800" spc="-1" strike="noStrike">
              <a:solidFill>
                <a:srgbClr val="ffffff"/>
              </a:solidFill>
              <a:latin typeface="Arial"/>
            </a:endParaRPr>
          </a:p>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One of the first transposition ciphers that gets more complex than the previous examples</a:t>
            </a:r>
            <a:endParaRPr b="0" lang="en-US" sz="2800" spc="-1" strike="noStrike">
              <a:solidFill>
                <a:srgbClr val="ffffff"/>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5D82D-18E8-4645-A79A-F5AF5B904E64}"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0"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1"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p: </a:t>
            </a:r>
            <a:r>
              <a:rPr b="0" lang="en-GB" sz="1800" spc="-1" strike="noStrike">
                <a:solidFill>
                  <a:srgbClr val="003366"/>
                </a:solidFill>
                <a:latin typeface="Arial"/>
                <a:ea typeface="ＭＳ Ｐゴシック"/>
              </a:rPr>
              <a:t>So far there has been little math, which makes me happy!</a:t>
            </a:r>
            <a:endParaRPr b="0" lang="en-US" sz="1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First, remove any punctuation and spaces, and re-write the message:</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OFARTHEREHASBEENLITTLEMATHWHICHMAKESMEHAPPY</a:t>
            </a:r>
            <a:endParaRPr b="0" lang="en-US" sz="1800" spc="-1" strike="noStrike">
              <a:solidFill>
                <a:srgbClr val="ffffff"/>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21151-2853-4897-892F-F14FD828587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3"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4"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k: make two rails (or lines); one on top of the other. Take every other character from the key(word), placing them on a separate rail (line):</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ne one: </a:t>
            </a:r>
            <a:r>
              <a:rPr b="0" lang="en-GB" sz="1800" spc="-1" strike="noStrike">
                <a:solidFill>
                  <a:srgbClr val="003366"/>
                </a:solidFill>
                <a:latin typeface="Arial"/>
                <a:ea typeface="ＭＳ Ｐゴシック"/>
              </a:rPr>
              <a:t>SFRHRHSENITEAHHCMKSEAP</a:t>
            </a:r>
            <a:endParaRPr b="0" lang="en-US" sz="1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Line two: </a:t>
            </a:r>
            <a:r>
              <a:rPr b="0" lang="en-GB" sz="1800" spc="-1" strike="noStrike">
                <a:solidFill>
                  <a:srgbClr val="003366"/>
                </a:solidFill>
                <a:latin typeface="Arial"/>
                <a:ea typeface="ＭＳ Ｐゴシック"/>
              </a:rPr>
              <a:t>OATEEABELTLMTWIHAEMHPY</a:t>
            </a:r>
            <a:endParaRPr b="0" lang="en-US" sz="1800" spc="-1" strike="noStrike">
              <a:solidFill>
                <a:srgbClr val="ffffff"/>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14DCAA-810B-4806-ABD9-EBC226D4776F}"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6"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87"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c: take line one and add line two to its end:</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FRHRHSENITEAHHCMKSEAPOATEEABELTLMTWIHAEMHPY</a:t>
            </a:r>
            <a:endParaRPr b="0" lang="en-US" sz="1800" spc="-1" strike="noStrike">
              <a:solidFill>
                <a:srgbClr val="ffffff"/>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DFCCAF-D0FC-478F-A008-E8BEE768A5D6}"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89"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Split Rail Cipher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0"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type of algorithm being used is determined (e.g., transposition cipher), the analyst would simply try different combinations of spacing, until eventually the words jump out of the ciphertext</a:t>
            </a:r>
            <a:endParaRPr b="0" lang="en-US" sz="2800" spc="-1" strike="noStrike">
              <a:solidFill>
                <a:srgbClr val="ffffff"/>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9B0721-27FD-44DD-8C89-6303A9CFEEA3}"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2"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a:t>
            </a:r>
            <a:endParaRPr b="0" lang="en-US" sz="3600" spc="-1" strike="noStrike">
              <a:solidFill>
                <a:srgbClr val="ffffff"/>
              </a:solidFill>
              <a:latin typeface="Arial"/>
            </a:endParaRPr>
          </a:p>
        </p:txBody>
      </p:sp>
      <p:sp>
        <p:nvSpPr>
          <p:cNvPr id="393"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Building on the previous example, let</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add more complexity to the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See Transposition Tabl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800" spc="-1" strike="noStrike">
                <a:solidFill>
                  <a:srgbClr val="003366"/>
                </a:solidFill>
                <a:latin typeface="Arial"/>
                <a:ea typeface="ＭＳ Ｐゴシック"/>
              </a:rPr>
              <a:t>Lab: 4_Transposition_Table</a:t>
            </a:r>
            <a:endParaRPr b="0" lang="en-US" sz="2800" spc="-1" strike="noStrike">
              <a:solidFill>
                <a:srgbClr val="ffffff"/>
              </a:solidFill>
              <a:latin typeface="Arial"/>
            </a:endParaRPr>
          </a:p>
          <a:p>
            <a:pPr lvl="2" marL="12524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This table is 7 characters wide</a:t>
            </a:r>
            <a:endParaRPr b="0" lang="en-US" sz="2800" spc="-1" strike="noStrike">
              <a:solidFill>
                <a:srgbClr val="ffffff"/>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EF0706-3C66-455A-AD2C-D5BD3272BABC}"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5"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6"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con</a:t>
            </a:r>
            <a:r>
              <a:rPr b="0" lang="ja-JP" sz="2800" spc="-1" strike="noStrike">
                <a:solidFill>
                  <a:srgbClr val="003366"/>
                </a:solidFill>
                <a:latin typeface="Arial"/>
              </a:rPr>
              <a:t>’</a:t>
            </a:r>
            <a:r>
              <a:rPr b="0" lang="en-GB" sz="2800" spc="-1" strike="noStrike">
                <a:solidFill>
                  <a:srgbClr val="003366"/>
                </a:solidFill>
                <a:latin typeface="Arial"/>
              </a:rPr>
              <a:t>t):</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Read each column downward to produce the following ciphertext:</a:t>
            </a:r>
            <a:endParaRPr b="0" lang="en-US" sz="2800" spc="-1" strike="noStrike">
              <a:solidFill>
                <a:srgbClr val="ffffff"/>
              </a:solidFill>
              <a:latin typeface="Arial"/>
            </a:endParaRPr>
          </a:p>
          <a:p>
            <a:pPr lvl="1" marL="795240" indent="-338040">
              <a:lnSpc>
                <a:spcPct val="10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1800" spc="-1" strike="noStrike">
                <a:solidFill>
                  <a:srgbClr val="003366"/>
                </a:solidFill>
                <a:latin typeface="Arial"/>
                <a:ea typeface="ＭＳ Ｐゴシック"/>
              </a:rPr>
              <a:t>SEELHEPOREEISYFENMCMAHLAHERAITMHTSTHAAHBTWKP</a:t>
            </a:r>
            <a:endParaRPr b="0" lang="en-US" sz="1800" spc="-1" strike="noStrike">
              <a:solidFill>
                <a:srgbClr val="ffffff"/>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8A5D5-F457-4EE1-BE0B-9FBC56D1F1AE}"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398"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Transposition Table (con</a:t>
            </a:r>
            <a:r>
              <a:rPr b="1" lang="ja-JP" sz="3600" spc="-1" strike="noStrike">
                <a:solidFill>
                  <a:srgbClr val="006666"/>
                </a:solidFill>
                <a:latin typeface="Arial"/>
              </a:rPr>
              <a:t>’</a:t>
            </a:r>
            <a:r>
              <a:rPr b="1" lang="en-GB" sz="3600" spc="-1" strike="noStrike">
                <a:solidFill>
                  <a:srgbClr val="006666"/>
                </a:solidFill>
                <a:latin typeface="Arial"/>
              </a:rPr>
              <a:t>t)</a:t>
            </a:r>
            <a:endParaRPr b="0" lang="en-US" sz="3600" spc="-1" strike="noStrike">
              <a:solidFill>
                <a:srgbClr val="ffffff"/>
              </a:solidFill>
              <a:latin typeface="Arial"/>
            </a:endParaRPr>
          </a:p>
        </p:txBody>
      </p:sp>
      <p:sp>
        <p:nvSpPr>
          <p:cNvPr id="399"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Weaknesses:</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Once the type of algorithm being used is determined (e.g., transposition cipher), and if the ciphertext is short, the analyst starts by recreating the table (e.g., write columns of 3, 4, 5 letters, and so on)</a:t>
            </a:r>
            <a:endParaRPr b="0" lang="en-US" sz="2800" spc="-1" strike="noStrike">
              <a:solidFill>
                <a:srgbClr val="ffffff"/>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1"/>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09462-13E3-4093-AE78-45DE566B776B}" type="slidenum">
              <a:rPr b="1" lang="en-GB" sz="2600" spc="-1" strike="noStrike">
                <a:solidFill>
                  <a:srgbClr val="ffffff"/>
                </a:solidFill>
                <a:latin typeface="Arial"/>
              </a:rPr>
              <a:t>&lt;number&gt;</a:t>
            </a:fld>
            <a:endParaRPr b="0" lang="en-US" sz="2600" spc="-1" strike="noStrike">
              <a:solidFill>
                <a:srgbClr val="ffffff"/>
              </a:solidFill>
              <a:latin typeface="Arial"/>
            </a:endParaRPr>
          </a:p>
        </p:txBody>
      </p:sp>
      <p:sp>
        <p:nvSpPr>
          <p:cNvPr id="401" name="Text Box 2"/>
          <p:cNvSpPr/>
          <p:nvPr/>
        </p:nvSpPr>
        <p:spPr>
          <a:xfrm>
            <a:off x="833400" y="754200"/>
            <a:ext cx="7780320" cy="10792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600" spc="-1" strike="noStrike">
                <a:solidFill>
                  <a:srgbClr val="006666"/>
                </a:solidFill>
                <a:latin typeface="Arial"/>
              </a:rPr>
              <a:t>Numbered Transposition Table</a:t>
            </a:r>
            <a:endParaRPr b="0" lang="en-US" sz="3600" spc="-1" strike="noStrike">
              <a:solidFill>
                <a:srgbClr val="ffffff"/>
              </a:solidFill>
              <a:latin typeface="Arial"/>
            </a:endParaRPr>
          </a:p>
        </p:txBody>
      </p:sp>
      <p:sp>
        <p:nvSpPr>
          <p:cNvPr id="402" name="Text Box 3"/>
          <p:cNvSpPr/>
          <p:nvPr/>
        </p:nvSpPr>
        <p:spPr>
          <a:xfrm>
            <a:off x="838080" y="2362320"/>
            <a:ext cx="7693200" cy="37242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rPr>
              <a:t>Ex. 1:</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Building on the previous example, let</a:t>
            </a:r>
            <a:r>
              <a:rPr b="0" lang="ja-JP" sz="2800" spc="-1" strike="noStrike">
                <a:solidFill>
                  <a:srgbClr val="003366"/>
                </a:solidFill>
                <a:latin typeface="Arial"/>
                <a:ea typeface="ＭＳ Ｐゴシック"/>
              </a:rPr>
              <a:t>’</a:t>
            </a:r>
            <a:r>
              <a:rPr b="0" lang="en-GB" sz="2800" spc="-1" strike="noStrike">
                <a:solidFill>
                  <a:srgbClr val="003366"/>
                </a:solidFill>
                <a:latin typeface="Arial"/>
                <a:ea typeface="ＭＳ Ｐゴシック"/>
              </a:rPr>
              <a:t>s continue to add complexity to the cipher</a:t>
            </a:r>
            <a:endParaRPr b="0" lang="en-US" sz="2800" spc="-1" strike="noStrike">
              <a:solidFill>
                <a:srgbClr val="ffffff"/>
              </a:solidFill>
              <a:latin typeface="Arial"/>
            </a:endParaRPr>
          </a:p>
          <a:p>
            <a:pPr lvl="1" marL="795240" indent="-338040">
              <a:lnSpc>
                <a:spcPct val="100000"/>
              </a:lnSpc>
              <a:spcBef>
                <a:spcPts val="700"/>
              </a:spcBef>
              <a:buClr>
                <a:srgbClr val="003366"/>
              </a:buClr>
              <a:buFont typeface="Wingdings" charset="2"/>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3366"/>
                </a:solidFill>
                <a:latin typeface="Arial"/>
                <a:ea typeface="ＭＳ Ｐゴシック"/>
              </a:rPr>
              <a:t>In the previous Transposition table, we created a table of letter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asey O'Brien</cp:lastModifiedBy>
  <dcterms:modified xsi:type="dcterms:W3CDTF">2014-01-14T15:10:01Z</dcterms:modified>
  <cp:revision>665</cp:revision>
  <dc:subject/>
  <dc:title>Slide 1</dc:title>
</cp:coreProperties>
</file>