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0" y="0"/>
            <a:ext cx="3170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145040" y="0"/>
            <a:ext cx="3170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8560" y="720720"/>
            <a:ext cx="4792680" cy="359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9320" bIns="493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59320" cy="4314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0" y="911844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7"/>
          </p:nvPr>
        </p:nvSpPr>
        <p:spPr>
          <a:xfrm>
            <a:off x="4144680" y="9121320"/>
            <a:ext cx="3165480" cy="474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276DF-F953-4705-8969-CDD7E3DDBCF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9CBE6-C643-44EF-AC87-42F094BA6E9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DB361-6C80-4BA8-A1EB-41AAD9DA81A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FD266-8378-4697-A5F6-1AAEFA38FB9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204E4CF-D74D-404D-A2AC-0E1F721040F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7EA92-2986-48FB-BC22-04DCA98C369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7AEB2-1A0C-479C-B34D-2061D4B82FE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AC84A-1A92-4BD9-8794-47352A4EE57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D08A9-50CC-4A25-B547-7A4AE4140B3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E18C9-A38F-456D-95F1-557C15C53DE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7C4EA-3816-4C6A-B39D-ED46486898E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http://en.wikipedia.org/wiki/SH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AA14B-8229-4133-9630-C3EF47BD1A1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http://en.wikipedia.org/wiki/SH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F6B35-649D-4DB4-8C1A-12C1924BE8C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58C1A-989D-49F7-AA86-85AD214DA21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7CDE8-861C-47E0-8F4A-CDB62963AA6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46567-0EA9-4F14-8888-E3BDFD7425C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F711120-003B-455F-88AA-3FBA686EE33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44F67-F5E7-45A4-B802-CC18ABE8CEF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FF95161-A774-4571-BDCA-DDF749234EC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F7DDA-4E8E-4037-A45A-625D0A2741D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13859D2-C480-4A10-AA41-F7DDC765E21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456B4-93CA-474C-B2AB-5A3BECE9027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92D6244-D877-4996-893A-193930DA07D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751DC-2AC2-4EE7-96FE-048D4186A6E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0DD75C3-FD8C-4A49-8198-D12D59ACCA4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1FF6A-19A5-4861-AAEB-AC3DE1E88E3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8F48534-6E5B-4029-A0CA-4F0821D553B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835E3-7F5F-48EB-BDA7-A7B2D94A073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95C521D-27D7-4846-9AE6-594EC6880C6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029C5-73E9-4091-BAC3-18E9DA2FD12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B9AA9D8-33C5-488F-B6DF-D98F01DF737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44EB1-9327-40EC-8EEF-446F3A5CFDD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C4BBD15-625A-4B8A-8B3F-975077DB026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50C8E-D774-4A37-B423-4DA1C48E3E5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E4ECD61-3969-463F-887C-AA1782A32C6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B3894-28CA-4C01-BCDA-828F1C6FB6B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E0CD2-4217-4374-AF3D-7DEC5B9998E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215A85B-0D64-49A7-98C1-DB726BB625C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9C647-614F-4F52-9655-84621DBCCB6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3CFAF44-9860-40D6-BFEF-A2334B4BD4F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81A47-D387-4AEF-AC39-0DFB2241421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E01DA1D-8A92-499E-9B97-80AA05FFAF2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03308-B532-451A-9D65-CB27502983B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B6AB820-4AB7-4191-872D-516A2B52417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57210-E7C8-45FE-8492-B05B932394A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BDF8AEC-326E-4E0B-BFF0-5ABE96C10DD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E39C8-583F-48D1-B249-D95A171CACC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35A033E-A819-4556-BBBB-FFCB2C9809F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05295-6A4E-49AC-BF94-2733E172E60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DCA296B-6948-42A0-A4F2-CD2CD422176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0E75A-35CB-4418-800E-33496A1D98B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91A157B-6A8A-4860-8E7D-EC2DC797760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2E553-1D47-4B3C-B06A-02C64B412B1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BB896FA-FF80-4FB3-A071-FA5640EABBD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A97B7-C38D-48C3-8F6E-F9A0271889D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BE4D457-AB6B-4611-BB7C-8B51DB800E0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BF0C1-7EE5-42F9-B7A5-2BB8D1D073C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en.wikipedia.org/wiki/Message_authentication_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A85DE-A027-4457-9F82-410DB7DCAD8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AA5ABF6-531F-47AA-88AF-CB76DDDDFAC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csrc.nist.gov/groups/ST/hash/sha-3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0D9D7-7230-4E35-925A-B09FB17F590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ACB5BD9-3415-4F9A-831C-A6C89C9C4D7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07B20-93E3-40CE-B1DE-6951A119780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E7E3EA6-213C-4F70-A8A4-574E47D2229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C07DE-F674-47E0-B48A-9296575FEAB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D5AFBB5-204F-4DFB-8EC3-0C560B7A9B6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13113-272A-4581-A304-0E72261559E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7C757C5-9244-4D2B-8ECA-2BCCACF2A7A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60CB6-09AC-4AC8-951B-0684EE4E9E4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96E1155-8333-45CA-BB20-BFB28909D1A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4FDB1-065A-4976-87B8-A14C1B613A5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C54F821-EC46-4BDD-8B38-0E4112AB0CF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B767C-3BD7-4BCB-AD5F-FE14E7CF2F5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C2F73B8-B6FD-4161-BAFC-435069B4D2C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73980-58B0-4B78-B678-5F55156E19D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AFDF5FA-C226-4F16-84C2-80BDD8ACBC8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60B472-B09E-4573-A86C-CC56B445A9B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7CDF978-F1E9-4B43-A445-FCE0E6903BA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5E1EC-B3FB-4D55-B0E3-139EF2E34E2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en.wikipedia.org/wiki/Message_authentication_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1215C-A392-41AD-AA3D-F649556DB24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58A7E44-4C4D-4A64-9210-435019A3724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55E5E-32E1-4025-9D05-5D512C06BF7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D31B0F9-76D0-49C6-BF27-D23D041A4CF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BC087-5071-47E0-A84E-3E451C99014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DD849E3-B959-42C2-A386-E946D92FD57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56FE6-3A11-4F2D-81DF-3E0C7E29A49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87F0534-580B-4609-B616-376FA11582E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F1B4B-4E75-4F39-B0B8-0F0D807CEC8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9EB7DCF-DC46-420C-9EE8-13087920A99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5E7E4-BF15-4098-A8DD-59415B6B0CC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7145257-FFBE-49F9-B464-94F70E105B5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257B1-0309-4F1D-A65C-7C85694FF66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14CC41F-70CD-4CF8-82CE-E0E0C1AC1D6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97E57-138D-4004-9842-7C12B6A362E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177E160-CB6D-4EAB-ACCA-9DDDB65D959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12C4E-ECC9-41FC-8ECB-BEA864C803C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9BCF88D-5060-4AF3-A1E3-13B3190F6B7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67251-668B-4B7E-BC31-06A8A47CD24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8F2FFE5-CDAE-4A34-A9E4-15941B00313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21D2D-A1EC-495A-B9B0-185303B2B76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AC6EC-C127-4FCF-B9DC-B9A07C3B2F4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61D8DD2-E418-439A-85FB-969D7C211C0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249096-677F-481D-B03C-F1308321915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F34DC15-CE2F-40D7-AEE5-9E87AF6D967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C968B-38B4-4756-A922-DD53880007C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C6FE045-C8BC-4E0D-8AF5-135903BE777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7B695-78E2-45F8-B8D5-C9ABE49C6CD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482652A-8F09-4947-9E29-6C4BFD0ECEE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F1877-A8D4-450B-A32D-ED860572691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54AFEC4-BEC2-47E5-9782-CFF7CAD6900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0358E-9F91-4F65-A21E-BCFC69D029D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5CC6995-1477-4251-A0F2-0F933F6C02B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7CEC1-E0D8-4947-B96C-35514FC51F6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D79C144-CE13-48A0-8DA9-AAA6543CCB2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8B6F1-BAF1-427D-A9FB-186109FFC88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4FADD85-6CDC-4079-82D6-518128C2C3B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93C22-AC15-40D1-AD8F-DF97CD26143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DFBCEA3-E3A5-42AE-B5DD-00F4A6DC5D8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49315-4C6E-4EFE-B259-17A105A87D7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30B51AD-6035-4BE0-81B5-984EF57518E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DB031-572C-4620-9DEF-974572384D5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en.wikipedia.org/wiki/Message_authentication_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E485E-3C0F-4D88-B6E5-E8379FBB846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E97392F-B5E9-421A-9E02-68074779EF1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B4E75-643B-4447-9441-5FF076155F6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D1C8B59-58FD-4D54-AA40-C1B678EA49E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8D2FD-E55A-42EC-901E-93344A71FE8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0A4E573-33F5-4D3A-AE5D-FD65B9622D0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02CE8-2809-4EB8-9AD9-BCAAA19BA4B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D126C6F-B338-4483-AA0E-03A2FD1F4D1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D3319-A476-4284-8A04-226EC433265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E0988BF-4795-4300-B97B-52761CE7CE6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B12B5-9DF6-4408-99ED-C42F5ADBFF3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CD8FEAF-668F-4FC3-9B2A-6499EDEA580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BB585-D47E-494A-8040-E42FA969267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2D8D544-42A7-4E71-AD6A-C18341CFD28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F64DD-FEED-478F-976A-E71C082BD4C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B0665A1-1C6D-4EF1-9A67-27475A592C7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technet.microsoft.com/en-us/library/cc751157.as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zill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www.mozilla.org/projects/security/certs/policy/InclusionPolic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www.apple.com/certificateauthority/ca_progra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r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www.opera.com/docs/ca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3B011-3B63-4507-A30A-B4AC98CF7CA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A614501-4825-47D0-BFB2-14C68DB2057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A4A43-41B5-4BCF-A494-EA0620F5D3C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D282334-EEA4-49B2-BA49-053DC05010D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522C6-C87E-4C63-88BA-CEA00F40F52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en.wikipedia.org/wiki/Message_authentication_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2CFE0-918E-455C-B39F-AF3FAA5F330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9265C72-36BA-4053-A111-41EE3E50912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390BD-801B-42AC-9D11-D76366D0A3E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4BF1030-21FC-4CCC-8EFE-D3CCA373C6A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FFE36-383B-4600-A2B5-44E251F6404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1A0EF32-B07C-4EC8-B3FF-0B81E3A4FC9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0042E-21EC-42A7-852D-98185DD0FFA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52F7313-D457-4AE7-8326-9861E458D57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4D6EA-D63A-4C26-B720-2F84323FED0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6033304-6529-4070-8325-DE06C462220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7A927-129D-429B-9CFF-F6B20797F6F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36F8088-AC36-4E55-9903-02F1B473544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C1654-DEC1-4D53-9391-CB9F5AC599A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6FC2271-C49B-481F-99E6-BE45B6C4A26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49081-89B6-4E6A-88B8-D01BAB6B30C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2017A25-D261-48E1-8D40-3C20E44816E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FB2D2-AEB0-475B-86A3-48382ED4756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97C43E0-DCCD-40BC-A1AE-1261BDB5E53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97711-277F-4842-81F8-42BC485547D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1599D47-D154-41B4-9061-710AB2B8E8E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92E7CB-F6D7-4A39-80ED-40263ACE87B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C00B2-2345-4B8E-BF4B-BFDF67B17FA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85C0F3D-D2FD-4345-A34E-D3B90651F18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B24FE-7DAA-496A-9362-452565CCB1A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2BC1093-DDA1-4F31-81EC-C93C2954A2A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223F6-64E6-48D1-8164-F37FDD2C7FF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AC4E458-CB27-414F-ADD4-6D6639746DB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4ED98-4B5D-4A7A-9CC9-C47DC59F728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AC05416-07FD-4638-841B-102C7388C85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26F47-AC62-4A8C-A260-0C40B84F5D5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8033045-4AE3-47BF-84D0-F7876F153A7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9E436-294F-4FC1-8A0A-B5EFFACA838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D1F8953-92B9-4095-9BE2-CCBAEEFEAA5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B1EBB-C024-4CF1-BD0C-57DCE7A4A1A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BD0467E-A63F-4B5B-BC24-B8C254F7552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CEAE4-4A22-4433-A301-036F5569365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8AC2448-CAA3-497E-B65B-F5AF01D2CF2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1A8C2-99D3-4E80-A274-5B7D47AD2CF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F367C5C-D684-447C-843B-188667427A1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116A5-0FD9-4C33-86EA-CD20F2595DB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D0BEAB4-4AFD-4BF7-AF4F-04418F57F19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7D5-44BE-46D7-8A90-B7A830AB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121-880E-475E-B447-47554D2F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127-A827-4848-9352-6F3B7BCD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728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684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728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684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5C09-6BE6-47EE-B1E1-DA8BA393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748ED-4FB9-4414-8913-34D0423A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0C10-78F4-4AD2-8C6E-42F18BF3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BFE3-DB79-402D-804F-184EC2A7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5C3D-FF1D-4E48-B060-A4FD4FE9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E7BA-FEAD-41C0-8C77-EB2EC6BB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56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BE6E-636B-4093-AF86-158C7975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1018-1E0D-455F-BFF9-861EA952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B60-9197-487E-A4AF-6A3B97AA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7954-D60C-4A50-8676-F3013E5D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E052-207B-4219-9858-17BE2D88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78F6-6A27-42A3-97D2-7C515E91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A2F8-6046-48EB-A46E-83901AADD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728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684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728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684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535E-A726-4766-813A-79D532CA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0DD-2748-43E4-9661-990FCF68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9CD-5BBD-4A11-8657-82F921F0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E2ED-2D1C-48DC-8144-94FB9936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56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9D4B-05B8-4E3A-B7DF-01EF2ACE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8A81-2D42-4A8C-B7F2-C560E201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959-9F23-4D06-BABF-3B7D9805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8D12-5436-45E7-B3ED-E8993452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617960" cy="6856560"/>
            <a:chOff x="0" y="0"/>
            <a:chExt cx="761796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3198600" cy="6856560"/>
              <a:chOff x="0" y="0"/>
              <a:chExt cx="319860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176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AutoShape 4"/>
              <p:cNvSpPr/>
              <p:nvPr/>
            </p:nvSpPr>
            <p:spPr>
              <a:xfrm>
                <a:off x="456840" y="0"/>
                <a:ext cx="2741760" cy="1166400"/>
              </a:xfrm>
              <a:custGeom>
                <a:avLst/>
                <a:gdLst>
                  <a:gd name="textAreaLeft" fmla="*/ 0 w 2741760"/>
                  <a:gd name="textAreaRight" fmla="*/ 2741760 w 2741760"/>
                  <a:gd name="textAreaTop" fmla="*/ 0 h 1166400"/>
                  <a:gd name="textAreaBottom" fmla="*/ 1166760 h 116640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228240" y="1981080"/>
              <a:ext cx="7389720" cy="317520"/>
              <a:chOff x="228240" y="1981080"/>
              <a:chExt cx="738972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120" y="1981080"/>
                <a:ext cx="7008840" cy="3157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880" y="1981080"/>
                <a:ext cx="3934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160"/>
            <a:ext cx="2125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8/12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1320" y="6199200"/>
            <a:ext cx="28922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Security+ Guide to Network Security Fundamentals, 2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07120"/>
            <a:ext cx="582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3C0249-CC72-40C3-A128-768195A25F20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5865480" cy="6856560"/>
            <a:chOff x="0" y="0"/>
            <a:chExt cx="5865480" cy="685656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440" y="990360"/>
              <a:ext cx="5180040" cy="1904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4"/>
          <p:cNvGrpSpPr/>
          <p:nvPr/>
        </p:nvGrpSpPr>
        <p:grpSpPr>
          <a:xfrm>
            <a:off x="3632040" y="4889520"/>
            <a:ext cx="4875120" cy="317520"/>
            <a:chOff x="3632040" y="4889520"/>
            <a:chExt cx="4875120" cy="317520"/>
          </a:xfrm>
        </p:grpSpPr>
        <p:sp>
          <p:nvSpPr>
            <p:cNvPr id="52" name="AutoShape 5"/>
            <p:cNvSpPr/>
            <p:nvPr/>
          </p:nvSpPr>
          <p:spPr>
            <a:xfrm flipH="1">
              <a:off x="3632040" y="4889520"/>
              <a:ext cx="4624560" cy="3160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>
              <a:off x="8247240" y="4889520"/>
              <a:ext cx="25992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7920" y="6248160"/>
            <a:ext cx="2125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8/12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1320" y="6199200"/>
            <a:ext cx="28922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  <a:ea typeface="DejaVu Sans"/>
              </a:rPr>
              <a:t>Security+ Guide to Network Security Fundamentals, 2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6320" y="6208560"/>
            <a:ext cx="58248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088893-3A21-4FAF-AA46-60B6E653B8DE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776160" y="1479600"/>
            <a:ext cx="7437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Hands-On Cryptograp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1371600" y="289548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cc"/>
                </a:solidFill>
                <a:latin typeface="Arial"/>
              </a:rPr>
              <a:t>Casey W. O</a:t>
            </a:r>
            <a:r>
              <a:rPr b="0" lang="ja-JP" sz="2600" spc="-1" strike="noStrike">
                <a:solidFill>
                  <a:srgbClr val="0000cc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cc"/>
                </a:solidFill>
                <a:latin typeface="Arial"/>
              </a:rPr>
              <a:t>Bri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96FDFD-6C8A-4172-B3D6-468ED3FEFEA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refore, the MAC has performed the following 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ne can assume the attacker cannot alter the MAC since the attacker does not have the secret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5B1D8-70EE-4755-81F3-A84DDADD03B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20_Self_Signed_Digital_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1BA90-DD18-4818-9A53-9432FB0339E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refore, the MAC has performed the following 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nsured to Bob that the message came from Alic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ince only Alice knows the secret key, only Alice can generate the correct 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14913-6C03-436A-9C80-2CFCA2089FC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MAC function is similar to encryption except that the function does not have the be rever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other words, both sides of the equation calculate a MAC the same way and compare val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Neither side runs the equation is re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B882A-248D-4FE1-898A-DC85AD955D4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 increase the security of this system, Alice and Bob may use 2 secret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1. Create the MAC from the plai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2. Encrypt the plaintext with Key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3. Both the ciphertext and the MAC are encrypted with Key 2 and trans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0B8F5-6F55-4B96-8853-1FC9086EB25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ashing Algorith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ethod used for verifying data integ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variation of the 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KA a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One-Way H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8A2CC-E9B2-47CB-8886-1590548B62F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ashing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reates a ciphertext from plaintext by using a variable-length input that is converted to a fixed-length output string (AKA a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hash value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r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 message diges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- e.g., 160-b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63327-12CD-417A-8D81-753E2DF1769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ashing Algorithms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Considered secure wh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It is computationally infeasible to find the plaintext input that corresponds to a given message dig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9BF99-90A4-4B1F-A735-1B6ECBB984A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ashing Algorithms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Considered secure when (con</a:t>
            </a:r>
            <a:r>
              <a:rPr b="0" lang="ja-JP" sz="2800" spc="-1" strike="noStrike">
                <a:solidFill>
                  <a:srgbClr val="002a5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Any change to a message (including single bit changes) will, with an exceedingly high probability, result in a completely different message dig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0BC9D-2BE8-4EEA-BAC8-E717FA114CD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ashing Algorithms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38080" y="2362320"/>
            <a:ext cx="76932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ashing algorithms are also used to verify the accuracy of a value without transmitting the value itself and subjecting it to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03962-B2BF-4AED-BB95-64B3480E1BB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ashing Algorithms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838080" y="2362320"/>
            <a:ext cx="76932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TM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o determine whether a password a user enters is correct without transmitting the password itsel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o determine the integrity of a message or contents of a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1569F-FAA0-4A9E-AC0D-DEC19BCDC0B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Authentication Codes (MAC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fixed-length data item that is sent together with a message to ascertain the message origination and integ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KA a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essage integrity code (MIC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03F32-77F6-4980-B3CD-C5703B9F8B8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ashing Algorithms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essage Digest (M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ecure Hash Algorithm (SH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F142E-C983-4C6A-AF63-08B7860986A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Digest (MD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signed by Ron Riv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C67CF-9320-417C-8492-F0ABF87CC16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Digest (MD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D algorithm has three ver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essage digest 2 (MD2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takes plaintext of any length and creates a hash 128-bits long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D2 divides the message into 128-bit s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f the message is less than 128-bits, data known a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adding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is ad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F9888-CE31-4B2B-A53A-1DAB00068F1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Digest (MD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veloped in 19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sidered too slow today and rarely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3FC17-2768-4E7C-B38F-D69BF69FA8B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Digest (MD)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essage digest 4 (MD4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was developed in 1990 for computers that processed 32-bits at a tim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akes plaintext and creates a hash of 128-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plaintext message itself is padded to a length of 512-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D4F38-3D00-41EC-ABDE-73077308E47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Digest (MD)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laws in the MD4 hash algorithm have prevented it from being widely acce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DB317-5447-4519-9331-70B3985F955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Digest (MD)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essage digest 5 (MD5)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is a revision of MD4 designed to address its weaknes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length of a message is padded to 512-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3384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hash algorithm then uses four variables of 32-bits each in a round-robin fashion to create a value that is compressed to generate the h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D81F9F-276A-41B8-A61A-62B095CF937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Digest (MD)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D5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duces a 128-bit (16-byte) hash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n MD5 hash is typically expressed as a 32-digit hexadecimal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x. MD5 hash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1D059-6253-4244-8B3E-9E23A68A01F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essage Digest 5 (MD5)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ome weaknesses have been revealed in the compression function that could lead to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olli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ecurity experts recommend the MD hash be replaced with a more secure hash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F303B-3DE7-4E42-9238-A0A3F613094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ecure Hash Algorithm (SHA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signed by the NSA and published by the National Institute of Standards and Technology (NIST) as a U.S.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Federal Information Processing Standard (FIPS)</a:t>
            </a:r>
            <a:r>
              <a:rPr b="1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1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AE3CE-51E5-4CE6-866C-F44622339ED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, MACs are used between 2 parties that share a secret key in order to authenticate information transmitted between these pa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4EA05-966A-4E66-802E-92585087B32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ecure Hash Algorithm (SHA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atterned after MD4 - but creates a hash that is 160-512 bits in length - the longer hashes make it more resistant to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HA algorithm has four ver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33CDB-F8F9-48C8-AF6F-169762BC968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veloped in 1993 by the NSA and 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t was withdrawn by the NSA shortly after publication and was superseded by SHA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duces a 160-bit message dige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ypically expressed as a 40-digit hexadecimal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x. SHA-0 hash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3FF2F-AC1F-42C6-9751-2D790EB12AF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0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ximum message size of 2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</a:rPr>
              <a:t>64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1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s a 512-bit block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erforms 80 rounds of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CD314-086D-43BD-91C0-F54B84BDB56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838080" y="2362320"/>
            <a:ext cx="76932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HA-1 corrected a flaw in the original SHA-0 algorithm which reduced its cryptographic securit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However, the NSA did not provide any further explanation or identify what flaw was corr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28A84-E6E3-4BBB-9A33-DFB653EBAEC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1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838080" y="2362320"/>
            <a:ext cx="769320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duces a 160-bit message dig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ximum message size of 2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</a:rPr>
              <a:t>64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1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s a 512-bit block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erforms 80 rounds of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2E093-1964-4B4B-89A4-5442A6AF29E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0 and SHA-1 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aknesses have subsequently been reported in both SHA-0 and SHA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4BA35-161A-4BBC-9FD1-C8FBB9E0349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IST published four additional hash functions in the SHA family, each with longer message digests, collectively known as SHA-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1A686-0923-4065-A32D-42E4D276655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individual variants are named after their message digest lengths (in bits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HA-22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HA-25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HA-38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HA-5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F91FC-67B0-4188-AA7A-546EECF07C9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224 and SHA-25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duces 224- and 256-bit message digests respect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ximum message size of 2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</a:rPr>
              <a:t>64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1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s a 512-bit block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erforms 64 rounds of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72FCA-3674-4464-A420-C8DC8F92BF7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384 and SHA-5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duces 384- and 512-bit message digests respectiv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ximum message size of 2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</a:rPr>
              <a:t>128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1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s a 1024-bit block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erforms 80 rounds of compu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71F51-1CEA-44AF-8958-F7C55D525EB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MAC algorithm, sometimes called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keyed (cryptographic) hash fun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accepts as input a secret key and an arbitrary-length message to be authenticated, and outputs a MA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D07AB-7981-4DE5-9CAA-5D2279FCE24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ST announced a public competition on 11/02/07 to develop a new cryptographic hash algorithm (to replace SHA-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IST selected five SHA-3 finalists: BLAKE, Grøstl, JH, Keccak, and Sk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winner will be selected in December, 20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F6C87-A527-4380-9FBB-12C571677A9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ashing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18_Hashing.pd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Hashing Demon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AC260-A871-4851-8124-9C622592FD6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ital Sign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Are used to simulate the security properties of a handwritten signature on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FE26A-D77F-42EF-B22D-C23F211291B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pplication of Digital Sign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gital Certif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-mai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egal systems requiring time-sta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lectronic funds/transfer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stribution of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vice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B7D00-C8ED-44CD-B3A7-F7EEE6B0815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ital Signature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y, 1994: The National Institute of Standards and Technology (NIST) issued </a:t>
            </a:r>
            <a:r>
              <a:rPr b="1" lang="en-GB" sz="2800" spc="-1" strike="noStrike">
                <a:solidFill>
                  <a:srgbClr val="191966"/>
                </a:solidFill>
                <a:latin typeface="Arial"/>
              </a:rPr>
              <a:t>Federal Information Processing Standard (FIPS) 186</a:t>
            </a: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, the </a:t>
            </a:r>
            <a:r>
              <a:rPr b="1" lang="en-GB" sz="2800" spc="-1" strike="noStrike">
                <a:solidFill>
                  <a:srgbClr val="191966"/>
                </a:solidFill>
                <a:latin typeface="Arial"/>
              </a:rPr>
              <a:t>Digital Signature Standard (DSS)</a:t>
            </a: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, which defines a public key cryptographic system for generating and verifying digital sign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B4F70-F142-4CC0-A020-1A95AA3CD76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ital Signature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The DSS standard specifies a </a:t>
            </a:r>
            <a:r>
              <a:rPr b="1" lang="en-GB" sz="2800" spc="-1" strike="noStrike">
                <a:solidFill>
                  <a:srgbClr val="191966"/>
                </a:solidFill>
                <a:latin typeface="Arial"/>
              </a:rPr>
              <a:t>Digital Signature Algorithm (DSA)</a:t>
            </a: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, which is a U.S. Federal Government standard for digital sign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  <a:ea typeface="ＭＳ Ｐゴシック"/>
              </a:rPr>
              <a:t>It was proposed by the NIST in August 1991 and specified in</a:t>
            </a:r>
            <a:r>
              <a:rPr b="1" lang="en-GB" sz="2800" spc="-1" strike="noStrike">
                <a:solidFill>
                  <a:srgbClr val="191966"/>
                </a:solidFill>
                <a:latin typeface="Arial"/>
                <a:ea typeface="ＭＳ Ｐゴシック"/>
              </a:rPr>
              <a:t> FIPS 1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7520A-744C-4127-BDFF-529B51894C9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ital Signature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The DSA provides the capability to generate and verify sign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  <a:ea typeface="ＭＳ Ｐゴシック"/>
              </a:rPr>
              <a:t>Signature generation makes use of a private key to generate a digital sig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  <a:ea typeface="ＭＳ Ｐゴシック"/>
              </a:rPr>
              <a:t>Signature verification makes use of a public key which corresponds to, but is not the same as, the privat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E7644-B4F2-48AE-94A3-401DBAA1E1C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ital Signature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Each user possesses a private and public key pai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  <a:ea typeface="ＭＳ Ｐゴシック"/>
              </a:rPr>
              <a:t>Anyone can verify the signature of a user by employing that user's publ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  <a:ea typeface="ＭＳ Ｐゴシック"/>
              </a:rPr>
              <a:t>Signature generation can be performed only by the possessor of the user's privat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2988F-24C4-4582-912F-34B52BB117C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ital Signature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A hash function is used in the signature generation process to obtain a message diges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  <a:ea typeface="ＭＳ Ｐゴシック"/>
              </a:rPr>
              <a:t>The hash function is specified in a separate standard, the </a:t>
            </a:r>
            <a:r>
              <a:rPr b="1" lang="en-GB" sz="2800" spc="-1" strike="noStrike">
                <a:solidFill>
                  <a:srgbClr val="191966"/>
                </a:solidFill>
                <a:latin typeface="Arial"/>
                <a:ea typeface="ＭＳ Ｐゴシック"/>
              </a:rPr>
              <a:t>Secure Hash Standard (SHS), FIPS 1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64CA5C-437C-49A7-A888-0F8BC513FBC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ital Signature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The message digest is then input to the DSA to generate the digital sig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191966"/>
                </a:solidFill>
                <a:latin typeface="Arial"/>
              </a:rPr>
              <a:t>The digital signature is sent to the intended verifier along with the </a:t>
            </a:r>
            <a:r>
              <a:rPr b="0" lang="en-US" sz="2800" spc="-1" strike="noStrike">
                <a:solidFill>
                  <a:srgbClr val="191966"/>
                </a:solidFill>
                <a:latin typeface="Arial"/>
              </a:rPr>
              <a:t>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E47F8-B42F-48B9-B178-1E326EEB43B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AC value protects both a message's data integrity as well as its authenticity, by allowing verifiers (who also possess the secret key) to detect any changes to the message 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8C9DE-3678-443C-91F2-74FFD66DE2E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Signatur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elp to pro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person sending the message with a public key is who they claim to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message was not alt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Nonrepud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C8208-7307-4F41-9B2E-2C3DBFBEA20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833400" y="15228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Signatur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Object 2"/>
          <p:cNvGraphicFramePr/>
          <p:nvPr/>
        </p:nvGraphicFramePr>
        <p:xfrm>
          <a:off x="1308240" y="1422360"/>
          <a:ext cx="6769080" cy="49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1422360"/>
                    <a:ext cx="6769080" cy="49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0B236-1C1B-403C-AE38-CA8266959E8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Anatomy of a Digital Sign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----BEGIN PGP SIGNED MESSAGE---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ash: SHA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ob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Thanks for the kind words after today's meetin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est regard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Al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----BEGIN PGP SIGNATURE---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Version: PGP 8.0.3 - not licensed for commercial use: www.pgp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iQA/AwUBTo3S/8hjUeoBAopPEQIyeACdEw7IO9HLrcHg6soLFaPJK5KzgBUAn02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5nn2ab1TQooYsLtapqA05V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=gfp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-----END PGP SIGNATURE----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AAA28-7112-4C6E-A845-007987D334F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gital Signature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19_Digital_Sign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GP Demo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igital Sign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Key Sig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EFFB8-458E-47CD-8788-E87365215C3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lthough digital signatures go a long way toward addressing the need for authentication, they are not perf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How can Alice be sure that Bob (and not an imposter) posted his public key to a key server on the Interne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E20A1C-A8E9-4750-955E-BFCEB2BA42D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gital certificates help solve this problem by providing a means of identification, much like a driver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 license, or a passport in face-to-face inter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D4231-2BF7-4AEF-9A18-F9C9F56F5F7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electronic documents which uses a digital signature to bind together a public key with an id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re issued by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ertificate Authority (CA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nd signed with the CA's privat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3D7F2-D8FB-43EF-A775-D7F8DF320CB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be distributed and copied without restriction - this is because digital certificates do not contain confidential information and their free distribution does not create a security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C5D91-29D0-4CC4-BF60-F8265A0A0AB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also be used to identify servers and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prevent Man-in-the-Middle (MITM) and spoofing attacks, whereby someone tries to impersonate the owner of a publ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86709-F295-46F6-84E8-75499B35B39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rmally include additional information that describe the digital certificate and limits the scope of its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58B5F-82B3-45BF-8F3F-E60E44F8286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C algorithms can be constructed from other cryptographic primitives, such as a secret-key symmetric block cipher in CBC mo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financial community has been using this approach for a long time to protect interbank electronic fund trans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BCC09-F196-40BA-A8AC-AF5ABFD0E2A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f a bank issues a digital certificate to Bob, what happens when he closes his account and moves his money to another ban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ob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 digital certificate should be revok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4EE63-A4DD-48E8-810D-6047CDECBAA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 contai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wner's publ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wner's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xpiration date of the publ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3424E-B71D-4137-ACEA-0B6B63B87C8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ypically contain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Name of the issuer (the CA that issued the Digital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erial number of the Digital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igital signature of the issu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BF2F7-7E03-4D39-B093-81DB4E5C8D4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ost widely accepted format for Digital Certificates is defined by the 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Telecommunication Standardization Sector (ITU-T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.509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ternational stand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B6BF4-0918-46E8-AE12-710882821D3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ple contents of an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X.509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ertific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Vers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helps identify the latest version of the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erial Numb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used to uniquely identify the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ertificate Signature Algorith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the algorithm used to create the sig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5C916-4811-41A9-92EF-2326A2EB7D4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ple contents of an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X.509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ertificate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umbprint/Fingerpri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the hash itself to ensure that the certificate has not been tampered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B0857-356B-45CC-A404-FA5607C30C3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ple contents of an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X.509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ertificate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ssu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the entity that verified the information and issued the certificate (e.g.,  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BBE65-7D60-4DD2-93BE-018EDA35E1A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ple contents of an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X.509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ertificate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Valid-Fro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the date the certificate is first valid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56907-4F07-402A-8A59-2BFE6D47888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gital Certificat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mple contents of an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X.509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ertificate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Valid-T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the expiration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ubje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the person, or entity ident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ublic Ke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of the owner of the digital certif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DA5E1-79DB-4F05-9CA6-2D0BD69944C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ertification Authority (CA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se organizations issue public and private key pairs to people, organizations, or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Keeps track of issued credentials and manages revoking certific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lso verifies that the public and private keys have indeed been issued legitimately and are trustwort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BB97F-312B-40FB-8B61-508879CBC12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ever many of the fastest MAC algorithms (e.g., UMAC and VMAC) are constructed based on universal ha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E98FD-22C7-4FAB-B188-43844BBF179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A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owner of the public key listed in the digital certificate can be identified to the CA in different way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y their e-mail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y going to the CA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 office to prove his/her existence and id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BB816-2BB4-464B-940E-1B2B562E060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TTP over SS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bination of HTTP with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ure Sockets Layer/Transport Layer Securit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SL/TL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5C8E8-0A30-49B4-8358-213C99598F2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to create a secure channel over an insecure network by providing encrypted communication (HTTPS URLs begin with https:// and use TCP port 443 by default) and secure identification of a web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35C4D-6BBE-4B0C-A2B5-6DFA725DDF0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connections are often used for payment transactions on the WWW, and for sensitive transactions in corporate information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A0CA8-97AE-4C2A-B490-03B4E2E9A1C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s reasonable protection from eavesdroppers and MITM attacks (provided that adequate cipher suites are used and that the web server certificate is verified and trust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44920-18CB-474F-8281-9F2CBCADE4A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trus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herent in HTTPS is based on major CAs, which come pre-installed in browser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equivalent to saying “I trust CA (e.g. VeriSign (now Symantec), Microsoft, etc.) to tell me whom I should trus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66773-09A0-448F-BF14-E7FEED86268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HTTPS connection to a web site can be trusted if and only if all of the following are tru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user trusts that their browser software correctly implements HTTPS with correctly pre-installed CAs (some browser vendors regularly audit their approved li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88A89B-607B-4D11-861F-B2713542FBA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browser makers decide which CAs to put into the produc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icrosof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oot Certificate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ozilla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A Certificate Inclusion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pple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oot Certificate Progr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pera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ow to get a root certificate included in its bro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6B8CF-1CA9-4D5A-911F-CD9A67C4285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HTTPS connection to a web site can be trusted if and only if all of the following are tru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user trusts the CA to vouch only for legitimate web sites w/o misleading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CD118-8106-4D54-B996-4A27AEDE611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HTTPS connection to a web site can be trusted if and only if all of the following are tru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web site provides a valid certificate (an invalid certificate shows a warning in most browsers), which means it was signed by a trusted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12E5E-2217-4531-B0D6-889EE2C8169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833400" y="2286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712800" y="1531800"/>
            <a:ext cx="7745400" cy="47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CAC68-8E02-47A6-9138-D9B591FEF91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HTTPS connection to a web site can be trusted if and only if all of the following are tru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certificate correctly identifies the web site and not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63B0D-8D58-47FF-8B02-28C0966FEFC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Firefox_3.0_error_on_svn.boost.org.png"/>
          <p:cNvPicPr/>
          <p:nvPr/>
        </p:nvPicPr>
        <p:blipFill>
          <a:blip r:embed="rId1"/>
          <a:stretch/>
        </p:blipFill>
        <p:spPr>
          <a:xfrm>
            <a:off x="979560" y="2438280"/>
            <a:ext cx="801216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9B5F5-D7C0-48C0-B132-DD476BAB117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TTPS &amp; SSL/TLS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 HTTPS connection to a web site can be trusted if and only if all of the following are tru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ither the intervening hops on the Internet are trustworthy, or the user trusts that SSL/TLS is unbreakable by an eavesdro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DAC4E-F271-4EBD-8E99-F73639AC538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Determine the secure conn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rowser checks the certificate to make sure that the site is the real site (not spoofed, or MIT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7A09D-92A7-403F-93FC-07EC3274B95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The SSL Handshak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customer's browser sends the web server it's methods of encryp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is includes the encryption type (e.g., DES-3, AES), some random data that the encryption programs on both sides can use in the scrambling routines, and other SSL rela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3E3D1-0507-4B8D-876F-98AC7F2184D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web server returns it's own random data to be used for encryption, as well as it's SSL certificate, and its public key that the browser will need in step #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0F9CF-C94F-4DF0-9497-CB179DBC510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browser checks the web server’s certificate it received and compares it to the domain it was trying to connect with secur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761D5-4904-4E5D-A701-A3B7CF1B5E9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f the certificate information on the web site doesn't match the domain name, the browser will notify the customer that there is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certificate expiration date and a valid CA are also checked at this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9F617-0F9C-4131-9D85-53EE01BE743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Completing the SSL Handshak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n this phase, the communicating systems create a new key that the remainder of the connection will be u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end product is an encrypted trans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4E40FC-76C5-47BD-B79B-E9BC9CC4F60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he browser creates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premaster secr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that will be used to encrypt the rest of the sess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477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his is a random key that it encrypts using the agreed upon encryption method (step #2) combined with the web server's public key st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75E4C-AA68-43A8-B777-DD5E13D2A8D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C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838080" y="2362320"/>
            <a:ext cx="7693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refore, the MAC has performed the follow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nsured to Bob that the message was not 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f an attacker tries to modify the message and not the MAC, then the 2 MACs will be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3F0F4-BA37-46AF-8B11-ABABBE1A522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he browser then sends the new encrypted secret string back to the web 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E894A-9D04-41BD-8F88-79EF2F29AA0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If the web server requires client authentication, it is done at this point using the same steps as outlined in step #2  - however, the web server looks for a client certificate (implemented in corporate environme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30018-440D-4D1D-BA86-2993C73DC4B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With the new premaster secret string, both the browser and the web server create a new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master secr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string and use it to create session keys (long strings of generated characters) that their encryption programs use for the rest of the session to encrypt/decrypt all transmi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F7CE3-1CB9-4B36-AF2F-DB51283A986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With the master secret key in place, both sides are also able to verify that the data hasn’t change en ro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2136E-4AA0-4049-BE52-30F3ECDF96A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he browser now has the information it needs to establish secure communication w/the web server - it sends a message to the server saying that it will start using the new session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ACF38-0082-4135-BCB4-E025877878F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he browser (now talking in an encrypted manner) verifies to the web server that it is finished locking/securing it's part of the s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63110-31EA-4DED-89DC-6867A76F0C2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he web server then sends a message to the browser saying that it too will start using the new session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8A037-E34C-4E04-967B-762FFDE8164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3. Completing the SSL Handshake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10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he web server (now talking in an encrypted manner too) verifies to the browser that it is finished locking/securing it's part of the s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B0F39-6BE3-478A-92CE-FFA2E5D3CD4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SL: Step-by-Step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spcBef>
                <a:spcPts val="104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. The browser and web server start talking using the encryption (the web browser shows the encrypting icon, and web pages are processed secur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214FF-6740-44D7-A639-3BAEC4D5869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4" descr="ssl1.png"/>
          <p:cNvPicPr/>
          <p:nvPr/>
        </p:nvPicPr>
        <p:blipFill>
          <a:blip r:embed="rId1"/>
          <a:stretch/>
        </p:blipFill>
        <p:spPr>
          <a:xfrm>
            <a:off x="228600" y="457200"/>
            <a:ext cx="86407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1:38:06Z</dcterms:created>
  <dc:creator>cobrien</dc:creator>
  <dc:description/>
  <dc:language>en-US</dc:language>
  <cp:lastModifiedBy>Casey O'Brien</cp:lastModifiedBy>
  <dcterms:modified xsi:type="dcterms:W3CDTF">2014-01-14T15:10:25Z</dcterms:modified>
  <cp:revision>966</cp:revision>
  <dc:subject/>
  <dc:title>Slide 1</dc:title>
</cp:coreProperties>
</file>