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33.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32.xml.rels" ContentType="application/vnd.openxmlformats-package.relationships+xml"/>
  <Override PartName="/ppt/notesSlides/_rels/notesSlide3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3.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6"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97"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98" name="AutoShape 3"/>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99" name="Text Box 4"/>
          <p:cNvSpPr/>
          <p:nvPr/>
        </p:nvSpPr>
        <p:spPr>
          <a:xfrm>
            <a:off x="0" y="0"/>
            <a:ext cx="3170160" cy="484200"/>
          </a:xfrm>
          <a:prstGeom prst="rect">
            <a:avLst/>
          </a:prstGeom>
          <a:no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00" name="Text Box 5"/>
          <p:cNvSpPr/>
          <p:nvPr/>
        </p:nvSpPr>
        <p:spPr>
          <a:xfrm>
            <a:off x="4145040" y="0"/>
            <a:ext cx="3170160" cy="484200"/>
          </a:xfrm>
          <a:prstGeom prst="rect">
            <a:avLst/>
          </a:prstGeom>
          <a:no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01" name="PlaceHolder 1"/>
          <p:cNvSpPr>
            <a:spLocks noGrp="1"/>
          </p:cNvSpPr>
          <p:nvPr>
            <p:ph type="sldImg"/>
          </p:nvPr>
        </p:nvSpPr>
        <p:spPr>
          <a:xfrm>
            <a:off x="1258560" y="720720"/>
            <a:ext cx="4792680" cy="3594240"/>
          </a:xfrm>
          <a:prstGeom prst="rect">
            <a:avLst/>
          </a:prstGeom>
          <a:noFill/>
          <a:ln w="9360">
            <a:solidFill>
              <a:srgbClr val="000000"/>
            </a:solidFill>
            <a:miter/>
          </a:ln>
        </p:spPr>
        <p:txBody>
          <a:bodyPr lIns="95040" rIns="95040" tIns="49320" bIns="4932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2" name="PlaceHolder 2"/>
          <p:cNvSpPr>
            <a:spLocks noGrp="1"/>
          </p:cNvSpPr>
          <p:nvPr>
            <p:ph type="body"/>
          </p:nvPr>
        </p:nvSpPr>
        <p:spPr>
          <a:xfrm>
            <a:off x="974520" y="4560840"/>
            <a:ext cx="5359320" cy="4314960"/>
          </a:xfrm>
          <a:prstGeom prst="rect">
            <a:avLst/>
          </a:prstGeom>
          <a:noFill/>
          <a:ln w="0">
            <a:noFill/>
          </a:ln>
        </p:spPr>
        <p:txBody>
          <a:bodyPr lIns="95040" rIns="95040" tIns="49320" bIns="49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Text Box 8"/>
          <p:cNvSpPr/>
          <p:nvPr/>
        </p:nvSpPr>
        <p:spPr>
          <a:xfrm>
            <a:off x="0" y="9118440"/>
            <a:ext cx="3170160" cy="482760"/>
          </a:xfrm>
          <a:prstGeom prst="rect">
            <a:avLst/>
          </a:prstGeom>
          <a:no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04" name="PlaceHolder 3"/>
          <p:cNvSpPr>
            <a:spLocks noGrp="1"/>
          </p:cNvSpPr>
          <p:nvPr>
            <p:ph type="sldNum" idx="7"/>
          </p:nvPr>
        </p:nvSpPr>
        <p:spPr>
          <a:xfrm>
            <a:off x="4144680" y="9121320"/>
            <a:ext cx="3165480" cy="474840"/>
          </a:xfrm>
          <a:prstGeom prst="rect">
            <a:avLst/>
          </a:prstGeom>
          <a:noFill/>
          <a:ln w="0">
            <a:noFill/>
          </a:ln>
        </p:spPr>
        <p:txBody>
          <a:bodyPr lIns="95040" rIns="95040" tIns="49320" bIns="49320" anchor="b">
            <a:noAutofit/>
          </a:bodyPr>
          <a:lstStyle>
            <a:lvl1pPr indent="0" algn="r">
              <a:lnSpc>
                <a:spcPct val="100000"/>
              </a:lnSpc>
              <a:buNone/>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DejaVu Sans"/>
              </a:defRPr>
            </a:lvl1pPr>
          </a:lstStyle>
          <a:p>
            <a:pPr indent="0" algn="r">
              <a:lnSpc>
                <a:spcPct val="100000"/>
              </a:lnSpc>
              <a:buNone/>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EA4AA8-EB3B-4D53-BCB7-BD1F487D2FE1}" type="slidenum">
              <a:rPr b="0" lang="en-GB" sz="1300" spc="-1" strike="noStrike">
                <a:solidFill>
                  <a:srgbClr val="000000"/>
                </a:solidFill>
                <a:latin typeface="Times New Roman"/>
                <a:ea typeface="DejaVu Sans"/>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D049E-E1A4-4715-BC44-8275CBEA59A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59"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016D8-9A02-4832-B215-E58D5757E76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9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85418C9-A1C2-4F53-AEA4-0ECC23FED7F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9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F6101A-29A7-4447-8249-8DFC20C4BD4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94737BD-997D-4812-9A27-82CDF49A154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D3608-0827-4BF7-942C-4BE628BA1E3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F7B162C-0134-415A-B9B5-B2BB6691E34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06DCB-3586-40BA-AEF0-A20AA325452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75513D5-9567-481E-AB39-4612892CD0D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65E48-F16F-4911-8D7F-E04157B65F5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FDF719F-6042-4352-A5C4-4C9F81050F4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FAC49-6B35-4DB5-B3A1-33CB9C1BBED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F45AEE1-E8DD-45E3-94F9-A9969210BCE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FEF8D-7653-49AF-B353-0F5BA884BC8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84CAE22-7B2A-471E-928D-6B46BE3A108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C409B-61CA-4969-AACB-4ED3070B05F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23233A2-EF2D-4C27-8B4D-AB6041019B2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EC3BC5-4CDE-40A3-9716-E2406F58947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EA4B2D8-6995-4A36-BE01-FA5412E09AC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43AAE-89E7-4359-BEDE-73D57D282DE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CC8B6C3-F428-4DC5-AF3F-BA49B129C96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E2566-90FD-457E-A373-747FE01EC4F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843D226-C724-4840-9B8A-0F764BE733E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0A39E-C2BC-46D8-9526-B6BED300C4D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9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C5B0770-DABC-4A32-A8FF-954AE6CB639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9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ABA73B-428F-4F96-9F8A-08D2E308C97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24142B9-B452-4C36-9E0A-B792E825F48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E2D98-0ED8-4734-BA3D-531054A2D9A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B234297-655C-4E86-93AB-2CC7C36BD6A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71FA5-FA9E-45C6-A5D0-F1D20189998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34E65BC-868C-4B51-8785-E4B06415728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116CB-727F-4EA6-9590-CCE272D7516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5884E47-2D3B-4214-9512-9478D44497E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A1977-679A-49C2-9984-7C5853FC81B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5E5A9DF-C43F-4CDD-A038-B2D2ADE1EAB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8759B-DA56-42ED-BA23-BF02429D17E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3EC6281-716C-4F2D-BBC7-9ADE278ACB1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E3E4E-21A3-4383-A865-AC849086F52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6EB87C9-D4F4-4FFF-8692-7743C0E73A2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D2B08-3A29-4811-B369-36FCC1A8273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7161172-4D22-4409-BBAA-E5B1817BD00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254F47-8E0C-43B6-BE87-BF921DCE050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63ED589-C089-488C-A019-98BD1EA9181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187CF4-1697-4D2A-928B-164EA5ABCED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E9A83A9-1205-4F4B-8795-5B847922D8B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4C81B-ED37-47A8-9DAC-B26F0E47854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0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42F88BE-32B2-40E5-961D-F69CBEE2AAE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0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4"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C334D-4233-4A44-B831-35509545530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6CD2557-C505-4BC3-B085-A9AF0A69271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8F891-C474-4DDB-8949-D6A2B81321C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C6A5499-6A84-4F12-8CA4-0BD93FE78EE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35F35-344D-4791-8F36-863069ECC8D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D7A6286-3C0E-425F-9970-803A5FE6A24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EDF1B-5D4F-4935-A171-F2E887E2424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E50F84F-4866-471D-96B3-91F20E6A884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C3626-446B-4C07-96A1-DE6D8AD611F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715473A-868C-40AF-8B45-B739F17F370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CF2E8-73D0-4A0F-9023-49EC182BB24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22255DE-EDCD-408A-BBFD-54917A85302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AED31-F28E-4A13-AF9C-258B6122657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0B09966-1857-4509-97BD-FF88AD2B20D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24FDD9-B322-4443-8A44-B6306C70083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3DE96DA-1536-45A5-BC78-A1972EFE5AA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BC64C4-1478-484F-B238-320A6D232B0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8D1EDEB-9E34-4303-831E-C8BE30B1A8F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BF95A-6FE9-4D90-B87B-566E73B2C5D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2AB9A0E-5964-4FC4-86BE-E450F3E1BF5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FB5BD-88A4-4287-A308-0648A42EFDF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0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3BB8B42-7E57-4232-80FE-1C5C3F6F643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0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A0BB4-2A3A-42DF-82F8-6904C13B160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FA3A332-7DDC-415E-9E78-440F919D8B9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FB2BB-8F27-40E6-8445-3C878B993E0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1E1A9C0-D4EA-4725-A900-BC9430B424F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23949-713E-4006-8D9F-06CCB6F4C74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A43AFFF-2D69-4A8D-B705-DE87C3284AB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916AB-B17D-45DA-9F02-9A367C0E0F3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1713A2E-5D95-4A27-A6B5-CD353C6F268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95E9F-8E3E-450D-8160-3675E08223C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98AB437-2AC9-4C3C-A8B9-E6DDA1932DB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C77B7-55CF-49FB-8568-BB20696EDAE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743C858-90B9-4D7C-9825-8CA37DD4013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95E4F-E305-4819-878E-1642B5E7B3C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75F7BF6-FC8F-4966-8066-E7F0A490969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6E0C1-A415-4669-A82F-23B453E346B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B06AED5-A81D-45C5-A2ED-44C2DF7FB65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2"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t key on 3 rotors</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C3079-2E64-4984-A0D1-34BF5B3FD47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8EFE861-ED92-4F9E-9942-2C9E82FEAC5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92C8D-6F56-48A4-80C6-E0AC96D15C1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5CC2BB1-378F-481A-AA1B-CFD8E9BCB70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E7EFA-16E0-43FF-822F-7C40C9C9516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1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AFAAF15-1E48-4092-9C9E-321632DBD97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1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FFAE0-A602-4611-9714-50E7208D751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B4DDD8B-2240-4169-9DF4-267C866BA54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FA86B-A6CC-4500-A8CE-88030604D78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3214E7A-D7F4-448C-8DEE-B348FA92908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DAA5F-2640-44D3-A9EC-E66ECB910D3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F8018E1-8E9B-4A09-83B3-6B440DA8645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919BC-800B-466C-A052-F8A3D628147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C2C185C-BC23-4ECF-98C1-F6C14E9F2C3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2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4B90F-99C0-4DCB-9101-F474335F612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CADEE2D-8CB3-4E1D-ABAE-1CA33144A90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ECD19-90F6-4D6B-87D6-602839E5D50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CDE1DE4-12F3-4B2D-82B2-55D827563A0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271CA-82E6-46B2-98D2-CBA860E9C91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1CEBC08-C519-4F58-B965-93B66620BA3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F8D0F-FF3B-4DAB-96DE-D5867FE5C4B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08A2A26-8C96-4621-BF2C-D5E4146F98C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729F8-9E0D-44B3-99BF-6FCB5078299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C4AE341-F59F-4190-9223-D3B8D8150D1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A12F6-6767-41C4-B6D2-F7F03E06A43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DB380C9-B166-4F40-BE56-4B8C9F199A1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987B7-C7F3-40E3-9C31-935F71DEE48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1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F8F74DE-4202-4998-8591-DF4F6369E5A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1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DFF22-622E-4D96-8C21-016E813DD13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6D3CF34-4513-47A8-990B-FC13E79AE39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0E203-A436-4E06-9402-7350323566B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1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22C38B6-D72E-4523-904E-44D1442431F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1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14F43-56F0-4F4F-AC33-A4F72AA5D7F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2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CB4D484-DBCF-4A40-A5B5-F2387E622E4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2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15087-C07E-43C9-872E-525B16E8A9B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2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BEB2682-1D8A-4552-B20F-C9701A44C7A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2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5BC81-8E67-44A9-9E4A-45CF05047D2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3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E4A1F67-69FF-408B-A2D0-101C8653B24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3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CFBF9-8D61-43A9-82FE-8A62D4B7D5F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6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D1AF7FF-9A09-4E7C-82FC-B037450A07C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6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31853-BB0F-4C78-B3B3-313B8B5125E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3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5A4EF9D-03C2-4774-BABF-DE978A6E639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3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5DB0A9-B200-422B-B944-C3D700AEB32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3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4B61E60-06D7-4FB6-80BE-BFE66E492C6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3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C35909-FD4A-40C9-92F8-6EC620495B6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4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7C39698-971F-4FBD-8DB2-7D423376C59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4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728FF-6A2B-4B84-A5D4-65246147BBF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4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265D730-3617-4D06-91DC-0FD0FA41A6C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4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817D5-A14C-4529-A63E-FA6D4B9D47D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5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9597E09-D221-4226-A689-6A53CF168AB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5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C935E-1796-41E1-9C24-B2A6A65C3A4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5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B74C76C-115C-41E2-8234-6E584B6072B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5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0381E-51F1-47A8-AE2C-612B6650FC7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5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1062430-1390-4729-922A-D2397067D24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5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A013E-3437-4668-BD80-EB5B5ECBBA2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6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4DEA01F-055A-42F5-BA64-4CF5251E1F1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6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D680E-C65E-46E9-8153-F9AAF714B1C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6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F072954-B700-4139-9860-7C713005992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6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C11B5-27BD-44C9-92E1-6FFCBC785BA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7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C939ECD-B16C-4B53-B68D-FDB36727A3A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7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82F583-DEDA-4F0F-8358-96BA4DBF070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6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255AB51-75E1-4A2B-B1D4-B78B16C529A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6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CrypTool Presentation (.pd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8721A-CB73-4F32-8C7B-E7508124D82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74"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5"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57F5C-2710-4CC0-A808-6268CD9D167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77"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4D5C5F-50AA-485E-8DB0-D2B2F90F71C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6859C81-0AC8-4463-B725-4B96F9E42BB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81E7D-A12C-4CF5-96ED-94AA14D4C53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93FA6B1-AABC-46EE-A834-544F5E437D3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7B962B-7EBC-4037-AF22-267A7889750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7E06A01-3F96-4C68-B709-009EF4123A0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0" name="PlaceHolder 1"/>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EE14D-7E5D-4161-8582-C394F18ECAA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2BBDD97-880D-4A90-8936-7A2FBA99FEA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4" name="PlaceHolder 1"/>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2D0FC-F525-471B-8D08-296BC328FE2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A775417-5BD9-4E84-A280-8F3ADEFF936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15E52-F5AD-4E12-A684-9C40829F8CD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2C93096-C522-4C7D-B119-8B4AE78AC23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A9060-EBFF-4354-855F-6B2C14E6459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8D6C56E-117C-46AE-B51D-8AC4B5A3D1D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70CCD-9D34-496F-A71E-0B3E09DC6E3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583B4D8-12A4-4FF2-9E82-FB510131D4C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661E8-84A0-4200-B2FF-0DE86B16D58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7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A6E1E5D-102E-45D7-A1B6-DE356D98002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7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7E7DA-0D3A-4DE7-B63A-D0B6212B030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8660576-BF8B-4F43-8E10-E2DC1463FDF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45F88-5477-49A5-BFCD-F026941C6BE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3527985-8383-4B13-BB42-5B4DF2A297A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0F157-508B-4E63-B672-CF76623D176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5B18F28-8E3C-4CF1-85E9-CEC39914D2D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2AEE7-E2CF-4D44-8835-50BE12B11AD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441EB67-8F58-4A5C-99FA-1E799E74DCA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6"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0B3BA-2CA0-4C64-8527-F647A9EEFF5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B6A2FB9-A1C2-4FB1-80EA-D7957269EDE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Answer</a:t>
            </a:r>
            <a:r>
              <a:rPr b="0" lang="en-US" sz="1200" spc="-1" strike="noStrike">
                <a:solidFill>
                  <a:srgbClr val="000000"/>
                </a:solidFill>
                <a:latin typeface="Times New Roman"/>
              </a:rPr>
              <a:t>: cryptography is coo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890EDE-7224-4D32-9120-C07D500A455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5DCA84B-9805-4C0B-AB5B-3B2681C1250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A6B937-519E-40BD-A7BA-C4BA00290CE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56FC5CE-CEDD-466B-B7D7-4FADF75580A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F9E415-197A-4789-BFFB-259E9344D12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FA5EFEB-3979-4749-AC94-3DF4907695D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7F9CA-DB31-4A39-9376-82328E8A191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B6DDAE8-FEB1-44F3-A561-F7CB8A6B8C6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Answer 1</a:t>
            </a:r>
            <a:r>
              <a:rPr b="0" lang="en-GB" sz="1200" spc="-1" strike="noStrike">
                <a:solidFill>
                  <a:srgbClr val="000000"/>
                </a:solidFill>
                <a:latin typeface="Times New Roman"/>
              </a:rPr>
              <a:t>: CRYPTOGRAPHY IS VERY COOL</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Answer 2</a:t>
            </a:r>
            <a:r>
              <a:rPr b="0" lang="en-GB" sz="1200" spc="-1" strike="noStrike">
                <a:solidFill>
                  <a:srgbClr val="000000"/>
                </a:solidFill>
                <a:latin typeface="Times New Roman"/>
              </a:rPr>
              <a:t>: PROFESSIONA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AF3C9B-C76A-42E0-99E9-7B1C77D5AC9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F4B404D-5418-4DFC-A3ED-652768652E3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22441-9ED7-4788-B9BC-C94E39D0E76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7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9D16A44-1127-4490-9DBA-C6040D32616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7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C1BF8-91D3-40ED-BF12-24E2843DE65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15F1D23-3671-4A30-AE32-3B060489BD5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1AD02-2862-48EF-92F2-ECBFD49D6DA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57B867F-CBF2-4B0A-BE1B-09A13359751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E904D-4F42-4F26-B3BA-DD6F037FB90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327CD2B-7756-4CC2-9867-62F2200A1B5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22B87-1CD5-48EE-88B6-F806CE98C5F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BD32A6F-F60E-4370-ACCD-7EF86607DC1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F1141C-8BF1-4553-97D1-EEBAA922F85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1743E76-58B1-4325-A767-2CF4E6D64F0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D162D-FF35-44F3-AF2C-77C27FB5878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42ECE98-40AE-4B07-B839-0BB26332509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tr</a:t>
            </a:r>
            <a:r>
              <a:rPr b="0" lang="en-US" sz="1200" spc="-1" strike="noStrike">
                <a:solidFill>
                  <a:srgbClr val="000000"/>
                </a:solidFill>
                <a:latin typeface="Times New Roman"/>
              </a:rPr>
              <a:t>: translate character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42AF0-89BE-4AF4-83A5-E96D1D2E90D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E0C8240-FB55-4873-8D71-4E3D70B0277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E63F65-4469-4F70-941E-D74FB5E827B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1DD4943-1782-4BB0-B798-022B4561227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3C6D2-E9FE-454B-A538-14D93A9279E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8243F2F-91C1-46A2-ABAC-E8038CCC6F1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6"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30AF8-6846-40DB-A53A-F1E3864BC56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F82AD87-0F34-41E4-BD45-B3EAA84FE02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0"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3BEC8-F3AA-4B11-BBB6-E0906240BD5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7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32C08F0-237B-4CFF-BEF9-2B776DD5C0D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7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EEDD3-9770-42A9-BBDD-BFDF60AE703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9C8B902-AB1A-40EF-85A4-635E3982735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4"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2E61B-78C6-477F-8291-8FD039CDEEE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6E35EBA-1C82-4E7F-9F68-54FA58B5130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8"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4C3BE-9C82-40EC-9148-C227DE57FF4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E57AAD1-2B5D-4916-BC30-C95A02F773D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2"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3FFCA-BF56-48DB-9D0C-BAABB31327F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D95D9AA-A629-40ED-B62E-9E7A5D6E191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399815-C92E-4E0A-81AF-475B2F832D1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8B43117-17F8-4313-8316-1FFEB61CD0A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BEDBC-465C-4CBD-93CC-D61D3128FB2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B4DC9DD-C587-48C8-9265-62BA4BB22A6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AC2F7-8713-4D2A-88C8-57EC209CEB5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4DC9847-F250-4A21-8090-022FF5955D0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8"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5B660-818A-4D0F-9D00-171A76C9824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D00D751-B749-4C04-8472-30374825763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516D8-6509-49C4-B4B8-80A9396D80A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AEF6154-EA93-4722-8A49-EC6CA586E70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E3B4C-B770-4633-8848-4C5B0041544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3FF2379-2AF8-4C94-AC3A-6BD703C2FA6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7FA9D-A73D-469D-9DFC-0A6EFDDD68B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8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06797BA-10C7-4AC8-B61C-7E6E5381FE0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8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4"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59AD9A-1C7D-4DE1-8756-982F452334D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523B13B-936E-4FCA-B809-BA1F7B12790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75963-D312-4719-BD07-E73553D4BC8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789B452-728D-4C40-9797-285C3C5D3C0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6C05B6-6C8F-4BB8-A56B-456E8F770C6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900FBE9-91F1-41BD-A4B2-2731EC18D2A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78AEA-98C0-434D-8499-EA8F9E5F6A0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088D2B4-ACFF-4F70-93EE-D9B77AC6CD7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D601EC-928E-4B19-9E50-5D54897B9DB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7A749BE-03DA-4ECE-9E72-A1967E23FEA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4A76D-19F0-4816-8DC8-697963C4DCA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F9DF306-DC0C-4090-B73B-EDEB72DE921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0FFF0-9BC9-4940-805F-B873501B57B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E56658B-E8F2-405C-A950-D7D948D7BB1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91AC3F-A553-4FA0-9234-A6A3391E08D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33B9C53-485B-4731-AD91-8B9442F9B00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A8BB6-AFB8-4AAA-BAD2-CF18C164161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A29D982-B9E2-4239-89AC-6B1B6657D6F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1C735-EE2F-40A9-9982-3FCDD28693B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68EC5DC-FD0A-4ED6-BA33-B92B1F315FF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8494F-D016-4A50-BB3D-571D45E1ED0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8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08691ED-7FCD-44BC-A2AC-3E593BDAB4A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8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99034-AEAC-4A8B-BC0D-9BA04113636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FBC034E-E9CD-489D-BAF0-D587E5B9EBF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4DA13-56D6-4BB7-B164-E398794F302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2500578-1FD4-49AC-9F3B-04545DC446B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C94B7-6860-4CE1-A5A1-79B15D76855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FEFBDC6-4A1E-4A0F-8BF5-62DA06BD4B8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D42DE-8F43-4CFC-A7A4-944E6FFD07A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A6C6631-5D9D-4AC9-B28E-30771224399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77BFB-8443-4C67-894E-D1887DDB034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1E7E76E-A588-4D52-BF1F-67064C656A3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9462C-2DEA-4A4D-AAD2-3FE02AF984D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1C09994-78B6-45EA-952F-8893AAA69EA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E55EA-9E66-4B65-A524-91B185D8311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8FA3F24-02BB-40BB-8656-0C63637C79B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AA436-3DAF-4818-B775-07454C579F5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223BB9A-FF15-4002-88CA-863DABF2A21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9BB03-4D87-4770-9DE4-B5BAA2FCE17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79CB0F2-62F2-4FBB-A200-8FC111AAAFE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3337DE-7D6D-4AEE-BAA5-E8F7CF22F76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A2332BF-4F2A-4442-A67B-DC84F385018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6E690-6416-4345-8054-347E318A6D4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9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5AE20BA-9A68-4AA6-A680-346CAA78CF3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9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E80E8-79A5-404D-9903-6057D935653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6B6D431-C049-4B6F-94E5-8965DEAF60F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C4C65B-178B-4B29-A011-AA6A38109B0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D011BF5-04D8-496F-9C33-8175E84D6E7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A7B49-F282-4D8D-8A4E-93377359D2F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0B600B9-E94B-4B88-8B4E-DF724736F9A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8C2F1-9517-45C0-B335-E969100E52E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8A5CACD-F79B-4C20-AA49-E0CDC2D96E7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8498D-D47D-4A64-8AEA-8144038E60F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D26A7A3-5CE8-4C77-AB4B-3BCDD7DEB8F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45E96-628D-43C5-9677-6D92B5B9A33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B1A2D0E-9E5B-4F1D-A0A4-E6C7277A9F7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2E029-593C-4314-991C-6455753E27E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EE01147-BCC6-4556-B855-01B31096C51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B5F792-D0CC-42F9-A8FC-3F898911607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2FAA2A7-BED1-4DC7-AB3E-76BEEFA561B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11038-B5E5-404E-A8C0-55F8D3E109D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93B80E7-B1B7-47FD-8A19-FD3003EA03F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398F5-49CC-4419-A603-781B65103BF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EC6C09E-6D17-49EE-9D57-D233969955C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DFDE6-5128-409B-9B43-9941F5E47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5AAB-311C-4610-871B-AF8282C0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D4B93-E7CB-4482-A24F-3623BF1B7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728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684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728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684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874A0-554F-4A33-8B7E-B93B7B45D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4786C-8A4D-446F-8F00-481A7C86A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88520" cy="37195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DB4C0-BA7C-43D6-A680-88A608F99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885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09545-348A-47A4-B6B6-67993F232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D9A83-58B9-4AF5-9D86-CB70435C4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27C13-C99E-4BC6-9F64-8C38CD0D6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040" y="833040"/>
            <a:ext cx="7775640" cy="460872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DE727-124D-4FB9-AA1E-D2DB771B5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767C9-F474-4771-9F28-B027187B3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88520" cy="37195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67DE2-1D3E-4C15-95C3-D970132C9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C7B06-11A2-4157-BD55-D663221D7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E50CA-035B-484E-847E-8C350471D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F575B-E6B0-4D8D-AB49-EB83FD86E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646A8-3D87-417D-952D-C1E957BC2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728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684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728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684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62AB9-C0D0-4F07-B527-B884D69FE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885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F8F5-7FC1-4921-BEA6-8A91B642F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7CA6C-51EE-4F5C-9303-9C70CF99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5B395-4596-47D4-9DE3-EE01425C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040" y="833040"/>
            <a:ext cx="7775640" cy="460872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B39F8-FA8A-432E-9829-501CB251F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1511-7555-4052-A442-7EA97AAE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64CD-F45C-4454-945B-6726A027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3FC8-AF26-4B71-BAFB-EE21BD1E0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0" y="0"/>
            <a:ext cx="7617960" cy="6856560"/>
            <a:chOff x="0" y="0"/>
            <a:chExt cx="7617960" cy="6856560"/>
          </a:xfrm>
        </p:grpSpPr>
        <p:grpSp>
          <p:nvGrpSpPr>
            <p:cNvPr id="1" name="Group 2"/>
            <p:cNvGrpSpPr/>
            <p:nvPr/>
          </p:nvGrpSpPr>
          <p:grpSpPr>
            <a:xfrm>
              <a:off x="0" y="0"/>
              <a:ext cx="3198600" cy="6856560"/>
              <a:chOff x="0" y="0"/>
              <a:chExt cx="3198600" cy="6856560"/>
            </a:xfrm>
          </p:grpSpPr>
          <p:sp>
            <p:nvSpPr>
              <p:cNvPr id="2" name="Rectangle 3"/>
              <p:cNvSpPr/>
              <p:nvPr/>
            </p:nvSpPr>
            <p:spPr>
              <a:xfrm>
                <a:off x="0" y="0"/>
                <a:ext cx="761760" cy="685656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AutoShape 4"/>
              <p:cNvSpPr/>
              <p:nvPr/>
            </p:nvSpPr>
            <p:spPr>
              <a:xfrm>
                <a:off x="456840" y="0"/>
                <a:ext cx="2741760" cy="1166400"/>
              </a:xfrm>
              <a:custGeom>
                <a:avLst/>
                <a:gdLst>
                  <a:gd name="textAreaLeft" fmla="*/ 0 w 2741760"/>
                  <a:gd name="textAreaRight" fmla="*/ 2741760 w 2741760"/>
                  <a:gd name="textAreaTop" fmla="*/ 0 h 1166400"/>
                  <a:gd name="textAreaBottom" fmla="*/ 1166760 h 11664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 name="Group 5"/>
            <p:cNvGrpSpPr/>
            <p:nvPr/>
          </p:nvGrpSpPr>
          <p:grpSpPr>
            <a:xfrm>
              <a:off x="228240" y="1981080"/>
              <a:ext cx="7389720" cy="317520"/>
              <a:chOff x="228240" y="1981080"/>
              <a:chExt cx="7389720" cy="317520"/>
            </a:xfrm>
          </p:grpSpPr>
          <p:sp>
            <p:nvSpPr>
              <p:cNvPr id="5" name="AutoShape 6"/>
              <p:cNvSpPr/>
              <p:nvPr/>
            </p:nvSpPr>
            <p:spPr>
              <a:xfrm>
                <a:off x="609120" y="1981080"/>
                <a:ext cx="7008840" cy="3157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AutoShape 7"/>
              <p:cNvSpPr/>
              <p:nvPr/>
            </p:nvSpPr>
            <p:spPr>
              <a:xfrm flipH="1">
                <a:off x="227880" y="1981080"/>
                <a:ext cx="393480" cy="3175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
        <p:nvSpPr>
          <p:cNvPr id="7"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88520" cy="3719520"/>
          </a:xfrm>
          <a:prstGeom prst="rect">
            <a:avLst/>
          </a:prstGeom>
          <a:noFill/>
          <a:ln w="0">
            <a:noFill/>
          </a:ln>
        </p:spPr>
        <p:txBody>
          <a:bodyPr lIns="90000" rIns="90000" tIns="46800" bIns="46800" anchor="t">
            <a:normAutofit/>
          </a:bodyPr>
          <a:p>
            <a:pPr marL="338040" indent="-33804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38360" indent="-281160">
              <a:spcBef>
                <a:spcPts val="700"/>
              </a:spcBef>
              <a:buClr>
                <a:srgbClr val="003366"/>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7920" y="6248160"/>
            <a:ext cx="2125800" cy="469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8/12/04</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1320" y="6199200"/>
            <a:ext cx="2892240" cy="51912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Security+ Guide to Network Security Fundamentals, 2e</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4240" y="6207120"/>
            <a:ext cx="582480" cy="519120"/>
          </a:xfrm>
          <a:prstGeom prst="rect">
            <a:avLst/>
          </a:prstGeom>
          <a:noFill/>
          <a:ln w="0">
            <a:noFill/>
          </a:ln>
        </p:spPr>
        <p:txBody>
          <a:bodyPr lIns="90000" rIns="90000" tIns="46800" bIns="46800" anchor="b" anchorCtr="1">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2600" spc="-1" strike="noStrike">
                <a:solidFill>
                  <a:srgbClr val="ffffff"/>
                </a:solidFill>
                <a:latin typeface="Times New Roman"/>
                <a:ea typeface="DejaVu San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69653-5268-4A98-9878-18898A678AFD}" type="slidenum">
              <a:rPr b="1" lang="en-GB" sz="2600" spc="-1" strike="noStrike">
                <a:solidFill>
                  <a:srgbClr val="ffffff"/>
                </a:solidFill>
                <a:latin typeface="Times New Roman"/>
                <a:ea typeface="DejaVu Sans"/>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
          <p:cNvGrpSpPr/>
          <p:nvPr/>
        </p:nvGrpSpPr>
        <p:grpSpPr>
          <a:xfrm>
            <a:off x="0" y="0"/>
            <a:ext cx="5865480" cy="6856560"/>
            <a:chOff x="0" y="0"/>
            <a:chExt cx="5865480" cy="6856560"/>
          </a:xfrm>
        </p:grpSpPr>
        <p:sp>
          <p:nvSpPr>
            <p:cNvPr id="49" name="Rectangle 2"/>
            <p:cNvSpPr/>
            <p:nvPr/>
          </p:nvSpPr>
          <p:spPr>
            <a:xfrm>
              <a:off x="0" y="0"/>
              <a:ext cx="4570560" cy="685656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AutoShape 3"/>
            <p:cNvSpPr/>
            <p:nvPr/>
          </p:nvSpPr>
          <p:spPr>
            <a:xfrm>
              <a:off x="685440" y="990360"/>
              <a:ext cx="5180040" cy="190404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51" name="Group 4"/>
          <p:cNvGrpSpPr/>
          <p:nvPr/>
        </p:nvGrpSpPr>
        <p:grpSpPr>
          <a:xfrm>
            <a:off x="3632040" y="4889520"/>
            <a:ext cx="4875120" cy="317520"/>
            <a:chOff x="3632040" y="4889520"/>
            <a:chExt cx="4875120" cy="317520"/>
          </a:xfrm>
        </p:grpSpPr>
        <p:sp>
          <p:nvSpPr>
            <p:cNvPr id="52" name="AutoShape 5"/>
            <p:cNvSpPr/>
            <p:nvPr/>
          </p:nvSpPr>
          <p:spPr>
            <a:xfrm flipH="1">
              <a:off x="3632040" y="4889520"/>
              <a:ext cx="4624560" cy="31608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AutoShape 6"/>
            <p:cNvSpPr/>
            <p:nvPr/>
          </p:nvSpPr>
          <p:spPr>
            <a:xfrm>
              <a:off x="8247240" y="4889520"/>
              <a:ext cx="259920" cy="3175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54"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7720" y="2362320"/>
            <a:ext cx="7688520" cy="3719520"/>
          </a:xfrm>
          <a:prstGeom prst="rect">
            <a:avLst/>
          </a:prstGeom>
          <a:noFill/>
          <a:ln w="0">
            <a:noFill/>
          </a:ln>
        </p:spPr>
        <p:txBody>
          <a:bodyPr lIns="90000" rIns="90000" tIns="46800" bIns="46800" anchor="t">
            <a:normAutofit/>
          </a:bodyPr>
          <a:p>
            <a:pPr marL="338040" indent="-33804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38360" indent="-281160">
              <a:spcBef>
                <a:spcPts val="700"/>
              </a:spcBef>
              <a:buClr>
                <a:srgbClr val="003366"/>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7920" y="6248160"/>
            <a:ext cx="2125800" cy="4698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ffffff"/>
                </a:solidFill>
                <a:latin typeface="Times New Roman"/>
                <a:ea typeface="DejaVu San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ffffff"/>
                </a:solidFill>
                <a:latin typeface="Times New Roman"/>
                <a:ea typeface="DejaVu Sans"/>
              </a:rPr>
              <a:t>8/12/04</a:t>
            </a:r>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1320" y="6199200"/>
            <a:ext cx="2892240" cy="519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3366"/>
                </a:solidFill>
                <a:latin typeface="Times New Roman"/>
                <a:ea typeface="DejaVu Sans"/>
              </a:defRPr>
            </a:lvl1pPr>
          </a:lstStyle>
          <a:p>
            <a: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imes New Roman"/>
                <a:ea typeface="DejaVu Sans"/>
              </a:rPr>
              <a:t>Security+ Guide to Network Security Fundamentals, 2e</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6320" y="6208560"/>
            <a:ext cx="582480" cy="5241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2600" spc="-1" strike="noStrike">
                <a:solidFill>
                  <a:srgbClr val="ffffff"/>
                </a:solidFill>
                <a:latin typeface="Times New Roman"/>
                <a:ea typeface="DejaVu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A84A5-FF7C-45EA-A96B-3B637D07A4EB}" type="slidenum">
              <a:rPr b="1" lang="en-GB" sz="2600" spc="-1" strike="noStrike">
                <a:solidFill>
                  <a:srgbClr val="ffffff"/>
                </a:solidFill>
                <a:latin typeface="Times New Roman"/>
                <a:ea typeface="DejaVu Sans"/>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776160" y="1479600"/>
            <a:ext cx="74376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3366"/>
                </a:solidFill>
                <a:latin typeface="Arial"/>
              </a:rPr>
              <a:t>Hands-On Cryptography</a:t>
            </a:r>
            <a:endParaRPr b="0" lang="en-US" sz="3600" spc="-1" strike="noStrike">
              <a:solidFill>
                <a:srgbClr val="ffffff"/>
              </a:solidFill>
              <a:latin typeface="Arial"/>
            </a:endParaRPr>
          </a:p>
        </p:txBody>
      </p:sp>
      <p:sp>
        <p:nvSpPr>
          <p:cNvPr id="106" name="Text Box 2"/>
          <p:cNvSpPr/>
          <p:nvPr/>
        </p:nvSpPr>
        <p:spPr>
          <a:xfrm>
            <a:off x="1371600" y="2895480"/>
            <a:ext cx="6400800" cy="1447920"/>
          </a:xfrm>
          <a:prstGeom prst="rect">
            <a:avLst/>
          </a:prstGeom>
          <a:noFill/>
          <a:ln w="0">
            <a:noFill/>
          </a:ln>
        </p:spPr>
        <p:style>
          <a:lnRef idx="0"/>
          <a:fillRef idx="0"/>
          <a:effectRef idx="0"/>
          <a:fontRef idx="minor"/>
        </p:style>
        <p:txBody>
          <a:bodyPr lIns="90000" rIns="90000" tIns="46800" bIns="46800" anchor="b">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cc"/>
                </a:solidFill>
                <a:latin typeface="Arial"/>
              </a:rPr>
              <a:t>Casey W. O</a:t>
            </a:r>
            <a:r>
              <a:rPr b="0" lang="ja-JP" sz="2600" spc="-1" strike="noStrike">
                <a:solidFill>
                  <a:srgbClr val="0000cc"/>
                </a:solidFill>
                <a:latin typeface="Arial"/>
              </a:rPr>
              <a:t>’</a:t>
            </a:r>
            <a:r>
              <a:rPr b="0" lang="en-GB" sz="2600" spc="-1" strike="noStrike">
                <a:solidFill>
                  <a:srgbClr val="0000cc"/>
                </a:solidFill>
                <a:latin typeface="Arial"/>
              </a:rPr>
              <a:t>Brien</a:t>
            </a: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C12C2-DE0A-45B5-9F2F-84F1CF0B671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3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3"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Authentication</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Verify the send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Trust the sender is whom they claim to b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Asymmetric cryptography and hashing</a:t>
            </a:r>
            <a:endParaRPr b="0" lang="en-US" sz="28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2CECE-9B05-436B-8BD0-D882FC4B807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0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0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 this example, we</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re going to add another row across the top, with number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5_Numbered_Transposition_Table</a:t>
            </a:r>
            <a:endParaRPr b="0" lang="en-US" sz="28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124EC-FE7A-42C5-8449-39BF13DD0F3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0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0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Use the numbers to identify the order to write the columns for the new ciphertext:</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OREEISYHBTWKPAHLAHESEELHEPTSTHAAFENMCMRAITMH</a:t>
            </a:r>
            <a:endParaRPr b="0" lang="en-US" sz="18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CFEDD-38B3-417B-B968-09CD01A2501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1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till limited to English characters, and linguistic patterns</a:t>
            </a:r>
            <a:endParaRPr b="0" lang="en-US" sz="28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A40E5-863F-45D9-AD95-67446E0AF78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1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We can greatly increase the level of difficulty of breaking the ciphertext in the previous example by performing another round of transposition, complete w/numbered columns</a:t>
            </a:r>
            <a:endParaRPr b="0" lang="en-US" sz="2800" spc="-1" strike="noStrike">
              <a:solidFill>
                <a:srgbClr val="ffffff"/>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DE85C-FA17-49ED-903E-89C640572CC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1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irst, take the previous example</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s ending ciphertext and plug it into a Numbered Transposition Tab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6_Numbered_Transposition_Table_2</a:t>
            </a:r>
            <a:endParaRPr b="0" lang="en-US" sz="2800" spc="-1" strike="noStrike">
              <a:solidFill>
                <a:srgbClr val="ffff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EFDD2-C614-4688-96AF-C91300A9753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2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new ciphertext, after a second round of transposition, becomes:</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RBLLHCHYAESNTEWHEAROHHETMMSPSTEIETAHAMIKEPFA</a:t>
            </a:r>
            <a:endParaRPr b="0" lang="en-US" sz="18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70991-763E-4A60-B5C9-A4CC5F08F68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2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and Numbered Transposition Table</a:t>
            </a:r>
            <a:endParaRPr b="0" lang="en-US" sz="3600" spc="-1" strike="noStrike">
              <a:solidFill>
                <a:srgbClr val="ffffff"/>
              </a:solidFill>
              <a:latin typeface="Arial"/>
            </a:endParaRPr>
          </a:p>
        </p:txBody>
      </p:sp>
      <p:sp>
        <p:nvSpPr>
          <p:cNvPr id="42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ombine substitution and transposition</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3366"/>
                </a:solidFill>
                <a:latin typeface="Arial"/>
                <a:ea typeface="ＭＳ Ｐゴシック"/>
              </a:rPr>
              <a:t>k: </a:t>
            </a:r>
            <a:r>
              <a:rPr b="0" lang="en-GB" sz="1800" spc="-1" strike="noStrike">
                <a:solidFill>
                  <a:srgbClr val="003366"/>
                </a:solidFill>
                <a:latin typeface="Arial"/>
                <a:ea typeface="ＭＳ Ｐゴシック"/>
              </a:rPr>
              <a:t>math4163752</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I love this applied cryptography workshop</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key in this example means to take the plaintext message and encrypt it using the Vigenere cipher w/a key(word) of </a:t>
            </a:r>
            <a:r>
              <a:rPr b="0" i="1" lang="en-GB" sz="2800" spc="-1" strike="noStrike">
                <a:solidFill>
                  <a:srgbClr val="003366"/>
                </a:solidFill>
                <a:latin typeface="Arial"/>
                <a:ea typeface="ＭＳ Ｐゴシック"/>
              </a:rPr>
              <a:t>math</a:t>
            </a:r>
            <a:endParaRPr b="0" lang="en-US" sz="2800" spc="-1" strike="noStrike">
              <a:solidFill>
                <a:srgbClr val="ffffff"/>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842B55-2A62-4BD2-83F6-33756047D9B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2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and 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2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encryption is done, then create a Numbered Transposition Table with 7 columns and order them as 4163752, performing a transposition in that order</a:t>
            </a:r>
            <a:endParaRPr b="0" lang="en-US" sz="28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6D756-C3B6-474D-A984-B928B7BAAD9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2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and 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2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7_Substitution_and_Numbered_Transposition_Table</a:t>
            </a:r>
            <a:endParaRPr b="0" lang="en-US" sz="28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70A0D-FDB3-45EE-B915-6AE045D2067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3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nfusion and Diffusion</a:t>
            </a:r>
            <a:endParaRPr b="0" lang="en-US" sz="3600" spc="-1" strike="noStrike">
              <a:solidFill>
                <a:srgbClr val="ffffff"/>
              </a:solidFill>
              <a:latin typeface="Arial"/>
            </a:endParaRPr>
          </a:p>
        </p:txBody>
      </p:sp>
      <p:sp>
        <p:nvSpPr>
          <p:cNvPr id="43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s stated earlier, the resultant ciphertext should have </a:t>
            </a:r>
            <a:r>
              <a:rPr b="0" i="1" lang="en-GB" sz="2800" spc="-1" strike="noStrike">
                <a:solidFill>
                  <a:srgbClr val="003366"/>
                </a:solidFill>
                <a:latin typeface="Arial"/>
              </a:rPr>
              <a:t>zero</a:t>
            </a:r>
            <a:r>
              <a:rPr b="0" lang="en-GB" sz="2800" spc="-1" strike="noStrike">
                <a:solidFill>
                  <a:srgbClr val="003366"/>
                </a:solidFill>
                <a:latin typeface="Arial"/>
              </a:rPr>
              <a:t> resemblance to the plaintex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800" spc="-1" strike="noStrike">
                <a:solidFill>
                  <a:srgbClr val="003366"/>
                </a:solidFill>
                <a:latin typeface="Arial"/>
              </a:rPr>
              <a:t>How can we achieve this goal? How do we remove any of the frequency and statistical relationship between our ciphertext and our plaintex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onfusion and Diffusion</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9DAB4E-B5E2-4E08-907E-9859821000A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35"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6"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Integrity</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Trust the information has not been alter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hashing and digital signatures</a:t>
            </a:r>
            <a:endParaRPr b="0" lang="en-US" sz="2800" spc="-1" strike="noStrike">
              <a:solidFill>
                <a:srgbClr val="ffffff"/>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35851-45AA-433E-98E2-48C059E512F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3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nfusion and Diffusion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3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order to have </a:t>
            </a:r>
            <a:r>
              <a:rPr b="1" lang="en-GB" sz="2800" spc="-1" strike="noStrike">
                <a:solidFill>
                  <a:srgbClr val="003366"/>
                </a:solidFill>
                <a:latin typeface="Arial"/>
              </a:rPr>
              <a:t>confusion</a:t>
            </a:r>
            <a:r>
              <a:rPr b="0" lang="en-GB" sz="2800" spc="-1" strike="noStrike">
                <a:solidFill>
                  <a:srgbClr val="003366"/>
                </a:solidFill>
                <a:latin typeface="Arial"/>
              </a:rPr>
              <a:t>, we must have a method of removing any association between the key and the ciphertex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o matter how long a cryptanalyst has, there should be no clues of any sort in the ciphertext that can be used to determine the key or key length</a:t>
            </a:r>
            <a:endParaRPr b="0" lang="en-US" sz="28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8C89F-7A4A-432B-A492-61E40A90BBD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3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nfusion and Diffusion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3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order to have </a:t>
            </a:r>
            <a:r>
              <a:rPr b="1" lang="en-GB" sz="2800" spc="-1" strike="noStrike">
                <a:solidFill>
                  <a:srgbClr val="003366"/>
                </a:solidFill>
                <a:latin typeface="Arial"/>
              </a:rPr>
              <a:t>diffusion</a:t>
            </a:r>
            <a:r>
              <a:rPr b="0" lang="en-GB" sz="2800" spc="-1" strike="noStrike">
                <a:solidFill>
                  <a:srgbClr val="003366"/>
                </a:solidFill>
                <a:latin typeface="Arial"/>
              </a:rPr>
              <a:t>, we must have a method of removing any association between the ciphertext and the plaintext</a:t>
            </a:r>
            <a:endParaRPr b="0" lang="en-US" sz="2800" spc="-1" strike="noStrike">
              <a:solidFill>
                <a:srgbClr val="ffffff"/>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FC474-5184-400A-90D8-0DB8783146F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Diffusion Cipher</a:t>
            </a:r>
            <a:endParaRPr b="0" lang="en-US" sz="3600" spc="-1" strike="noStrike">
              <a:solidFill>
                <a:srgbClr val="ffffff"/>
              </a:solidFill>
              <a:latin typeface="Arial"/>
            </a:endParaRPr>
          </a:p>
        </p:txBody>
      </p:sp>
      <p:sp>
        <p:nvSpPr>
          <p:cNvPr id="44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olybius cipher</a:t>
            </a:r>
            <a:endParaRPr b="0" lang="en-US" sz="28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F5700-B443-4DD7-B5B4-80E8EE61BE4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a:t>
            </a:r>
            <a:endParaRPr b="0" lang="en-US" sz="3600" spc="-1" strike="noStrike">
              <a:solidFill>
                <a:srgbClr val="ffffff"/>
              </a:solidFill>
              <a:latin typeface="Arial"/>
            </a:endParaRPr>
          </a:p>
        </p:txBody>
      </p:sp>
      <p:sp>
        <p:nvSpPr>
          <p:cNvPr id="44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olybius was a citizen of ancient Greece (approximately 200-120 B.C.)</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is was the first known use of a diffusion ciph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8_Polybius_Cipher</a:t>
            </a:r>
            <a:endParaRPr b="0" lang="en-US" sz="2800" spc="-1" strike="noStrike">
              <a:solidFill>
                <a:srgbClr val="ffffff"/>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87251B-3936-4C3F-B605-5441583D782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4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You can see the letters of the English alphabet in a 5-by-5 grid</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letters I/J are in the same place (leaving it up to the recipient to recognize the correct letter based on the context of the message)</a:t>
            </a:r>
            <a:endParaRPr b="0" lang="en-US" sz="2800" spc="-1" strike="noStrike">
              <a:solidFill>
                <a:srgbClr val="ffffff"/>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95389-862E-420D-AE83-56065FCEB45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hen a letter is to be converted to a number, you first read the vertical number and then find the corresponding horizontal numb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us, every letter will have a 2-digit number</a:t>
            </a:r>
            <a:endParaRPr b="0" lang="en-US" sz="2800" spc="-1" strike="noStrike">
              <a:solidFill>
                <a:srgbClr val="ffffff"/>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470D8-1208-489E-8480-F770008BC93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5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ncrypt the plaintext: </a:t>
            </a:r>
            <a:r>
              <a:rPr b="0" lang="en-GB" sz="1800" spc="-1" strike="noStrike">
                <a:solidFill>
                  <a:srgbClr val="003366"/>
                </a:solidFill>
                <a:latin typeface="Arial"/>
                <a:ea typeface="ＭＳ Ｐゴシック"/>
              </a:rPr>
              <a:t>CIPHER</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13, I=24, P=35, H=23, E=15, R=42</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c=132435231542</a:t>
            </a:r>
            <a:endParaRPr b="0" lang="en-US" sz="1800" spc="-1" strike="noStrike">
              <a:solidFill>
                <a:srgbClr val="ffffff"/>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84AE9A-D3F0-44C1-A425-C967B363CAA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5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previous example can be made stronger by either creating a keyphrase instead of a numerical key, or a single key word</a:t>
            </a:r>
            <a:endParaRPr b="0" lang="en-US" sz="28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BDA6D-FFD5-470A-BA32-D0C673B8342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5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a:t>
            </a:r>
            <a:r>
              <a:rPr b="0" lang="en-GB" sz="1800" spc="-1" strike="noStrike">
                <a:solidFill>
                  <a:srgbClr val="003366"/>
                </a:solidFill>
                <a:latin typeface="Arial"/>
                <a:ea typeface="ＭＳ Ｐゴシック"/>
              </a:rPr>
              <a:t>When in the course of human events</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tarting in position 11, spell out the keyphras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However, you can use each letter only once, so when there is a repeat, skip that letter</a:t>
            </a:r>
            <a:endParaRPr b="0" lang="en-US" sz="28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1DC48-BE9B-44AD-B3B3-7E208642858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6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6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you have used all the letters in the keyphrase, the rest of the alphabet is put in place, often with the letters Y and Z on the last square of the grid</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63091-08A0-4FB2-A86E-CBF7F86669B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3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9"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Nonrepudiation</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Ensure that the sender cannot deny a message was deliver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hashing and digital signatures</a:t>
            </a:r>
            <a:endParaRPr b="0" lang="en-US" sz="28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E313D-5F6B-48CB-A032-EBBB5610779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6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6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9_Polybius_Cipher_with_Keyphrase</a:t>
            </a:r>
            <a:endParaRPr b="0" lang="en-US" sz="28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0" y="6242040"/>
            <a:ext cx="830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B61C7-368C-40A4-9E22-635C6C48EFF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6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6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ow encrypt the plaintext: </a:t>
            </a:r>
            <a:r>
              <a:rPr b="0" lang="en-GB" sz="1800" spc="-1" strike="noStrike">
                <a:solidFill>
                  <a:srgbClr val="003366"/>
                </a:solidFill>
                <a:latin typeface="Arial"/>
                <a:ea typeface="ＭＳ Ｐゴシック"/>
              </a:rPr>
              <a:t>CIPHER</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22, I=15, P=52, H=12, E=13, R=25</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c=221552121325</a:t>
            </a:r>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C9493D-C181-4430-8401-832CBB8E4BD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7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echanical Encryption Machines</a:t>
            </a:r>
            <a:endParaRPr b="0" lang="en-US" sz="3600" spc="-1" strike="noStrike">
              <a:solidFill>
                <a:srgbClr val="ffffff"/>
              </a:solidFill>
              <a:latin typeface="Arial"/>
            </a:endParaRPr>
          </a:p>
        </p:txBody>
      </p:sp>
      <p:sp>
        <p:nvSpPr>
          <p:cNvPr id="47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learly adding multiple layers of encryption is the significant factor in creating a secure messag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owever, to do so by hand is monotonous, time consuming, and error-prone</a:t>
            </a:r>
            <a:endParaRPr b="0" lang="en-US" sz="2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53F2B-AEC1-45BA-BCE8-4B602BDFFA1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7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echanical Encryption Machine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7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o perform the same simple tasks repeatedly without making a mistake is difficul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hat is good at performing that sort of thing?</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 </a:t>
            </a:r>
            <a:r>
              <a:rPr b="0" i="1" lang="en-GB" sz="2800" spc="-1" strike="noStrike">
                <a:solidFill>
                  <a:srgbClr val="003366"/>
                </a:solidFill>
                <a:latin typeface="Arial"/>
                <a:ea typeface="ＭＳ Ｐゴシック"/>
              </a:rPr>
              <a:t>machine</a:t>
            </a:r>
            <a:endParaRPr b="0" lang="en-US" sz="2800" spc="-1" strike="noStrike">
              <a:solidFill>
                <a:srgbClr val="ffffff"/>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D7DE6-1A83-4E70-9C9D-C41FEDD803F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7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or Machines</a:t>
            </a:r>
            <a:endParaRPr b="0" lang="en-US" sz="3600" spc="-1" strike="noStrike">
              <a:solidFill>
                <a:srgbClr val="ffffff"/>
              </a:solidFill>
              <a:latin typeface="Arial"/>
            </a:endParaRPr>
          </a:p>
        </p:txBody>
      </p:sp>
      <p:sp>
        <p:nvSpPr>
          <p:cNvPr id="477" name="Text Box 3"/>
          <p:cNvSpPr/>
          <p:nvPr/>
        </p:nvSpPr>
        <p:spPr>
          <a:xfrm>
            <a:off x="838080" y="2362320"/>
            <a:ext cx="510552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a:t>
            </a:r>
            <a:r>
              <a:rPr b="1" lang="en-GB" sz="2800" spc="-1" strike="noStrike">
                <a:solidFill>
                  <a:srgbClr val="003366"/>
                </a:solidFill>
                <a:latin typeface="Arial"/>
              </a:rPr>
              <a:t>Enigma machine</a:t>
            </a:r>
            <a:r>
              <a:rPr b="0" lang="en-GB" sz="2800" spc="-1" strike="noStrike">
                <a:solidFill>
                  <a:srgbClr val="003366"/>
                </a:solidFill>
                <a:latin typeface="Arial"/>
              </a:rPr>
              <a:t> is perhaps the most famous of all cryptography machine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More than 200,000 machines were used in WWII</a:t>
            </a:r>
            <a:endParaRPr b="0" lang="en-US" sz="2800" spc="-1" strike="noStrike">
              <a:solidFill>
                <a:srgbClr val="ffffff"/>
              </a:solidFill>
              <a:latin typeface="Arial"/>
            </a:endParaRPr>
          </a:p>
        </p:txBody>
      </p:sp>
      <p:pic>
        <p:nvPicPr>
          <p:cNvPr id="478" name="Picture 5" descr=""/>
          <p:cNvPicPr/>
          <p:nvPr/>
        </p:nvPicPr>
        <p:blipFill>
          <a:blip r:embed="rId1"/>
          <a:stretch/>
        </p:blipFill>
        <p:spPr>
          <a:xfrm>
            <a:off x="6095880" y="2990880"/>
            <a:ext cx="2286000" cy="272412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DEDC0-F18E-473B-8EBF-68EF7EC703F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a:t>
            </a:r>
            <a:endParaRPr b="0" lang="en-US" sz="3600" spc="-1" strike="noStrike">
              <a:solidFill>
                <a:srgbClr val="ffffff"/>
              </a:solidFill>
              <a:latin typeface="Arial"/>
            </a:endParaRPr>
          </a:p>
        </p:txBody>
      </p:sp>
      <p:sp>
        <p:nvSpPr>
          <p:cNvPr id="48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Was a cipher machine used by the German army in WWII to encrypt and decrypt message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Over the years there were many variants - the most widespread was the standard Enigma machine "Enigma I", which was used by the Wehrmacht</a:t>
            </a:r>
            <a:endParaRPr b="0" lang="en-US" sz="2800" spc="-1" strike="noStrike">
              <a:solidFill>
                <a:srgbClr val="ffffff"/>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5DDD9-C996-475C-A22B-D47C8626414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84" name="Text Box 3"/>
          <p:cNvSpPr/>
          <p:nvPr/>
        </p:nvSpPr>
        <p:spPr>
          <a:xfrm>
            <a:off x="838080" y="2362320"/>
            <a:ext cx="335304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side the machine are 3 (or more) independent spinning rotors w/26 electrical contacts on either side</a:t>
            </a:r>
            <a:endParaRPr b="0" lang="en-US" sz="2800" spc="-1" strike="noStrike">
              <a:solidFill>
                <a:srgbClr val="ffffff"/>
              </a:solidFill>
              <a:latin typeface="Arial"/>
            </a:endParaRPr>
          </a:p>
        </p:txBody>
      </p:sp>
      <p:pic>
        <p:nvPicPr>
          <p:cNvPr id="485" name="Picture 4" descr="enigma-installed-rotors-100.jpg"/>
          <p:cNvPicPr/>
          <p:nvPr/>
        </p:nvPicPr>
        <p:blipFill>
          <a:blip r:embed="rId1"/>
          <a:stretch/>
        </p:blipFill>
        <p:spPr>
          <a:xfrm>
            <a:off x="4419720" y="2743200"/>
            <a:ext cx="4243320" cy="31813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96185-791E-4790-942F-55537DADD1F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8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8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One rotor contains 26 possible pins and electrical connections that represent the 26 letters of the alphabet</a:t>
            </a:r>
            <a:endParaRPr b="0" lang="en-US" sz="2800" spc="-1" strike="noStrike">
              <a:solidFill>
                <a:srgbClr val="ffffff"/>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E2233F-BB26-4267-9281-7350796FE25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9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ith a single rotor, the net result would be no different than a single Caesar shift, or a single transposition cipher – as there are only 26 positions on either side of the rotor, allowing for only 26 possibilities</a:t>
            </a:r>
            <a:endParaRPr b="0" lang="en-US" sz="2800" spc="-1" strike="noStrike">
              <a:solidFill>
                <a:srgbClr val="ffffff"/>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80BE9-016F-42E4-834B-B2ABF9C079E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9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lines in the diagram on the next slide represent the logical electrical signal as it passes through the machin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86D5F-9187-46C6-9923-C5959368B77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41"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4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Access Control</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Restrict availability to inform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Symmetric and Asymmetric cryptography</a:t>
            </a:r>
            <a:endParaRPr b="0" lang="en-US" sz="2800" spc="-1" strike="noStrike">
              <a:solidFill>
                <a:srgbClr val="ffffff"/>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3BB465-01F6-45CC-93B7-26011D3DADD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pic>
        <p:nvPicPr>
          <p:cNvPr id="497" name="Picture 3" descr=""/>
          <p:cNvPicPr/>
          <p:nvPr/>
        </p:nvPicPr>
        <p:blipFill>
          <a:blip r:embed="rId1"/>
          <a:stretch/>
        </p:blipFill>
        <p:spPr>
          <a:xfrm>
            <a:off x="1219320" y="2438280"/>
            <a:ext cx="7453080" cy="419112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65711D-D6BE-4895-BE7B-40240287BF8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fter pressing the letter H, there would be a change in the setting of the machin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rotor on the far right had rotated 1 position, so once the letter H had been pressed, and the ciphertext printed, the rotor would move</a:t>
            </a:r>
            <a:endParaRPr b="0" lang="en-US" sz="2800" spc="-1" strike="noStrike">
              <a:solidFill>
                <a:srgbClr val="ffffff"/>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6096D-276C-45AE-9745-CF214905C1B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0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Notice the settings of the 3 rotors on the right are slightly different than the settings of the 3 rotors on the lef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essence, every time a letter was entered, the far right rotor rotated 1 position</a:t>
            </a:r>
            <a:endParaRPr b="0" lang="en-US" sz="2800" spc="-1" strike="noStrike">
              <a:solidFill>
                <a:srgbClr val="ffffff"/>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EFCB8-8AE3-4A41-977F-14A74BD2027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0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far right (outside) rotor rotated w/every key strok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enter rotor rotated one position after the far right rotor made a full 26-key cycl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far left rotor rotated one position after the center rotor made a full 26-key cycle</a:t>
            </a:r>
            <a:endParaRPr b="0" lang="en-US" sz="2800" spc="-1" strike="noStrike">
              <a:solidFill>
                <a:srgbClr val="ffffff"/>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EA5BD-9EE4-4FBE-A475-BAA94E1DA97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0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very single keystroke made the substitution different – which made this a difficult cipher to break</a:t>
            </a:r>
            <a:endParaRPr b="0" lang="en-US" sz="2800" spc="-1" strike="noStrike">
              <a:solidFill>
                <a:srgbClr val="ffffff"/>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35104-A0D6-43B1-8301-1DE7B3923FD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1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1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 the receiving end, the rotors would be set, the daily key would be set, and the Enigma operator would type the ciphertext on the key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machine would output the plaintext just as it was entered</a:t>
            </a:r>
            <a:endParaRPr b="0" lang="en-US" sz="2800" spc="-1" strike="noStrike">
              <a:solidFill>
                <a:srgbClr val="ffffff"/>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4D039-8F06-4DFD-B084-2FC4752B426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1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pic>
        <p:nvPicPr>
          <p:cNvPr id="515" name="Picture 4" descr="enigma_visualization.png"/>
          <p:cNvPicPr/>
          <p:nvPr/>
        </p:nvPicPr>
        <p:blipFill>
          <a:blip r:embed="rId1"/>
          <a:stretch/>
        </p:blipFill>
        <p:spPr>
          <a:xfrm>
            <a:off x="1143000" y="2362320"/>
            <a:ext cx="7562880" cy="441936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3895E-99CC-4DA8-8F02-6776B2E2679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1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1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800" spc="-1" strike="noStrike">
                <a:solidFill>
                  <a:srgbClr val="003366"/>
                </a:solidFill>
                <a:latin typeface="Arial"/>
              </a:rPr>
              <a:t>CrypTool demonstration</a:t>
            </a:r>
            <a:r>
              <a:rPr b="0" lang="en-US" sz="2800" spc="-1" strike="noStrike">
                <a:solidFill>
                  <a:srgbClr val="00336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Enigma Visualization</a:t>
            </a:r>
            <a:endParaRPr b="0" lang="en-US" sz="2800" spc="-1" strike="noStrike">
              <a:solidFill>
                <a:srgbClr val="ffffff"/>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DBE92-B68F-47A0-9DC8-7752A75F135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2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setting of the key turned out to be one of the primary downfalls of the machin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The Polish Cipher Bureau broke the pre-war Enigma prototype as early as 1932</a:t>
            </a:r>
            <a:endParaRPr b="0" lang="en-US" sz="2800" spc="-1" strike="noStrike">
              <a:solidFill>
                <a:srgbClr val="ffffff"/>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44D4E-5481-4D1E-B1D2-07D93F8CB59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2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Based on this work, the later Enigma was broken with massive effor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About 7,000 cryptographers in the UK used decryption machines, captured Enigma prototypes, and intercepted daily status reports</a:t>
            </a:r>
            <a:r>
              <a:rPr b="0" lang="en-GB" sz="2800" spc="-1" strike="noStrike">
                <a:solidFill>
                  <a:srgbClr val="003366"/>
                </a:solidFill>
                <a:latin typeface="Arial"/>
                <a:ea typeface="ＭＳ Ｐゴシック"/>
              </a:rPr>
              <a:t> (e.g., weather report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E3732-790D-42E9-84F2-645889E277C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4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4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Encryption cannot protect against: stolen keys, DoS attacks, mistakes (humans can be the weakest links in the system)</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Hide the fact that a message was sent (the act of merely sending a message can have interesting ramifications)</a:t>
            </a:r>
            <a:endParaRPr b="0" lang="en-US" sz="2800" spc="-1" strike="noStrike">
              <a:solidFill>
                <a:srgbClr val="ffffff"/>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277B5-5447-40B7-A7A2-6CA087E52E1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a:t>
            </a:r>
            <a:endParaRPr b="0" lang="en-US" sz="3600" spc="-1" strike="noStrike">
              <a:solidFill>
                <a:srgbClr val="ffffff"/>
              </a:solidFill>
              <a:latin typeface="Arial"/>
            </a:endParaRPr>
          </a:p>
        </p:txBody>
      </p:sp>
      <p:sp>
        <p:nvSpPr>
          <p:cNvPr id="52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odern encryption techniques are more sophisticated than simply exchanging one letter for another, or mixing up the lett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odern algorithms use math</a:t>
            </a:r>
            <a:endParaRPr b="0" lang="en-US" sz="2800" spc="-1" strike="noStrike">
              <a:solidFill>
                <a:srgbClr val="ffffff"/>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7048F-F777-42DC-8B02-F027516BFA3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lmost all the math formulas in cryptography involve letters and numb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ot letters as in the letters of the plaintext message, but letters that represent a specific valu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x: the encryption process is referred to as </a:t>
            </a:r>
            <a:r>
              <a:rPr b="0" i="1" lang="en-GB" sz="2800" spc="-1" strike="noStrike">
                <a:solidFill>
                  <a:srgbClr val="003366"/>
                </a:solidFill>
                <a:latin typeface="Arial"/>
                <a:ea typeface="ＭＳ Ｐゴシック"/>
              </a:rPr>
              <a:t>E</a:t>
            </a:r>
            <a:r>
              <a:rPr b="0" lang="en-GB" sz="2800" spc="-1" strike="noStrike">
                <a:solidFill>
                  <a:srgbClr val="003366"/>
                </a:solidFill>
                <a:latin typeface="Arial"/>
                <a:ea typeface="ＭＳ Ｐゴシック"/>
              </a:rPr>
              <a:t>; the decryption process as </a:t>
            </a:r>
            <a:r>
              <a:rPr b="0" i="1" lang="en-GB" sz="2800" spc="-1" strike="noStrike">
                <a:solidFill>
                  <a:srgbClr val="003366"/>
                </a:solidFill>
                <a:latin typeface="Arial"/>
                <a:ea typeface="ＭＳ Ｐゴシック"/>
              </a:rPr>
              <a:t>D</a:t>
            </a:r>
            <a:r>
              <a:rPr b="0" lang="en-GB" sz="2800" spc="-1" strike="noStrike">
                <a:solidFill>
                  <a:srgbClr val="003366"/>
                </a:solidFill>
                <a:latin typeface="Arial"/>
                <a:ea typeface="ＭＳ Ｐゴシック"/>
              </a:rPr>
              <a:t>; the ciphertext as </a:t>
            </a:r>
            <a:r>
              <a:rPr b="0" i="1" lang="en-GB" sz="2800" spc="-1" strike="noStrike">
                <a:solidFill>
                  <a:srgbClr val="003366"/>
                </a:solidFill>
                <a:latin typeface="Arial"/>
                <a:ea typeface="ＭＳ Ｐゴシック"/>
              </a:rPr>
              <a:t>C</a:t>
            </a:r>
            <a:endParaRPr b="0" lang="en-US" sz="2800" spc="-1" strike="noStrike">
              <a:solidFill>
                <a:srgbClr val="ffffff"/>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B583D-FF93-4D3B-8DF2-0DDA09E0773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3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rime Numb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lay a vital role in modern cryptography system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re numbers that can be divided by 1 and the number itself (e.g., 11, 13, 17, 19)</a:t>
            </a:r>
            <a:endParaRPr b="0" lang="en-US" sz="2800" spc="-1" strike="noStrike">
              <a:solidFill>
                <a:srgbClr val="ffffff"/>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CE2DE-05B5-45B5-8757-27D192ED651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3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rime Number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cryptographical value of prime numbers is as follow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f we have 2 primes, </a:t>
            </a:r>
            <a:r>
              <a:rPr b="0" i="1" lang="en-GB" sz="2800" spc="-1" strike="noStrike">
                <a:solidFill>
                  <a:srgbClr val="003366"/>
                </a:solidFill>
                <a:latin typeface="Arial"/>
                <a:ea typeface="ＭＳ Ｐゴシック"/>
              </a:rPr>
              <a:t>p</a:t>
            </a:r>
            <a:r>
              <a:rPr b="0" lang="en-GB" sz="2800" spc="-1" strike="noStrike">
                <a:solidFill>
                  <a:srgbClr val="003366"/>
                </a:solidFill>
                <a:latin typeface="Arial"/>
                <a:ea typeface="ＭＳ Ｐゴシック"/>
              </a:rPr>
              <a:t> and </a:t>
            </a:r>
            <a:r>
              <a:rPr b="0" i="1" lang="en-GB" sz="2800" spc="-1" strike="noStrike">
                <a:solidFill>
                  <a:srgbClr val="003366"/>
                </a:solidFill>
                <a:latin typeface="Arial"/>
                <a:ea typeface="ＭＳ Ｐゴシック"/>
              </a:rPr>
              <a:t>q</a:t>
            </a:r>
            <a:r>
              <a:rPr b="0" lang="en-GB" sz="2800" spc="-1" strike="noStrike">
                <a:solidFill>
                  <a:srgbClr val="003366"/>
                </a:solidFill>
                <a:latin typeface="Arial"/>
                <a:ea typeface="ＭＳ Ｐゴシック"/>
              </a:rPr>
              <a:t>, and we multiply them together to get </a:t>
            </a:r>
            <a:r>
              <a:rPr b="0" i="1" lang="en-GB" sz="2800" spc="-1" strike="noStrike">
                <a:solidFill>
                  <a:srgbClr val="003366"/>
                </a:solidFill>
                <a:latin typeface="Arial"/>
                <a:ea typeface="ＭＳ Ｐゴシック"/>
              </a:rPr>
              <a:t>n</a:t>
            </a:r>
            <a:r>
              <a:rPr b="0" lang="en-GB" sz="2800" spc="-1" strike="noStrike">
                <a:solidFill>
                  <a:srgbClr val="003366"/>
                </a:solidFill>
                <a:latin typeface="Arial"/>
                <a:ea typeface="ＭＳ Ｐゴシック"/>
              </a:rPr>
              <a:t> (</a:t>
            </a:r>
            <a:r>
              <a:rPr b="0" i="1" lang="en-GB" sz="2800" spc="-1" strike="noStrike">
                <a:solidFill>
                  <a:srgbClr val="003366"/>
                </a:solidFill>
                <a:latin typeface="Arial"/>
                <a:ea typeface="ＭＳ Ｐゴシック"/>
              </a:rPr>
              <a:t>p x q = n</a:t>
            </a:r>
            <a:r>
              <a:rPr b="0" lang="en-GB" sz="2800" spc="-1" strike="noStrike">
                <a:solidFill>
                  <a:srgbClr val="003366"/>
                </a:solidFill>
                <a:latin typeface="Arial"/>
                <a:ea typeface="ＭＳ Ｐゴシック"/>
              </a:rPr>
              <a:t>), there is no simple way to determine either </a:t>
            </a:r>
            <a:r>
              <a:rPr b="0" i="1" lang="en-GB" sz="2800" spc="-1" strike="noStrike">
                <a:solidFill>
                  <a:srgbClr val="003366"/>
                </a:solidFill>
                <a:latin typeface="Arial"/>
                <a:ea typeface="ＭＳ Ｐゴシック"/>
              </a:rPr>
              <a:t>p</a:t>
            </a:r>
            <a:r>
              <a:rPr b="0" lang="en-GB" sz="2800" spc="-1" strike="noStrike">
                <a:solidFill>
                  <a:srgbClr val="003366"/>
                </a:solidFill>
                <a:latin typeface="Arial"/>
                <a:ea typeface="ＭＳ Ｐゴシック"/>
              </a:rPr>
              <a:t> or </a:t>
            </a:r>
            <a:r>
              <a:rPr b="0" i="1" lang="en-GB" sz="2800" spc="-1" strike="noStrike">
                <a:solidFill>
                  <a:srgbClr val="003366"/>
                </a:solidFill>
                <a:latin typeface="Arial"/>
                <a:ea typeface="ＭＳ Ｐゴシック"/>
              </a:rPr>
              <a:t>q</a:t>
            </a:r>
            <a:r>
              <a:rPr b="0" lang="en-GB" sz="2800" spc="-1" strike="noStrike">
                <a:solidFill>
                  <a:srgbClr val="003366"/>
                </a:solidFill>
                <a:latin typeface="Arial"/>
                <a:ea typeface="ＭＳ Ｐゴシック"/>
              </a:rPr>
              <a:t> from </a:t>
            </a:r>
            <a:r>
              <a:rPr b="0" i="1" lang="en-GB" sz="2800" spc="-1" strike="noStrike">
                <a:solidFill>
                  <a:srgbClr val="003366"/>
                </a:solidFill>
                <a:latin typeface="Arial"/>
                <a:ea typeface="ＭＳ Ｐゴシック"/>
              </a:rPr>
              <a:t>n</a:t>
            </a:r>
            <a:endParaRPr b="0" lang="en-US" sz="2800" spc="-1" strike="noStrike">
              <a:solidFill>
                <a:srgbClr val="ffffff"/>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0327E-9245-4D0F-8E2A-22B8CDD0DB8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3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rime Number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rom a cryptography viewpoint, this is useful as the ciphertext should never reveal anything about the plaintext, and the ciphertext should never reveal anything about the key</a:t>
            </a:r>
            <a:endParaRPr b="0" lang="en-US" sz="2800" spc="-1" strike="noStrike">
              <a:solidFill>
                <a:srgbClr val="ffffff"/>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1"/>
          <p:cNvSpPr/>
          <p:nvPr/>
        </p:nvSpPr>
        <p:spPr>
          <a:xfrm>
            <a:off x="0" y="6242040"/>
            <a:ext cx="830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BCFD9-7B4F-4E86-987C-1ABCB56E1F5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4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4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XOR Operatio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KA </a:t>
            </a:r>
            <a:r>
              <a:rPr b="1" lang="en-GB" sz="2800" spc="-1" strike="noStrike">
                <a:solidFill>
                  <a:srgbClr val="003366"/>
                </a:solidFill>
                <a:latin typeface="Arial"/>
                <a:ea typeface="ＭＳ Ｐゴシック"/>
              </a:rPr>
              <a:t>Exclusive O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s a standard method of bit manipulation in computers (it is not unique to cryptography)</a:t>
            </a:r>
            <a:endParaRPr b="0" lang="en-US" sz="2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BBB668-813C-4DB3-B27D-7C0B15B3441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4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4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XOR Operation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ince examining the XOR operation requires looking at the OR operation first, we</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ll start w/the OR operation</a:t>
            </a:r>
            <a:endParaRPr b="0" lang="en-US" sz="2800" spc="-1" strike="noStrike">
              <a:solidFill>
                <a:srgbClr val="ffffff"/>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0A7E3-14D8-4654-9FB4-ED3B6E95B71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4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OR Operation</a:t>
            </a:r>
            <a:endParaRPr b="0" lang="en-US" sz="3600" spc="-1" strike="noStrike">
              <a:solidFill>
                <a:srgbClr val="ffffff"/>
              </a:solidFill>
              <a:latin typeface="Arial"/>
            </a:endParaRPr>
          </a:p>
        </p:txBody>
      </p:sp>
      <p:sp>
        <p:nvSpPr>
          <p:cNvPr id="54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lso a bit manipulation</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ossible OR operatio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0 = 0</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1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0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1 = 1</a:t>
            </a:r>
            <a:endParaRPr b="0" lang="en-US" sz="2800" spc="-1" strike="noStrike">
              <a:solidFill>
                <a:srgbClr val="ffffff"/>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B47E8D-C2F1-4EF3-B4C7-5D1EAED580A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5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OR Operation (con’t)</a:t>
            </a:r>
            <a:endParaRPr b="0" lang="en-US" sz="3600" spc="-1" strike="noStrike">
              <a:solidFill>
                <a:srgbClr val="ffffff"/>
              </a:solidFill>
              <a:latin typeface="Arial"/>
            </a:endParaRPr>
          </a:p>
        </p:txBody>
      </p:sp>
      <p:sp>
        <p:nvSpPr>
          <p:cNvPr id="55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10_OR_Operation</a:t>
            </a:r>
            <a:endParaRPr b="0" lang="en-US" sz="2800" spc="-1" strike="noStrike">
              <a:solidFill>
                <a:srgbClr val="ffffff"/>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1"/>
          <p:cNvSpPr/>
          <p:nvPr/>
        </p:nvSpPr>
        <p:spPr>
          <a:xfrm>
            <a:off x="0" y="6242040"/>
            <a:ext cx="830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1E2FE-F95C-454F-BCBD-3C72740F53D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5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XOR Operations</a:t>
            </a:r>
            <a:endParaRPr b="0" lang="en-US" sz="3600" spc="-1" strike="noStrike">
              <a:solidFill>
                <a:srgbClr val="ffffff"/>
              </a:solidFill>
              <a:latin typeface="Arial"/>
            </a:endParaRPr>
          </a:p>
        </p:txBody>
      </p:sp>
      <p:sp>
        <p:nvSpPr>
          <p:cNvPr id="55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ossible XOR operatio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0 = 0</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1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0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1 = 0</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BFE6A-AFD0-425C-9239-17524C3F07C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4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a:t>
            </a:r>
            <a:endParaRPr b="0" lang="en-US" sz="3600" spc="-1" strike="noStrike">
              <a:solidFill>
                <a:srgbClr val="ffffff"/>
              </a:solidFill>
              <a:latin typeface="Arial"/>
            </a:endParaRPr>
          </a:p>
        </p:txBody>
      </p:sp>
      <p:sp>
        <p:nvSpPr>
          <p:cNvPr id="148"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Plaintext</a:t>
            </a:r>
            <a:r>
              <a:rPr b="0" lang="en-GB" sz="2800" spc="-1" strike="noStrike">
                <a:solidFill>
                  <a:srgbClr val="002a56"/>
                </a:solidFill>
                <a:latin typeface="Arial"/>
              </a:rPr>
              <a:t>: </a:t>
            </a:r>
            <a:r>
              <a:rPr b="0" lang="en-US" sz="2800" spc="-1" strike="noStrike">
                <a:solidFill>
                  <a:srgbClr val="002a56"/>
                </a:solidFill>
                <a:latin typeface="Arial"/>
              </a:rPr>
              <a:t>is information a sender wishes to transmit to a receiver:</a:t>
            </a:r>
            <a:endParaRPr b="0" lang="en-US" sz="2800" spc="-1" strike="noStrike">
              <a:solidFill>
                <a:srgbClr val="ffffff"/>
              </a:solidFill>
              <a:latin typeface="Arial"/>
            </a:endParaRPr>
          </a:p>
          <a:p>
            <a:pPr lvl="1" marL="795240" indent="-338040">
              <a:lnSpc>
                <a:spcPct val="100000"/>
              </a:lnSpc>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ea typeface="ＭＳ Ｐゴシック"/>
              </a:rPr>
              <a:t>Sender and receiver: </a:t>
            </a:r>
            <a:r>
              <a:rPr b="1" lang="en-US" sz="2800" spc="-1" strike="noStrike">
                <a:solidFill>
                  <a:srgbClr val="002a56"/>
                </a:solidFill>
                <a:latin typeface="Arial"/>
                <a:ea typeface="ＭＳ Ｐゴシック"/>
              </a:rPr>
              <a:t>Alice</a:t>
            </a:r>
            <a:r>
              <a:rPr b="0" lang="en-US" sz="2800" spc="-1" strike="noStrike">
                <a:solidFill>
                  <a:srgbClr val="002a56"/>
                </a:solidFill>
                <a:latin typeface="Arial"/>
                <a:ea typeface="ＭＳ Ｐゴシック"/>
              </a:rPr>
              <a:t> and </a:t>
            </a:r>
            <a:r>
              <a:rPr b="1" lang="en-US" sz="2800" spc="-1" strike="noStrike">
                <a:solidFill>
                  <a:srgbClr val="002a56"/>
                </a:solidFill>
                <a:latin typeface="Arial"/>
                <a:ea typeface="ＭＳ Ｐゴシック"/>
              </a:rPr>
              <a:t>Bob</a:t>
            </a:r>
            <a:endParaRPr b="0" lang="en-US" sz="2800" spc="-1" strike="noStrike">
              <a:solidFill>
                <a:srgbClr val="ffffff"/>
              </a:solidFill>
              <a:latin typeface="Arial"/>
            </a:endParaRPr>
          </a:p>
          <a:p>
            <a:pPr lvl="1" marL="795240" indent="-338040">
              <a:lnSpc>
                <a:spcPct val="100000"/>
              </a:lnSpc>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ea typeface="ＭＳ Ｐゴシック"/>
              </a:rPr>
              <a:t>Attacker: </a:t>
            </a:r>
            <a:r>
              <a:rPr b="1" lang="en-US" sz="2800" spc="-1" strike="noStrike">
                <a:solidFill>
                  <a:srgbClr val="002a56"/>
                </a:solidFill>
                <a:latin typeface="Arial"/>
                <a:ea typeface="ＭＳ Ｐゴシック"/>
              </a:rPr>
              <a:t>Eve</a:t>
            </a:r>
            <a:endParaRPr b="0" lang="en-US" sz="2800" spc="-1" strike="noStrike">
              <a:solidFill>
                <a:srgbClr val="ffffff"/>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3041A2-2C51-46A7-A6A8-B865EFCAA4D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5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XOR Operations (con’t)</a:t>
            </a:r>
            <a:endParaRPr b="0" lang="en-US" sz="3600" spc="-1" strike="noStrike">
              <a:solidFill>
                <a:srgbClr val="ffffff"/>
              </a:solidFill>
              <a:latin typeface="Arial"/>
            </a:endParaRPr>
          </a:p>
        </p:txBody>
      </p:sp>
      <p:sp>
        <p:nvSpPr>
          <p:cNvPr id="55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11_XOR_Operation</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AF4BA-1DD2-49C4-B02D-4EA47476DF1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51"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Encryption</a:t>
            </a:r>
            <a:r>
              <a:rPr b="0" lang="en-GB" sz="2800" spc="-1" strike="noStrike">
                <a:solidFill>
                  <a:srgbClr val="002a56"/>
                </a:solidFill>
                <a:latin typeface="Arial"/>
              </a:rPr>
              <a:t>: changing the original text to a secret message using cryptography</a:t>
            </a:r>
            <a:endParaRPr b="0" lang="en-US" sz="2800" spc="-1" strike="noStrike">
              <a:solidFill>
                <a:srgbClr val="ffffff"/>
              </a:solidFill>
              <a:latin typeface="Arial"/>
            </a:endParaRPr>
          </a:p>
          <a:p>
            <a:pPr marL="338040" indent="-338040">
              <a:lnSpc>
                <a:spcPct val="90000"/>
              </a:lnSpc>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Decryption</a:t>
            </a:r>
            <a:r>
              <a:rPr b="0" lang="en-GB" sz="2800" spc="-1" strike="noStrike">
                <a:solidFill>
                  <a:srgbClr val="002a56"/>
                </a:solidFill>
                <a:latin typeface="Arial"/>
              </a:rPr>
              <a:t>: reverse process of encryption</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8F514-A2EF-43F2-9583-D43D0DE1260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54"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Algorithm</a:t>
            </a:r>
            <a:r>
              <a:rPr b="0" lang="en-GB" sz="2800" spc="-1" strike="noStrike">
                <a:solidFill>
                  <a:srgbClr val="002a56"/>
                </a:solidFill>
                <a:latin typeface="Arial"/>
              </a:rPr>
              <a:t>: mathematical procedure that works with a key to generate ciphertext from plaintext input</a:t>
            </a:r>
            <a:endParaRPr b="0" lang="en-US" sz="2800" spc="-1" strike="noStrike">
              <a:solidFill>
                <a:srgbClr val="ffffff"/>
              </a:solidFill>
              <a:latin typeface="Arial"/>
            </a:endParaRPr>
          </a:p>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AKA </a:t>
            </a:r>
            <a:r>
              <a:rPr b="1" lang="en-GB" sz="2800" spc="-1" strike="noStrike">
                <a:solidFill>
                  <a:srgbClr val="002a56"/>
                </a:solidFill>
                <a:latin typeface="Arial"/>
              </a:rPr>
              <a:t>cipher</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957DF-A2FE-4E88-88FD-C033D776694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ublished vs. Secret Algorithms</a:t>
            </a:r>
            <a:endParaRPr b="0" lang="en-US" sz="3600" spc="-1" strike="noStrike">
              <a:solidFill>
                <a:srgbClr val="ffffff"/>
              </a:solidFill>
              <a:latin typeface="Arial"/>
            </a:endParaRPr>
          </a:p>
        </p:txBody>
      </p:sp>
      <p:sp>
        <p:nvSpPr>
          <p:cNvPr id="157"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ryptographic algorithms that are published and open to public scrutiny offer the benefit of uncovering weaknesses in the cipher</a:t>
            </a:r>
            <a:endParaRPr b="0" lang="en-US" sz="2800" spc="-1" strike="noStrike">
              <a:solidFill>
                <a:srgbClr val="ffffff"/>
              </a:solidFill>
              <a:latin typeface="Arial"/>
            </a:endParaRPr>
          </a:p>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Some of the best algorithms currently in use have evolved as a result of repeated improvements to fix possible attacks discovered by other researchers</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A6D77-17D5-4F34-83A2-E4432DC9A98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ublished vs. Secret Algorithm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60"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onversely, some organizations (e.g., NSA) have world-renown cryptographers and mathematicians and a homeland security mandate that warrants their algorithms remain secre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D6964-9339-4945-AE26-5C812913666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0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Workshop Learning Objectives</a:t>
            </a:r>
            <a:endParaRPr b="0" lang="en-US" sz="3600" spc="-1" strike="noStrike">
              <a:solidFill>
                <a:srgbClr val="ffffff"/>
              </a:solidFill>
              <a:latin typeface="Arial"/>
            </a:endParaRPr>
          </a:p>
        </p:txBody>
      </p:sp>
      <p:sp>
        <p:nvSpPr>
          <p:cNvPr id="109" name="Text Box 3"/>
          <p:cNvSpPr/>
          <p:nvPr/>
        </p:nvSpPr>
        <p:spPr>
          <a:xfrm>
            <a:off x="838080" y="2362320"/>
            <a:ext cx="7693200" cy="40384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efine cryptographic terminology</a:t>
            </a:r>
            <a:endParaRPr b="0" lang="en-US" sz="2800" spc="-1" strike="noStrike">
              <a:solidFill>
                <a:srgbClr val="ffffff"/>
              </a:solidFill>
              <a:latin typeface="Arial"/>
            </a:endParaRPr>
          </a:p>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escribe the benefits of using cryptography</a:t>
            </a:r>
            <a:endParaRPr b="0" lang="en-US" sz="2800" spc="-1" strike="noStrike">
              <a:solidFill>
                <a:srgbClr val="ffffff"/>
              </a:solidFill>
              <a:latin typeface="Arial"/>
            </a:endParaRPr>
          </a:p>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escribe how and when to use cryptography</a:t>
            </a:r>
            <a:endParaRPr b="0" lang="en-US" sz="2800" spc="-1" strike="noStrike">
              <a:solidFill>
                <a:srgbClr val="ffffff"/>
              </a:solidFill>
              <a:latin typeface="Arial"/>
            </a:endParaRPr>
          </a:p>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ork with various hardware/software that implement cryptography</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89B74-C7DE-4362-A6E2-94E4C930B67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6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63"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lvl="1" marL="3380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Key</a:t>
            </a:r>
            <a:r>
              <a:rPr b="0" lang="en-GB" sz="2800" spc="-1" strike="noStrike">
                <a:solidFill>
                  <a:srgbClr val="003366"/>
                </a:solidFill>
                <a:latin typeface="Arial"/>
                <a:ea typeface="ＭＳ Ｐゴシック"/>
              </a:rPr>
              <a:t>: is a mathematical value (e.g., word, number, phrase) that determines how a plaintext message is encrypted to produce ciphertext</a:t>
            </a:r>
            <a:endParaRPr b="0" lang="en-US" sz="2800" spc="-1" strike="noStrike">
              <a:solidFill>
                <a:srgbClr val="ffffff"/>
              </a:solidFill>
              <a:latin typeface="Arial"/>
            </a:endParaRPr>
          </a:p>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ts possession is required to decrypt the ciphertext and recover the original message</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90DD7B-6559-44D9-9209-8093A79FCFB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6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66"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Key Length</a:t>
            </a:r>
            <a:r>
              <a:rPr b="0" lang="en-GB" sz="2800" spc="-1" strike="noStrike">
                <a:solidFill>
                  <a:srgbClr val="003366"/>
                </a:solidFill>
                <a:latin typeface="Arial"/>
              </a:rPr>
              <a:t>: keys have a corresponding key length</a:t>
            </a:r>
            <a:r>
              <a:rPr b="1" lang="en-GB" sz="2800" spc="-1" strike="noStrike">
                <a:solidFill>
                  <a:srgbClr val="003366"/>
                </a:solidFill>
                <a:latin typeface="Arial"/>
              </a:rPr>
              <a:t> </a:t>
            </a:r>
            <a:r>
              <a:rPr b="0" lang="en-GB" sz="2800" spc="-1" strike="noStrike">
                <a:solidFill>
                  <a:srgbClr val="003366"/>
                </a:solidFill>
                <a:latin typeface="Arial"/>
              </a:rPr>
              <a:t>(or </a:t>
            </a:r>
            <a:r>
              <a:rPr b="1" lang="en-GB" sz="2800" spc="-1" strike="noStrike">
                <a:solidFill>
                  <a:srgbClr val="003366"/>
                </a:solidFill>
                <a:latin typeface="Arial"/>
              </a:rPr>
              <a:t>key size</a:t>
            </a:r>
            <a:r>
              <a:rPr b="0" lang="en-GB" sz="2800" spc="-1" strike="noStrike">
                <a:solidFill>
                  <a:srgbClr val="003366"/>
                </a:solidFill>
                <a:latin typeface="Arial"/>
              </a:rPr>
              <a:t>): which is the number of bits, or sometimes bytes, in the key</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ey lengths tend to be huge numbers</a:t>
            </a:r>
            <a:endParaRPr b="0" lang="en-US" sz="2800" spc="-1" strike="noStrike">
              <a:solidFill>
                <a:srgbClr val="ffffff"/>
              </a:solidFill>
              <a:latin typeface="Arial"/>
            </a:endParaRPr>
          </a:p>
          <a:p>
            <a:pPr lvl="2" marL="12524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number representing a 2048-bit key i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C18AB-0CB5-4524-9FDC-1F7A83305F3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6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69"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Key Space</a:t>
            </a:r>
            <a:r>
              <a:rPr b="0" lang="en-GB" sz="2800" spc="-1" strike="noStrike">
                <a:solidFill>
                  <a:srgbClr val="003366"/>
                </a:solidFill>
                <a:latin typeface="Arial"/>
              </a:rPr>
              <a:t>: </a:t>
            </a:r>
            <a:r>
              <a:rPr b="0" lang="en-US" sz="2800" spc="-1" strike="noStrike">
                <a:solidFill>
                  <a:srgbClr val="003366"/>
                </a:solidFill>
                <a:latin typeface="Arial"/>
              </a:rPr>
              <a:t>refers to the set of all possible mathematical values that have the same length as the ke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A92164-9746-4D5E-AC3A-D73E116AF0C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7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72"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Key Space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Ex. 1: if an algorithm works using a key that is a string of 10 bits, then its key space is the set of all binary strings of length 10 (2</a:t>
            </a:r>
            <a:r>
              <a:rPr b="0" lang="en-US" sz="2800" spc="-1" strike="noStrike" baseline="30000">
                <a:solidFill>
                  <a:srgbClr val="003366"/>
                </a:solidFill>
                <a:latin typeface="Arial"/>
                <a:ea typeface="ＭＳ Ｐゴシック"/>
              </a:rPr>
              <a:t>10</a:t>
            </a:r>
            <a:r>
              <a:rPr b="0" lang="en-US" sz="2800" spc="-1" strike="noStrike">
                <a:solidFill>
                  <a:srgbClr val="003366"/>
                </a:solidFill>
                <a:latin typeface="Arial"/>
                <a:ea typeface="ＭＳ Ｐゴシック"/>
              </a:rPr>
              <a:t> = 1024)</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x. 2: a 2-bit key has 4 values in its key space (00, 01, 10, 11)</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421F3-BC6B-4F31-B3BF-AC7B692DE5A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7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75"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Key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Generally, the larger the key length, the more secure the ciphertext </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arger keys also offer more protection against </a:t>
            </a:r>
            <a:r>
              <a:rPr b="1" lang="en-GB" sz="2800" spc="-1" strike="noStrike">
                <a:solidFill>
                  <a:srgbClr val="003366"/>
                </a:solidFill>
                <a:latin typeface="Arial"/>
                <a:ea typeface="ＭＳ Ｐゴシック"/>
              </a:rPr>
              <a:t>brute-force attacks</a:t>
            </a:r>
            <a:r>
              <a:rPr b="0" lang="en-GB" sz="2800" spc="-1" strike="noStrike">
                <a:solidFill>
                  <a:srgbClr val="003366"/>
                </a:solidFill>
                <a:latin typeface="Arial"/>
                <a:ea typeface="ＭＳ Ｐゴシック"/>
              </a:rPr>
              <a:t>, in which every possible key is tried to decrypt a messag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BF832F-8E29-4B42-A17F-B75238CB772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7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78"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s computers have increased in processing power, and with the advent of cloud computing environments, attackers have been able to carry out brute-force attacks more quickly and break encryption keys</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BC777-4363-47D9-9151-F789CAEB0A5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81"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o keep up with advances in processing power, encryption key sizes have increased too</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CC2A9-5C1D-4C65-837C-460D2CB82E1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84"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t is very important to pick keys of the right length/size:</a:t>
            </a:r>
            <a:endParaRPr b="0" lang="en-US" sz="2800" spc="-1" strike="noStrike">
              <a:solidFill>
                <a:srgbClr val="ffffff"/>
              </a:solidFill>
              <a:latin typeface="Arial"/>
            </a:endParaRPr>
          </a:p>
          <a:p>
            <a:pPr lvl="1" marL="738360" indent="-28116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arge enough to be secure, but small enough to be applied fairly quickly</a:t>
            </a:r>
            <a:endParaRPr b="0" lang="en-US" sz="2800" spc="-1" strike="noStrike">
              <a:solidFill>
                <a:srgbClr val="ffffff"/>
              </a:solidFill>
              <a:latin typeface="Arial"/>
            </a:endParaRPr>
          </a:p>
          <a:p>
            <a:pPr lvl="1" marL="738360" indent="-28116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dditionally, you need to consider who might be trying to read your files, how determined they are, how much time they have, and what their resources might be </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34AF4-6730-4B01-B5B5-B826BB4ED7B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87"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Larger keys will be cryptographically secure for a longer period of time</a:t>
            </a:r>
            <a:endParaRPr b="0" lang="en-US" sz="2800" spc="-1" strike="noStrike">
              <a:solidFill>
                <a:srgbClr val="ffffff"/>
              </a:solidFill>
              <a:latin typeface="Arial"/>
            </a:endParaRPr>
          </a:p>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f what you want to encrypt needs to be hidden for many years, you might want to use a very large key (e.g., &gt; 2048-bits)</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011D17-BF5A-4FAA-98F1-B09899469C0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90"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f course, who knows how long it will take to determine your key using tomorrow's faster, more efficient computing environments? </a:t>
            </a:r>
            <a:endParaRPr b="0" lang="en-US" sz="2800" spc="-1" strike="noStrike">
              <a:solidFill>
                <a:srgbClr val="ffffff"/>
              </a:solidFill>
              <a:latin typeface="Arial"/>
            </a:endParaRPr>
          </a:p>
          <a:p>
            <a:pPr lvl="1" marL="738360" indent="-281160">
              <a:lnSpc>
                <a:spcPct val="100000"/>
              </a:lnSpc>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re was a time when a 56-bit symmetric key was considered extremely safe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8F559-7A85-4EB2-8730-EBCEEC7BF49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11"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logy</a:t>
            </a:r>
            <a:endParaRPr b="0" lang="en-US" sz="3600" spc="-1" strike="noStrike">
              <a:solidFill>
                <a:srgbClr val="ffffff"/>
              </a:solidFill>
              <a:latin typeface="Arial"/>
            </a:endParaRPr>
          </a:p>
        </p:txBody>
      </p:sp>
      <p:sp>
        <p:nvSpPr>
          <p:cNvPr id="11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From the Greek </a:t>
            </a:r>
            <a:r>
              <a:rPr b="1" lang="en-US" sz="2800" spc="-1" strike="noStrike">
                <a:solidFill>
                  <a:srgbClr val="002a56"/>
                </a:solidFill>
                <a:latin typeface="Arial"/>
              </a:rPr>
              <a:t>kryptós</a:t>
            </a:r>
            <a:r>
              <a:rPr b="0" lang="en-US" sz="2800" spc="-1" strike="noStrike">
                <a:solidFill>
                  <a:srgbClr val="002a56"/>
                </a:solidFill>
                <a:latin typeface="Arial"/>
              </a:rPr>
              <a:t>, "hidden," and </a:t>
            </a:r>
            <a:r>
              <a:rPr b="1" lang="en-US" sz="2800" spc="-1" strike="noStrike">
                <a:solidFill>
                  <a:srgbClr val="002a56"/>
                </a:solidFill>
                <a:latin typeface="Arial"/>
              </a:rPr>
              <a:t>lógos</a:t>
            </a:r>
            <a:r>
              <a:rPr b="0" lang="en-US" sz="2800" spc="-1" strike="noStrike">
                <a:solidFill>
                  <a:srgbClr val="002a56"/>
                </a:solidFill>
                <a:latin typeface="Arial"/>
              </a:rPr>
              <a:t>, "word“</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Is the science of secure (or, generally speaking), secret communica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4C549-A884-43D4-8C08-0AE511233BD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9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93"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Cryptosystem</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s a combination of cryptographic functions that work together as the basic building blocks of modern cryptograph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3964E-8432-40BC-A28B-77AC22E42AC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9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96"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ryptosystem (con</a:t>
            </a:r>
            <a:r>
              <a:rPr b="0" lang="ja-JP" sz="2800" spc="-1" strike="noStrike">
                <a:solidFill>
                  <a:srgbClr val="002a56"/>
                </a:solidFill>
                <a:latin typeface="Arial"/>
              </a:rPr>
              <a:t>’</a:t>
            </a:r>
            <a:r>
              <a:rPr b="0" lang="en-GB" sz="2800" spc="-1" strike="noStrike">
                <a:solidFill>
                  <a:srgbClr val="002a5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nclude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Encryption and decryption algorithm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Key generation algorithm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Hashing function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Pseudorandom Number Generators (PRNG)</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16C44-F57A-404C-B1FA-22D1169F52C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9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a:t>
            </a:r>
            <a:endParaRPr b="0" lang="en-US" sz="3600" spc="-1" strike="noStrike">
              <a:solidFill>
                <a:srgbClr val="ffffff"/>
              </a:solidFill>
              <a:latin typeface="Arial"/>
            </a:endParaRPr>
          </a:p>
        </p:txBody>
      </p:sp>
      <p:sp>
        <p:nvSpPr>
          <p:cNvPr id="199"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800" spc="-1" strike="noStrike">
                <a:solidFill>
                  <a:srgbClr val="003366"/>
                </a:solidFill>
                <a:latin typeface="Arial"/>
              </a:rPr>
              <a:t>"There are two kinds of cryptography in this world: cryptography that will stop your kid sister from reading your files, and cryptography that will stop major governments from reading your files.</a:t>
            </a:r>
            <a:r>
              <a:rPr b="0" i="1" lang="ja-JP" sz="2800" spc="-1" strike="noStrike">
                <a:solidFill>
                  <a:srgbClr val="003366"/>
                </a:solidFill>
                <a:latin typeface="Arial"/>
              </a:rPr>
              <a:t>”</a:t>
            </a:r>
            <a:r>
              <a:rPr b="0" lang="en-GB" sz="2800" spc="-1" strike="noStrike">
                <a:solidFill>
                  <a:srgbClr val="003366"/>
                </a:solidFill>
                <a:latin typeface="Arial"/>
              </a:rPr>
              <a:t> </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rom Bruce Schneier, </a:t>
            </a:r>
            <a:r>
              <a:rPr b="0" i="1" lang="en-GB" sz="2800" spc="-1" strike="noStrike">
                <a:solidFill>
                  <a:srgbClr val="003366"/>
                </a:solidFill>
                <a:latin typeface="Arial"/>
                <a:ea typeface="ＭＳ Ｐゴシック"/>
              </a:rPr>
              <a:t>Applied Cryptography: Protocols, Algorithms, and Source Code in 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B681F-0E4B-4DF7-BBCF-DCA57E7BDB8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0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02"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security of data relies on the:</a:t>
            </a:r>
            <a:endParaRPr b="0" lang="en-US" sz="2800" spc="-1" strike="noStrike">
              <a:solidFill>
                <a:srgbClr val="ffffff"/>
              </a:solidFill>
              <a:latin typeface="Arial"/>
            </a:endParaRPr>
          </a:p>
          <a:p>
            <a:pPr lvl="1" marL="738360" indent="-28116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trength of the algorithm</a:t>
            </a:r>
            <a:endParaRPr b="0" lang="en-US" sz="2800" spc="-1" strike="noStrike">
              <a:solidFill>
                <a:srgbClr val="ffffff"/>
              </a:solidFill>
              <a:latin typeface="Arial"/>
            </a:endParaRPr>
          </a:p>
          <a:p>
            <a:pPr lvl="1" marL="738360" indent="-28116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ecrecy of the key</a:t>
            </a:r>
            <a:endParaRPr b="0" lang="en-US" sz="2800" spc="-1" strike="noStrike">
              <a:solidFill>
                <a:srgbClr val="ffffff"/>
              </a:solidFill>
              <a:latin typeface="Arial"/>
            </a:endParaRPr>
          </a:p>
          <a:p>
            <a:pPr lvl="1" marL="738360" indent="-28116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ength/size of the key</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10E5A-FE00-448C-BD4F-EABD9DCEA87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0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05"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ryptographic strength is measured in the time and resources it would require to recover the plaintex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01500-9D0B-4BAE-88C3-80DD7DBB8C4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0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08"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Given all of today's computing power and available time - even a billion computers doing a billion checks a second - it is not possible to decipher the result of strong cryptography given the age of the universe (which is roughly 10</a:t>
            </a:r>
            <a:r>
              <a:rPr b="0" lang="en-GB" sz="2800" spc="-1" strike="noStrike" baseline="30000">
                <a:solidFill>
                  <a:srgbClr val="003366"/>
                </a:solidFill>
                <a:latin typeface="Arial"/>
              </a:rPr>
              <a:t>10</a:t>
            </a:r>
            <a:r>
              <a:rPr b="0" lang="en-GB" sz="2800" spc="-1" strike="noStrike">
                <a:solidFill>
                  <a:srgbClr val="003366"/>
                </a:solidFill>
                <a:latin typeface="Arial"/>
              </a:rPr>
              <a:t> years old)</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D587A-B57E-406D-AA80-ABB23C886A3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a:t>
            </a:r>
            <a:endParaRPr b="0" lang="en-US" sz="3600" spc="-1" strike="noStrike">
              <a:solidFill>
                <a:srgbClr val="ffffff"/>
              </a:solidFill>
              <a:latin typeface="Arial"/>
            </a:endParaRPr>
          </a:p>
        </p:txBody>
      </p:sp>
      <p:sp>
        <p:nvSpPr>
          <p:cNvPr id="21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arliest known use of cryptography is in hieroglyphs from Egypt's Old Kingdom, more than 4,000 years ago</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hieroglyphs appeared to be for amusement or mystery instead of hiding information, demonstrating yet another use for secret codes </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8D5093-CA8C-4D26-B163-DD6649D07AA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3"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1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the era of classical cryptography, messages were usually sent in written documents via courier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Because of the threat of these documents being intercepted, cryptographic techniques were developed to secure messages</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15CF2-0A77-4909-AA54-54A258E426E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6"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1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lthough these methods are primitive by today's standards, they were fairly secure for their time</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3DC41-96DA-4A58-B0BA-044B7356C58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9"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2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main forms of classical cryptography ar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ubstitu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ransposition cipher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005AD-2D07-4E4C-8BEF-B220C3747E9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1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a:t>
            </a:r>
            <a:endParaRPr b="0" lang="en-US" sz="3600" spc="-1" strike="noStrike">
              <a:solidFill>
                <a:srgbClr val="ffffff"/>
              </a:solidFill>
              <a:latin typeface="Arial"/>
            </a:endParaRPr>
          </a:p>
        </p:txBody>
      </p:sp>
      <p:sp>
        <p:nvSpPr>
          <p:cNvPr id="11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The branch of applied mathematics that concerns itself with transforming messages into seemingly unintelligible forms and back again so it cannot be viewed by unauthorized user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0679C-7E7A-421C-838A-A6A643EB429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2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a:t>
            </a:r>
            <a:endParaRPr b="0" lang="en-US" sz="3600" spc="-1" strike="noStrike">
              <a:solidFill>
                <a:srgbClr val="ffffff"/>
              </a:solidFill>
              <a:latin typeface="Arial"/>
            </a:endParaRPr>
          </a:p>
        </p:txBody>
      </p:sp>
      <p:sp>
        <p:nvSpPr>
          <p:cNvPr id="22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aps each character, such as a letter of the alphabet, to a different character, to obscure the messag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Fast decryption when the ciphertext is shor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an consume much more processing/decrypting power/time if the ciphertext is long</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395D8-B4E2-4A8A-A5FE-E552500915B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25"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2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yp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onoalphabetic substitu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olyalphabetic substitu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ransposi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Diffus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otor machines</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C37C6-C92B-4C88-AF8A-D8EB37DFC48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2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onoalphabetic Substitution Ciphers</a:t>
            </a:r>
            <a:endParaRPr b="0" lang="en-US" sz="3600" spc="-1" strike="noStrike">
              <a:solidFill>
                <a:srgbClr val="ffffff"/>
              </a:solidFill>
              <a:latin typeface="Arial"/>
            </a:endParaRPr>
          </a:p>
        </p:txBody>
      </p:sp>
      <p:sp>
        <p:nvSpPr>
          <p:cNvPr id="22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 alphabet is used for the cipher</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for-one character substitution</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 </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aptain Midnight's Secret Decoder Ring</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tbash Cipher</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aesar Cipher</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OT13</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4C8BF-39A0-4B32-982F-1F71459762A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31"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Atbash Cipher</a:t>
            </a:r>
            <a:endParaRPr b="0" lang="en-US" sz="3600" spc="-1" strike="noStrike">
              <a:solidFill>
                <a:srgbClr val="ffffff"/>
              </a:solidFill>
              <a:latin typeface="Arial"/>
            </a:endParaRPr>
          </a:p>
        </p:txBody>
      </p:sp>
      <p:sp>
        <p:nvSpPr>
          <p:cNvPr id="23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ebrew secret languag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 simple substitution cipher based on reversing the order of the alphabe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ates back to around 600 B.C.</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20268-7DC4-4ED1-8721-A281A797B2A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3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Atbash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3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a:t>
            </a:r>
            <a:r>
              <a:rPr b="0" lang="en-GB" sz="1800" spc="-1" strike="noStrike">
                <a:solidFill>
                  <a:srgbClr val="003366"/>
                </a:solidFill>
                <a:latin typeface="Arial"/>
              </a:rPr>
              <a:t>XIBKGLTIZKSB RH XLLO</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7793BB-24E5-4494-A629-4C97482EAE4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37"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Atbash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3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nyone who knows the alphabet of the language used can decrypt the message simply by reversing the alphabet</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28A02-D9CC-4438-9B32-40B7E4F71AD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4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a:t>
            </a:r>
            <a:endParaRPr b="0" lang="en-US" sz="3600" spc="-1" strike="noStrike">
              <a:solidFill>
                <a:srgbClr val="ffffff"/>
              </a:solidFill>
              <a:latin typeface="Arial"/>
            </a:endParaRPr>
          </a:p>
        </p:txBody>
      </p:sp>
      <p:sp>
        <p:nvSpPr>
          <p:cNvPr id="241" name="Text Box 3"/>
          <p:cNvSpPr/>
          <p:nvPr/>
        </p:nvSpPr>
        <p:spPr>
          <a:xfrm>
            <a:off x="838080" y="2362320"/>
            <a:ext cx="381024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Based on shifting letters of the alphabet by a certain number of position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for-one character substitution</a:t>
            </a:r>
            <a:endParaRPr b="0" lang="en-US" sz="2800" spc="-1" strike="noStrike">
              <a:solidFill>
                <a:srgbClr val="ffffff"/>
              </a:solidFill>
              <a:latin typeface="Arial"/>
            </a:endParaRPr>
          </a:p>
        </p:txBody>
      </p:sp>
      <p:pic>
        <p:nvPicPr>
          <p:cNvPr id="242" name="Picture 6" descr=""/>
          <p:cNvPicPr/>
          <p:nvPr/>
        </p:nvPicPr>
        <p:blipFill>
          <a:blip r:embed="rId1"/>
          <a:stretch/>
        </p:blipFill>
        <p:spPr>
          <a:xfrm>
            <a:off x="4924440" y="609480"/>
            <a:ext cx="3533760" cy="5715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D9522-2580-4A19-9584-B41B329D464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4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4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istorically, Julius Caesar used 3 shift positions for encrypted messages</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76BE4-889A-4206-BBBB-5E0E95094AA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47"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4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See classic Caesar char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1_Caesar_Shift_Tabl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 </a:t>
            </a:r>
            <a:r>
              <a:rPr b="0" lang="en-GB" sz="1800" spc="-1" strike="noStrike">
                <a:solidFill>
                  <a:srgbClr val="003366"/>
                </a:solidFill>
                <a:latin typeface="Arial"/>
              </a:rPr>
              <a:t>FUBSWRJUDSKB LV YHUB FRRO</a:t>
            </a:r>
            <a:endParaRPr b="0" lang="en-US" sz="1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a:t>
            </a:r>
            <a:r>
              <a:rPr b="0" lang="en-GB" sz="1800" spc="-1" strike="noStrike">
                <a:solidFill>
                  <a:srgbClr val="003366"/>
                </a:solidFill>
                <a:latin typeface="Arial"/>
              </a:rPr>
              <a:t>QSPGFTTJPOBM</a:t>
            </a:r>
            <a:r>
              <a:rPr b="1" lang="en-GB" sz="2800" spc="-1" strike="noStrike">
                <a:solidFill>
                  <a:srgbClr val="003366"/>
                </a:solidFill>
                <a:latin typeface="Arial"/>
              </a:rPr>
              <a:t> </a:t>
            </a:r>
            <a:r>
              <a:rPr b="0" lang="en-GB" sz="2800" spc="-1" strike="noStrike">
                <a:solidFill>
                  <a:srgbClr val="003366"/>
                </a:solidFill>
                <a:latin typeface="Arial"/>
              </a:rPr>
              <a:t>(shift = 1)</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60030-3ABC-4C88-B036-3B8B6B2936F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5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cipher depends on shifting positions of letters in an alphabet, making it susceptible to a brute-force attack, as well as frequency analysis attack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B2EED-28A3-45FB-84A6-792E62B69C9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17"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18"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ryptography is the process of converting </a:t>
            </a:r>
            <a:r>
              <a:rPr b="1" lang="en-GB" sz="2800" spc="-1" strike="noStrike">
                <a:solidFill>
                  <a:srgbClr val="002a56"/>
                </a:solidFill>
                <a:latin typeface="Arial"/>
              </a:rPr>
              <a:t>plaintext</a:t>
            </a:r>
            <a:r>
              <a:rPr b="0" lang="en-GB" sz="2800" spc="-1" strike="noStrike">
                <a:solidFill>
                  <a:srgbClr val="002a56"/>
                </a:solidFill>
                <a:latin typeface="Arial"/>
              </a:rPr>
              <a:t> into </a:t>
            </a:r>
            <a:r>
              <a:rPr b="1" lang="en-GB" sz="2800" spc="-1" strike="noStrike">
                <a:solidFill>
                  <a:srgbClr val="002a56"/>
                </a:solidFill>
                <a:latin typeface="Arial"/>
              </a:rPr>
              <a:t>ciphertext</a:t>
            </a:r>
            <a:r>
              <a:rPr b="0" lang="en-GB" sz="2800" spc="-1" strike="noStrike">
                <a:solidFill>
                  <a:srgbClr val="002a56"/>
                </a:solidFill>
                <a:latin typeface="Arial"/>
              </a:rPr>
              <a:t> (unreadable text) by using an encoding function, such as an encryption algorithm or a secret list of substitution characters</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FBD896-E3D4-46DA-B493-3C54153BAEE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3"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5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Introduction to CrypTool:</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Originated as an awareness program for a large bank (internal training)</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Visualization of Algorithms</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CD15F-6C66-4E55-8A2D-03761456962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6"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5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a:t>
            </a:r>
            <a:r>
              <a:rPr b="0" i="1" lang="en-US" sz="2800" spc="-1" strike="noStrike">
                <a:solidFill>
                  <a:srgbClr val="003366"/>
                </a:solidFill>
                <a:latin typeface="Arial"/>
              </a:rPr>
              <a:t>Rotate by 13 places</a:t>
            </a:r>
            <a:r>
              <a:rPr b="0" lang="en-US" sz="2800" spc="-1" strike="noStrike">
                <a:solidFill>
                  <a:srgbClr val="003366"/>
                </a:solidFill>
                <a:latin typeface="Arial"/>
              </a:rPr>
              <a: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Replaces each letter by its partner 13 characters further along the alphabet</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B17FC-61AF-4C02-8F10-FEB70ADB45A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9"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sp>
        <p:nvSpPr>
          <p:cNvPr id="26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In the Basic Latin alphabet, ROT13 is its own invers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That is, to undo ROT13, the same algorithm is applied, so the same action can be used for encoding and decoding (AKA a </a:t>
            </a:r>
            <a:r>
              <a:rPr b="1" lang="en-US" sz="2800" spc="-1" strike="noStrike">
                <a:solidFill>
                  <a:srgbClr val="003366"/>
                </a:solidFill>
                <a:latin typeface="Arial"/>
                <a:ea typeface="ＭＳ Ｐゴシック"/>
              </a:rPr>
              <a:t>Reciprocal Cipher</a:t>
            </a:r>
            <a:r>
              <a:rPr b="0" lang="en-US" sz="2800" spc="-1" strike="noStrike">
                <a:solidFill>
                  <a:srgbClr val="003366"/>
                </a:solidFill>
                <a:latin typeface="Arial"/>
                <a:ea typeface="ＭＳ Ｐゴシック"/>
              </a:rPr>
              <a:t>)</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0331D-3B4C-4A73-BBE8-9A06ED45D8C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6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pic>
        <p:nvPicPr>
          <p:cNvPr id="263" name="Picture 1" descr=""/>
          <p:cNvPicPr/>
          <p:nvPr/>
        </p:nvPicPr>
        <p:blipFill>
          <a:blip r:embed="rId1"/>
          <a:stretch/>
        </p:blipFill>
        <p:spPr>
          <a:xfrm>
            <a:off x="1600200" y="2736720"/>
            <a:ext cx="6337440" cy="36640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B3E48-8267-4392-AD38-CDA3DA5281F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65"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sp>
        <p:nvSpPr>
          <p:cNvPr id="26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The algorithm provides no cryptographic security, and is often cited as a canonical example of weak encryption</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2BD71-B15F-407F-B969-66E66838557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6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sp>
        <p:nvSpPr>
          <p:cNvPr id="26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3366"/>
                </a:solidFill>
                <a:latin typeface="Arial"/>
              </a:rPr>
              <a:t># Map upper case A-Z to N-ZA-M and lower case a-z to n-za-m</a:t>
            </a:r>
            <a:endParaRPr b="0" lang="en-US" sz="2000" spc="-1" strike="noStrike">
              <a:solidFill>
                <a:srgbClr val="ffffff"/>
              </a:solidFill>
              <a:latin typeface="Arial"/>
            </a:endParaRPr>
          </a:p>
          <a:p>
            <a:pPr marL="338040" indent="-338040">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3366"/>
                </a:solidFill>
                <a:latin typeface="Arial"/>
              </a:rPr>
              <a:t>$ echo "The Quick Brown Fox Jumps Over The Lazy Dog" | tr 'A-Za-z' 'N-ZA-Mn-za-m‘</a:t>
            </a:r>
            <a:endParaRPr b="0" lang="en-US" sz="2000" spc="-1" strike="noStrike">
              <a:solidFill>
                <a:srgbClr val="ffffff"/>
              </a:solidFill>
              <a:latin typeface="Arial"/>
            </a:endParaRPr>
          </a:p>
          <a:p>
            <a:pPr marL="338040" indent="-338040">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3366"/>
                </a:solidFill>
                <a:latin typeface="Arial"/>
              </a:rPr>
              <a:t>Gur Dhvpx Oebja Sbk Whzcf Bire Gur Ynml Qbt </a:t>
            </a: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E159B-8DBB-4656-9665-BC5B5CC6DC6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7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endParaRPr b="0" lang="en-US" sz="3600" spc="-1" strike="noStrike">
              <a:solidFill>
                <a:srgbClr val="ffffff"/>
              </a:solidFill>
              <a:latin typeface="Arial"/>
            </a:endParaRPr>
          </a:p>
        </p:txBody>
      </p:sp>
      <p:sp>
        <p:nvSpPr>
          <p:cNvPr id="27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ja-JP" sz="2800" spc="-1" strike="noStrike">
                <a:solidFill>
                  <a:srgbClr val="003366"/>
                </a:solidFill>
                <a:latin typeface="Arial"/>
              </a:rPr>
              <a:t>“</a:t>
            </a:r>
            <a:r>
              <a:rPr b="0" i="1" lang="en-GB" sz="2800" spc="-1" strike="noStrike">
                <a:solidFill>
                  <a:srgbClr val="003366"/>
                </a:solidFill>
                <a:latin typeface="Arial"/>
              </a:rPr>
              <a:t>Human ingenuity cannot concoct a cipher which human ingenuity cannot resolve</a:t>
            </a:r>
            <a:r>
              <a:rPr b="0" lang="ja-JP" sz="2800" spc="-1" strike="noStrike">
                <a:solidFill>
                  <a:srgbClr val="00336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dgar Allen Poe</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FC194-7105-4FFE-9387-341252A1246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7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7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s the science of analyzing and breaking secure communication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lassical cryptanalysis involves a combination of analytical reasoning, application of mathematical tools, pattern finding, patience, determination, and luck</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C6AF48-4AB2-4262-8BF6-25B25E9D6B9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7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78"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 cryptanalyst may break a cryptosystem with varying degrees of severity, ranging from deciphering some bits of information about a ciphertext to recovering the key</a:t>
            </a: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9BE25-5984-499F-AD15-8653C885724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81"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Levels of breaks:</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formation Deduction</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stance Deduction</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Global Deduction</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otal Break</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27A2B-E6DA-4A45-A112-4CC457DC629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con</a:t>
            </a:r>
            <a:r>
              <a:rPr b="1" lang="ja-JP" sz="3600" spc="-1" strike="noStrike">
                <a:solidFill>
                  <a:srgbClr val="006666"/>
                </a:solidFill>
                <a:latin typeface="Arial"/>
              </a:rPr>
              <a:t>’</a:t>
            </a:r>
            <a:r>
              <a:rPr b="1" lang="en-GB" sz="3600" spc="-1" strike="noStrike">
                <a:solidFill>
                  <a:srgbClr val="006666"/>
                </a:solidFill>
                <a:latin typeface="Arial"/>
              </a:rPr>
              <a:t>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21"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This encrypted text can then be transmitted or stored in many forms, including written messages and electronic data</a:t>
            </a: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D32AF-2621-46C6-89EB-59A441AA8B2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Information Deduction</a:t>
            </a:r>
            <a:endParaRPr b="0" lang="en-US" sz="3600" spc="-1" strike="noStrike">
              <a:solidFill>
                <a:srgbClr val="ffffff"/>
              </a:solidFill>
              <a:latin typeface="Arial"/>
            </a:endParaRPr>
          </a:p>
        </p:txBody>
      </p:sp>
      <p:sp>
        <p:nvSpPr>
          <p:cNvPr id="28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s the lowest level of a break</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may obtain some bits of the key or some information about the plaintext</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E7D72-1B6A-4F2B-96EC-780F0FCA90A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Instance Deduction</a:t>
            </a:r>
            <a:endParaRPr b="0" lang="en-US" sz="3600" spc="-1" strike="noStrike">
              <a:solidFill>
                <a:srgbClr val="ffffff"/>
              </a:solidFill>
              <a:latin typeface="Arial"/>
            </a:endParaRPr>
          </a:p>
        </p:txBody>
      </p:sp>
      <p:sp>
        <p:nvSpPr>
          <p:cNvPr id="287"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finds the entire plaintext corresponding to an intercepted ciphertext</a:t>
            </a: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4B36B-1535-47A2-BBE5-522DCB26793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Global Deduction</a:t>
            </a:r>
            <a:endParaRPr b="0" lang="en-US" sz="3600" spc="-1" strike="noStrike">
              <a:solidFill>
                <a:srgbClr val="ffffff"/>
              </a:solidFill>
              <a:latin typeface="Arial"/>
            </a:endParaRPr>
          </a:p>
        </p:txBody>
      </p:sp>
      <p:sp>
        <p:nvSpPr>
          <p:cNvPr id="290"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devices another cryptographic algorithm that decrypts a ciphertext to the same plaintext that would be obtained by the original algorithm</a:t>
            </a: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15298-0266-4208-B539-1B6B0E79FC3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9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otal Break</a:t>
            </a:r>
            <a:endParaRPr b="0" lang="en-US" sz="3600" spc="-1" strike="noStrike">
              <a:solidFill>
                <a:srgbClr val="ffffff"/>
              </a:solidFill>
              <a:latin typeface="Arial"/>
            </a:endParaRPr>
          </a:p>
        </p:txBody>
      </p:sp>
      <p:sp>
        <p:nvSpPr>
          <p:cNvPr id="293"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successfully recovers the key and can decrypt any encrypted messages</a:t>
            </a: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F117C-776E-4D13-A837-6A1FA402DB8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9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a:t>
            </a:r>
            <a:endParaRPr b="0" lang="en-US" sz="3600" spc="-1" strike="noStrike">
              <a:solidFill>
                <a:srgbClr val="ffffff"/>
              </a:solidFill>
              <a:latin typeface="Arial"/>
            </a:endParaRPr>
          </a:p>
        </p:txBody>
      </p:sp>
      <p:sp>
        <p:nvSpPr>
          <p:cNvPr id="296"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ost cryptosystems are only </a:t>
            </a:r>
            <a:r>
              <a:rPr b="1" lang="en-GB" sz="2800" spc="-1" strike="noStrike">
                <a:solidFill>
                  <a:srgbClr val="003366"/>
                </a:solidFill>
                <a:latin typeface="Arial"/>
              </a:rPr>
              <a:t>computationally secure</a:t>
            </a:r>
            <a:r>
              <a:rPr b="0" lang="en-GB" sz="2800" spc="-1" strike="noStrike">
                <a:solidFill>
                  <a:srgbClr val="003366"/>
                </a:solidFill>
                <a:latin typeface="Arial"/>
              </a:rPr>
              <a:t>, meaning that with enough processing power and data storage, someone can eventually break the system</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800" spc="-1" strike="noStrike">
                <a:solidFill>
                  <a:srgbClr val="003366"/>
                </a:solidFill>
                <a:latin typeface="Arial"/>
              </a:rPr>
              <a:t>Eventually</a:t>
            </a:r>
            <a:r>
              <a:rPr b="0" lang="en-GB" sz="2800" spc="-1" strike="noStrike">
                <a:solidFill>
                  <a:srgbClr val="003366"/>
                </a:solidFill>
                <a:latin typeface="Arial"/>
              </a:rPr>
              <a:t> might be many times more than the age of the universe, but in theory, these systems can be broken</a:t>
            </a:r>
            <a:endParaRPr b="0" lang="en-US" sz="2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82AB5F-09E5-422E-943F-1A91915453E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9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99"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dvances in computer technology reduce the computational difficulty of breaking a cryptosystem, whereas increasing key lengths makes it more difficult</a:t>
            </a:r>
            <a:endParaRPr b="0" lang="en-US" sz="2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90B9A-E3F2-42CE-A4AE-65B295DB6C0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0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0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Unconditionally Secure</a:t>
            </a:r>
            <a:r>
              <a:rPr b="0" lang="en-GB" sz="2800" spc="-1" strike="noStrike">
                <a:solidFill>
                  <a:srgbClr val="003366"/>
                </a:solidFill>
                <a:latin typeface="Arial"/>
              </a:rPr>
              <a:t>: a cryptosystem is said to be unconditionally secure if no amount of computing power or ciphertext can ever crack the cipher:</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 theory, there is simply not enough information available to decipher an encrypted message even if an infinite amount of resources are available</a:t>
            </a: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28314-4E17-4C97-8ED7-B813DD0BC5E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0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0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Unconditionally Secure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e-time pads are the only examples of unconditionally secure cryptosystems (OTPs are briefly discussed in the section on stream ciphers)</a:t>
            </a:r>
            <a:endParaRPr b="0" lang="en-US" sz="2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353E7-1B53-472E-9688-80EB62DFEB5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0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a:t>
            </a:r>
            <a:endParaRPr b="0" lang="en-US" sz="3600" spc="-1" strike="noStrike">
              <a:solidFill>
                <a:srgbClr val="ffffff"/>
              </a:solidFill>
              <a:latin typeface="Arial"/>
            </a:endParaRPr>
          </a:p>
        </p:txBody>
      </p:sp>
      <p:sp>
        <p:nvSpPr>
          <p:cNvPr id="308"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the English alphabet, there are 26! (26! Is 26 x 25 x 24… x 2 x 1), or approximately 4 x 10</a:t>
            </a:r>
            <a:r>
              <a:rPr b="0" lang="en-GB" sz="2800" spc="-1" strike="noStrike" baseline="30000">
                <a:solidFill>
                  <a:srgbClr val="003366"/>
                </a:solidFill>
                <a:latin typeface="Arial"/>
              </a:rPr>
              <a:t>26</a:t>
            </a:r>
            <a:r>
              <a:rPr b="0" lang="en-GB" sz="2800" spc="-1" strike="noStrike">
                <a:solidFill>
                  <a:srgbClr val="003366"/>
                </a:solidFill>
                <a:latin typeface="Arial"/>
              </a:rPr>
              <a:t> possible pairings of letter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f it takes 1 nanosecond (one billionth of a second, or 10</a:t>
            </a:r>
            <a:r>
              <a:rPr b="0" lang="en-GB" sz="2800" spc="-1" strike="noStrike" baseline="30000">
                <a:solidFill>
                  <a:srgbClr val="003366"/>
                </a:solidFill>
                <a:latin typeface="Arial"/>
              </a:rPr>
              <a:t>-9</a:t>
            </a:r>
            <a:r>
              <a:rPr b="0" lang="en-GB" sz="2800" spc="-1" strike="noStrike">
                <a:solidFill>
                  <a:srgbClr val="003366"/>
                </a:solidFill>
                <a:latin typeface="Arial"/>
              </a:rPr>
              <a:t> second) to try each pairing, it will take roughly 10 thousand million years to break a monoalphabetic substitution cipher by brute-force attack</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54FA0-2E65-400C-BE02-40B37CDC49F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11"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t turns out, however, that by using statistical and frequency analysis of a language and determining the letters and letter sequences that are more likely to appear than others, it is relatively easy to break monoalphabetic substitution cipher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5B4FB-F112-402E-BBF3-F876A2C00C5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3"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xamples of Applied Cryptography</a:t>
            </a:r>
            <a:endParaRPr b="0" lang="en-US" sz="3600" spc="-1" strike="noStrike">
              <a:solidFill>
                <a:srgbClr val="ffffff"/>
              </a:solidFill>
              <a:latin typeface="Arial"/>
            </a:endParaRPr>
          </a:p>
        </p:txBody>
      </p:sp>
      <p:sp>
        <p:nvSpPr>
          <p:cNvPr id="12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Phone cards, cell phones, remote control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Cash machines, money transfer between bank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Electronic cash, online banking, secure email</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Satellite TV, pay-per-view TV</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Digital Rights Management (DRM)</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Etc., etc…</a:t>
            </a: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2945F-45BC-4EDF-97D8-C2E99A285CE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1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istorically, cryptanalysts used </a:t>
            </a:r>
            <a:r>
              <a:rPr b="1" lang="en-GB" sz="2800" spc="-1" strike="noStrike">
                <a:solidFill>
                  <a:srgbClr val="003366"/>
                </a:solidFill>
                <a:latin typeface="Arial"/>
              </a:rPr>
              <a:t>frequency analysis</a:t>
            </a:r>
            <a:r>
              <a:rPr b="0" lang="en-GB" sz="2800" spc="-1" strike="noStrike">
                <a:solidFill>
                  <a:srgbClr val="003366"/>
                </a:solidFill>
                <a:latin typeface="Arial"/>
              </a:rPr>
              <a:t> to examine the number of times certain letters appeared in a message and extrapolated likely character substitutions</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x.: letters such as E and T appear more frequently in the English language than Z and X</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9A1BC-03D7-4F1C-8DEE-0136B55470B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Linguistic Patterns: Frequency</a:t>
            </a:r>
            <a:endParaRPr b="0" lang="en-US" sz="3600" spc="-1" strike="noStrike">
              <a:solidFill>
                <a:srgbClr val="ffffff"/>
              </a:solidFill>
              <a:latin typeface="Arial"/>
            </a:endParaRPr>
          </a:p>
        </p:txBody>
      </p:sp>
      <p:pic>
        <p:nvPicPr>
          <p:cNvPr id="317" name="Picture 4" descr=""/>
          <p:cNvPicPr/>
          <p:nvPr/>
        </p:nvPicPr>
        <p:blipFill>
          <a:blip r:embed="rId1"/>
          <a:stretch/>
        </p:blipFill>
        <p:spPr>
          <a:xfrm>
            <a:off x="1631880" y="2514600"/>
            <a:ext cx="6445440" cy="4038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B82A1-C2CE-42E4-B903-F51718E387B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320"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engine that generates the stream does not vary; the only change is the plaintext itself</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Because of this, the attacker can examine streams and determine the key</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57E44-07FD-40CB-80BD-E5489EAB292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2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onoalphabetic Substitution Cipher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23" name="Text Box 3"/>
          <p:cNvSpPr/>
          <p:nvPr/>
        </p:nvSpPr>
        <p:spPr>
          <a:xfrm>
            <a:off x="838080" y="2362320"/>
            <a:ext cx="7693200" cy="372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lvl="1" marL="3380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2_Fun_With_Cryptograms</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85692-FC37-47F1-84FB-272832B54BB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2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alphabetic Substitution Cipher</a:t>
            </a:r>
            <a:endParaRPr b="0" lang="en-US" sz="3600" spc="-1" strike="noStrike">
              <a:solidFill>
                <a:srgbClr val="ffffff"/>
              </a:solidFill>
              <a:latin typeface="Arial"/>
            </a:endParaRPr>
          </a:p>
        </p:txBody>
      </p:sp>
      <p:sp>
        <p:nvSpPr>
          <p:cNvPr id="32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ultiple alphabets are used for the cipher</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Usually, this is nothing more than using a unique monoalphabetic substitution cipher</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Vigenere cipher</a:t>
            </a: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37FD1-7731-46B9-9121-B072CE8E25E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2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alphabetic Substitu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3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general, all polyalphabetic ciphers are similar in the following way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 defined key(word) determines the shift of each lett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 set of monoalphabetic substitutions are used</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E1929-81A2-4F76-A71F-A3B11FDF080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3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a:t>
            </a:r>
            <a:endParaRPr b="0" lang="en-US" sz="3600" spc="-1" strike="noStrike">
              <a:solidFill>
                <a:srgbClr val="ffffff"/>
              </a:solidFill>
              <a:latin typeface="Arial"/>
            </a:endParaRPr>
          </a:p>
        </p:txBody>
      </p:sp>
      <p:sp>
        <p:nvSpPr>
          <p:cNvPr id="33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irst, you need a chart diagramming the possible alphabet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ee Vigenere chart:</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3_Vigenere_Chart</a:t>
            </a:r>
            <a:endParaRPr b="0" lang="en-US" sz="2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9A833-5116-430E-84BD-522591EFBBD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3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3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is chart appears to be identical to the Caesar Shifting chart, but the difference is along the left-hand sid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Vigenere chart has letters instead of numb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5432F-462C-4266-B64E-1DEBDFB3AD2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3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3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Generate the plaintext messag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Today we move, be prepared.</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emove any punctuation and spaces, and re-write the messag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TODAYWEMOVEBEPREPARED</a:t>
            </a:r>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F1F64-28DD-42B1-B08F-2AD44677CC6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4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4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ext, create a key(word):</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MOVE</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lace the keyword above the plaintext, and repeat it until every letter of the plaintext is cover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E68B4-BA18-428F-BA21-5CA629D17A8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6"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a:t>
            </a:r>
            <a:endParaRPr b="0" lang="en-US" sz="3600" spc="-1" strike="noStrike">
              <a:solidFill>
                <a:srgbClr val="ffffff"/>
              </a:solidFill>
              <a:latin typeface="Arial"/>
            </a:endParaRPr>
          </a:p>
        </p:txBody>
      </p:sp>
      <p:sp>
        <p:nvSpPr>
          <p:cNvPr id="127"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Protections provid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Confidentiality</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Authentic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ntegrity</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Nonrepudi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Access control</a:t>
            </a:r>
            <a:endParaRPr b="0" lang="en-US" sz="2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90185-86D2-43EC-9477-5965C5E9F61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4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4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astly, use the Vigenere chart to map the keyword letter (horizontal letters in chart) with the plaintext letter (vertical letters in chart) to create the ciphertext</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BB283-77D8-41ED-9714-2EF0DF1F9F1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4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4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a:t>
            </a:r>
            <a:r>
              <a:rPr b="0" lang="en-GB" sz="1800" spc="-1" strike="noStrike">
                <a:solidFill>
                  <a:srgbClr val="003366"/>
                </a:solidFill>
                <a:latin typeface="Arial"/>
                <a:ea typeface="ＭＳ Ｐゴシック"/>
              </a:rPr>
              <a:t>MOVEM OV EMOV EM OVEMOVEM</a:t>
            </a:r>
            <a:endParaRPr b="0" lang="en-US" sz="1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TODAY WE MOVE BE PREPARED</a:t>
            </a:r>
            <a:endParaRPr b="0" lang="en-US" sz="1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a:t>
            </a:r>
            <a:r>
              <a:rPr b="0" lang="en-GB" sz="1800" spc="-1" strike="noStrike">
                <a:solidFill>
                  <a:srgbClr val="003366"/>
                </a:solidFill>
                <a:latin typeface="Arial"/>
                <a:ea typeface="ＭＳ Ｐゴシック"/>
              </a:rPr>
              <a:t>FCYEK KZ QAJZ FQ DMIBOMIP</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DED08E-74D4-4F66-B219-2B2F0DFEC45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5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 </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primary way to break this cipher was not to go right into decoding the message, but instead, in figuring out the key</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key length was determined, the ciphertext could be broken into smaller groups of characters, which could be decoded using frequency analysi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561F6-AB4D-4425-BC9D-B8E3E6DF2B2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5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 (con</a:t>
            </a:r>
            <a:r>
              <a:rPr b="0" lang="ja-JP" sz="2800" spc="-1" strike="noStrike">
                <a:solidFill>
                  <a:srgbClr val="003366"/>
                </a:solidFill>
                <a:latin typeface="Arial"/>
              </a:rPr>
              <a:t>’</a:t>
            </a:r>
            <a:r>
              <a:rPr b="0" lang="en-GB" sz="2800" spc="-1" strike="noStrike">
                <a:solidFill>
                  <a:srgbClr val="003366"/>
                </a:solidFill>
                <a:latin typeface="Arial"/>
              </a:rPr>
              <a:t>t): </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complexity and length of the key became the critical component (and strength) of this cipher</a:t>
            </a: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5D03B-8ADF-48E8-A644-0AA4D56BF68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5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You</a:t>
            </a:r>
            <a:r>
              <a:rPr b="0" lang="ja-JP" sz="2800" spc="-1" strike="noStrike">
                <a:solidFill>
                  <a:srgbClr val="003366"/>
                </a:solidFill>
                <a:latin typeface="Arial"/>
              </a:rPr>
              <a:t>’</a:t>
            </a:r>
            <a:r>
              <a:rPr b="0" lang="en-GB" sz="2800" spc="-1" strike="noStrike">
                <a:solidFill>
                  <a:srgbClr val="003366"/>
                </a:solidFill>
                <a:latin typeface="Arial"/>
              </a:rPr>
              <a:t>ll see as we progress w/the material how this cipher has evolved into very complex and long keys to create very secure messages</a:t>
            </a: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9957E-E8DD-4693-938A-E2D941674BD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a:t>
            </a:r>
            <a:endParaRPr b="0" lang="en-US" sz="3600" spc="-1" strike="noStrike">
              <a:solidFill>
                <a:srgbClr val="ffffff"/>
              </a:solidFill>
              <a:latin typeface="Arial"/>
            </a:endParaRPr>
          </a:p>
        </p:txBody>
      </p:sp>
      <p:sp>
        <p:nvSpPr>
          <p:cNvPr id="36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Keeps the original letters and shifts their positions so the end result in unreadabl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ove characters left 3 spac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ix a few lett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plit Rail cipher</a:t>
            </a:r>
            <a:endParaRPr b="0" lang="en-US" sz="28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8F2AE-4F7A-49F0-A649-A4B04AD74CF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6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6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ransposition Tab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umbered Transposition Tab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ubstitution and Numbered Transposition Table</a:t>
            </a:r>
            <a:endParaRPr b="0" lang="en-US" sz="28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1CE22-8E32-4572-AC83-1CACA2759A8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6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6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move the characters left 3 spac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caesar shift</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a:t>
            </a:r>
            <a:r>
              <a:rPr b="0" lang="en-GB" sz="1800" spc="-1" strike="noStrike">
                <a:solidFill>
                  <a:srgbClr val="003366"/>
                </a:solidFill>
                <a:latin typeface="Arial"/>
                <a:ea typeface="ＭＳ Ｐゴシック"/>
              </a:rPr>
              <a:t>sarshi ftcae</a:t>
            </a:r>
            <a:endParaRPr b="0" lang="en-US" sz="1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AC9F3E-FFF6-49A4-9030-EF9232988EB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6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6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mited to English characters, and linguistic patter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asy to </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eye up</a:t>
            </a:r>
            <a:r>
              <a:rPr b="0" lang="ja-JP" sz="2800" spc="-1" strike="noStrike">
                <a:solidFill>
                  <a:srgbClr val="003366"/>
                </a:solidFill>
                <a:latin typeface="Arial"/>
                <a:ea typeface="ＭＳ Ｐゴシック"/>
              </a:rPr>
              <a:t>”</a:t>
            </a:r>
            <a:endParaRPr b="0" lang="en-US" sz="28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BEE63B-CA98-4C34-8768-D2778379FD1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7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7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mix of a few lett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caesar shift</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a:t>
            </a:r>
            <a:r>
              <a:rPr b="0" lang="en-GB" sz="1800" spc="-1" strike="noStrike">
                <a:solidFill>
                  <a:srgbClr val="003366"/>
                </a:solidFill>
                <a:latin typeface="Arial"/>
                <a:ea typeface="ＭＳ Ｐゴシック"/>
              </a:rPr>
              <a:t>saesat chifr</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Here, the first and last letters of the plaintext words were switched</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DC62B-4928-4945-84E5-43956570C61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9"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0"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Confidentiality</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Allows only authorized users to access the inform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Symmetric and Asymmetric cryptography</a:t>
            </a:r>
            <a:endParaRPr b="0" lang="en-US" sz="2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F4CA23-66F9-4AAD-86CE-52316E55456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7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7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mited to English characters, and linguistic patter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asy to </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eye up</a:t>
            </a:r>
            <a:r>
              <a:rPr b="0" lang="ja-JP" sz="2800" spc="-1" strike="noStrike">
                <a:solidFill>
                  <a:srgbClr val="003366"/>
                </a:solidFill>
                <a:latin typeface="Arial"/>
                <a:ea typeface="ＭＳ Ｐゴシック"/>
              </a:rPr>
              <a:t>”</a:t>
            </a:r>
            <a:endParaRPr b="0" lang="en-US" sz="28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8B15B-BC13-4337-B64D-0D0FF15CA1F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7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a:t>
            </a:r>
            <a:endParaRPr b="0" lang="en-US" sz="3600" spc="-1" strike="noStrike">
              <a:solidFill>
                <a:srgbClr val="ffffff"/>
              </a:solidFill>
              <a:latin typeface="Arial"/>
            </a:endParaRPr>
          </a:p>
        </p:txBody>
      </p:sp>
      <p:sp>
        <p:nvSpPr>
          <p:cNvPr id="37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KA </a:t>
            </a:r>
            <a:r>
              <a:rPr b="1" lang="en-GB" sz="2800" spc="-1" strike="noStrike">
                <a:solidFill>
                  <a:srgbClr val="003366"/>
                </a:solidFill>
                <a:latin typeface="Arial"/>
              </a:rPr>
              <a:t>Rail Fence techniqu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 of the first transposition ciphers that gets more complex than the previous examples</a:t>
            </a:r>
            <a:endParaRPr b="0"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712CD-4BBA-4D52-B59F-E12D97B04FD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8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So far there has been little math, which makes me happy!</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irst, remove any punctuation and spaces, and re-write the message:</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SOFARTHEREHASBEENLITTLEMATHWHICHMAKESMEHAPPY</a:t>
            </a:r>
            <a:endParaRPr b="0" lang="en-US" sz="18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1D9A6-C33E-4FD4-B249-BA335A98537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8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make two rails (or lines); one on top of the other. Take every other character from the key(word), placing them on a separate rail (line):</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ne one: </a:t>
            </a:r>
            <a:r>
              <a:rPr b="0" lang="en-GB" sz="1800" spc="-1" strike="noStrike">
                <a:solidFill>
                  <a:srgbClr val="003366"/>
                </a:solidFill>
                <a:latin typeface="Arial"/>
                <a:ea typeface="ＭＳ Ｐゴシック"/>
              </a:rPr>
              <a:t>SFRHRHSENITEAHHCMKSEAP</a:t>
            </a:r>
            <a:endParaRPr b="0" lang="en-US" sz="1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ne two: </a:t>
            </a:r>
            <a:r>
              <a:rPr b="0" lang="en-GB" sz="1800" spc="-1" strike="noStrike">
                <a:solidFill>
                  <a:srgbClr val="003366"/>
                </a:solidFill>
                <a:latin typeface="Arial"/>
                <a:ea typeface="ＭＳ Ｐゴシック"/>
              </a:rPr>
              <a:t>OATEEABELTLMTWIHAEMHPY</a:t>
            </a:r>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182EA-0473-477D-AD50-70DB3665C2F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8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take line one and add line two to its end:</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SFRHRHSENITEAHHCMKSEAPOATEEABELTLMTWIHAEMHPY</a:t>
            </a:r>
            <a:endParaRPr b="0" lang="en-US" sz="18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E357D-7431-4406-8934-E4536741058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9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type of algorithm being used is determined (e.g., transposition cipher), the analyst would simply try different combinations of spacing, until eventually the words jump out of the ciphertext</a:t>
            </a:r>
            <a:endParaRPr b="0" lang="en-US" sz="28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B1F65-75AD-4DCD-A1EB-1D0F0F44660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9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Table</a:t>
            </a:r>
            <a:endParaRPr b="0" lang="en-US" sz="3600" spc="-1" strike="noStrike">
              <a:solidFill>
                <a:srgbClr val="ffffff"/>
              </a:solidFill>
              <a:latin typeface="Arial"/>
            </a:endParaRPr>
          </a:p>
        </p:txBody>
      </p:sp>
      <p:sp>
        <p:nvSpPr>
          <p:cNvPr id="39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Building on the previous example, let</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s add more complexity to the ciph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ee Transposition Tabl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4_Transposition_Tabl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is table is 7 characters wide</a:t>
            </a:r>
            <a:endParaRPr b="0" lang="en-US" sz="28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14B82-829F-406F-8FDE-D7E9472F8D5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9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9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ead each column downward to produce the following ciphertext:</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SEELHEPOREEISYFENMCMAHLAHERAITMHTSTHAAHBTWKP</a:t>
            </a:r>
            <a:endParaRPr b="0" lang="en-US" sz="18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1F6510-AC52-413F-A5AB-EB954E98F6D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9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9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type of algorithm being used is determined (e.g., transposition cipher), and if the ciphertext is short, the analyst starts by recreating the table (e.g., write columns of 3, 4, 5 letters, and so on)</a:t>
            </a:r>
            <a:endParaRPr b="0" lang="en-US" sz="28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BD3F2A-5C0C-401B-A67E-097120F612A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0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a:t>
            </a:r>
            <a:endParaRPr b="0" lang="en-US" sz="3600" spc="-1" strike="noStrike">
              <a:solidFill>
                <a:srgbClr val="ffffff"/>
              </a:solidFill>
              <a:latin typeface="Arial"/>
            </a:endParaRPr>
          </a:p>
        </p:txBody>
      </p:sp>
      <p:sp>
        <p:nvSpPr>
          <p:cNvPr id="40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Building on the previous example, let</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s continue to add complexity to the ciph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 the previous Transposition table, we created a table of letter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sey O'Brien</cp:lastModifiedBy>
  <dcterms:modified xsi:type="dcterms:W3CDTF">2014-01-14T15:10:01Z</dcterms:modified>
  <cp:revision>665</cp:revision>
  <dc:subject/>
  <dc:title>Slide 1</dc:title>
</cp:coreProperties>
</file>