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101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5" y="0"/>
                </a:moveTo>
                <a:arcTo wR="5" hR="5" stAng="16200000" swAng="-5400000"/>
                <a:lnTo>
                  <a:pt x="0" y="28345"/>
                </a:lnTo>
                <a:arcTo wR="5" hR="5" stAng="10800000" swAng="-5400000"/>
                <a:lnTo>
                  <a:pt x="21595" y="2835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145040" y="0"/>
            <a:ext cx="31701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8560" y="720720"/>
            <a:ext cx="4792680" cy="359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9320" bIns="4932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59320" cy="43149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9118440"/>
            <a:ext cx="317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7"/>
          </p:nvPr>
        </p:nvSpPr>
        <p:spPr>
          <a:xfrm>
            <a:off x="4144680" y="912132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2A12C-D81D-4EF3-B328-62ACFCE7C41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B676-789E-408E-AC86-DD8E64C39AB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D8D55-A179-45CB-B449-DD5F1623DCA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BF674A4-E24A-4864-8A64-1AC30885BE2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F9652-F7B8-4332-9442-FCEC1E63FD7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5EDDC9E-8429-4C94-97FD-402A99112CC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7F615-74C6-4ABD-A4B0-D6DD33AE8F9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CA55A9A-2A26-4DF1-9E82-B4FC131EF57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245E1-0FE9-4788-A1A0-B2F69DBAC77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2A331C7-34B1-421C-8F86-3CF887EFDA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8EBCF-9455-400F-91A4-11348C5A01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AD8A68A-C8CC-44B9-9C68-E6B44F53C7B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F478C-E9EF-4E50-9A07-F645B34043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671821F-54E4-488A-B789-2F9C1F593C3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FF4D5-3BEC-4A91-898E-BFA7B9FB353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FD316B8-32D6-42B6-BDEE-363C56C6A50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F2BB-6498-48F0-B1D3-266517BC32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70E841E-878B-4059-9092-F6339C07FB8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7CA5D-CF83-49DF-8881-2EE2ADCA928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7F55CD9-E106-4439-9F43-9F52166A9A5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D8F75-31D5-4040-B0EB-D3739230F0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38AD575-4DDB-4623-9E90-325E63FA7AC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2574C-4E20-4259-91A7-C2529AAB6EC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8A33DE1-2DAC-480D-B547-E5026AA0051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12EAB-B19B-497C-BA71-BD45CDD673D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836A5F2-415B-4106-AF4F-BD8DE7B0BA2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CF40B3-346A-4BF6-B1A8-6AA421E1EF0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B531E59-7B4F-4995-A70D-44496F0FF7D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9D47E-692F-4540-9801-6E8F6974D67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18FD983-6948-49A6-B9AA-E5E5C0774A8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FC5E9-4328-4E44-A647-AC162FC109D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AC90A13-36E3-4A0D-BAAC-2F833ED299F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79355-D490-425F-985B-506BA7B9F7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871F91D-0A87-42C1-8029-BABA2FD08B1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65F8B-9531-4DA7-BE52-6D25436241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9E7C3B7-85C1-41FD-8822-BCD3E188129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E6CA5-AF06-488B-99C0-FD74BC4901B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724DD6C-5622-4AFF-930E-B59060791FD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6571F-AE37-4AEA-B29D-07D033D5D8B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FA55334-54DC-483C-AEA6-BA980D768F8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0273-D4A2-4CF9-8011-280EF3C565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38610E-B6E6-492F-8A97-E3CEE052AEE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56AE7-9521-45DF-8506-A3D67A5DC61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FCDDDA9-4B06-43AC-BB99-832193F6A12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616598-9A81-463F-B15F-2F76D627D5E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1D55ABB-4670-4F38-8399-F8A2AC661C5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E2180-DE42-47E9-815A-63AD2B9424F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69030FD-8711-4D36-BE90-4E53E80BFD9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D9D6A-4E67-451B-9C70-39F10490E2D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96602E7-6196-4902-8535-37CD65E0AAE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9C6AE-61E9-4218-BE87-EC6AC159BB7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2C0E84E-1BC7-414D-BE59-3FE2B98950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D09A3-369F-4F35-A470-65389027055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09D6499-03A6-4286-9536-53CDA35ED00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7B1FB-5978-4D5F-BA75-C52641044E3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E6B34EC-2E2C-4546-8C66-70583404068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876BA-459F-491E-BEA4-83FF48014D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36AFCE8-EFED-443E-BDF9-DC49D065993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5648E-316D-462E-809A-591F92ABBCE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91CA979-80B2-40DA-99B7-52672C7CE6C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C6F662-1213-4FC3-A2FF-3324E791E2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D49C557-B23B-440D-B7B2-C15DD22B296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38D80-C544-4A20-8058-9725ABE03FE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9317948-ABFC-474F-8200-ED594113B3E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F593E-FDF5-4468-B0C2-81C912A8907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EB6C35F-40E7-4613-A6EB-32F8454648A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3828-54A7-4861-8EB4-F6969B8EB40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37AAA03-88B4-401E-83C0-3A1126AAC0C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5CD4-2B0B-4350-A9D0-8ACCD115DC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1FF628C-7B68-484C-AFE0-E5286DD98A3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9C3CD-2642-4490-ACB1-16D5B15AE90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F3AE15F-75D6-4517-BDCB-65206E8F578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446B1-5B90-40BD-B780-1BB4F8E966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54A9447-C471-4E97-9508-0744E7D0D37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285EB-E891-47A5-861F-C66295BF961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FE61925-75A3-4553-B635-D433F08ACB9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54B52-C8A9-4B3D-BF40-E98C4F22320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3D4ED26-F216-47D2-AA93-8E4CFB3C1E5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0B31B-1B73-4077-B39F-1BEB9CFDABF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E991C63-DC44-4E77-AF8B-947DB81099E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DA15A-B911-4FEB-A178-648DE837FBA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3BA41CF-B3BD-4679-8055-AE80BEE1B07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36C20-2F71-488F-82CD-D75066542D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C2EEDEA-87D2-4242-A57E-3AB03B39D4D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49A9F-7AB7-4A12-9185-E50773F4851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BD5D147-C391-4397-87EF-8F2DFE65FF3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te Slic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splitting the Plaintext (P1) into a right and left ha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07447-090A-4CB9-B295-2C8DE261F09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47ED38D-0B40-46EC-B750-69259161D2E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38189-0153-434F-A9E6-8607439A9C4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4E4CD19-25BB-48F2-BFBA-E62E19831F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36FDC-5D34-4EF8-AC30-A7511EC58AE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25BDA7A-70B3-4CE3-9CF3-9D9AEC2079D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458DB-59FE-4E30-B6AA-42F0923EA1F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4378B69-B1B3-42A6-BEC6-A529DBB5239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E944B-21DF-4EBF-94A9-8732D46C33A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CFF5473-982B-43EF-82E0-37E14A36E99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1D267-406A-4FBB-89AA-B031C8488D5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D885BAA-4E4D-4797-BB17-FA303B0AF2D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05F1A-04FB-42D0-9212-578F721F441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950078E-9745-488B-BC5C-3AA916AE44F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4826-6E38-4193-B818-9D51CEF6DD4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97389B1-133A-4B48-B4E1-5EAFF8F85AF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A2046-BD09-4592-A5B5-89F278C4AEE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01F38BA-0C72-4E22-89D2-D436771F7D7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C5AB1-D394-464C-80E8-7D8189F9465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DF87487-D4BE-42D2-8D96-3A579FAD91F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61CCE-7E4E-43EF-9984-6A4F8D96020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9C1E2F5-7B97-4639-B31D-61559DC7A94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04D67-72CC-45C1-A0C9-61ADF48925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7D56CC0-F398-47A3-9013-2AD7E3333DA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FBD34-78B2-4802-BB7A-74CF97B0BEF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D91162C-5347-4C9B-8B35-94A089FD6A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FBEB4-4D98-441F-99D3-35E704253F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0B0E388-85EA-461B-97F0-E57661DFDC0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FD4F0-0EF4-4DC2-9630-B0F73B3198F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C6F77B6-A35A-464D-9954-CDBBBF42F5D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191126-7756-4453-A70A-665DCDB9C01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F84B7C0-49CE-45BF-B7DB-C504CEE08EE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FC4FB-616A-4338-B071-0288BAE5370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D207D88-FD24-428B-9EEC-2310D9F649F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12B71-37C0-4667-984E-7469BBB2E52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E059B45-87A2-4D85-B7E1-D8C90D013852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66AD1-01AC-4E34-95F0-3198DC2759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65FDB41-E04B-48E2-9CBB-012A8C4E0EB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D3F82-790A-4855-BC14-68512E3950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2842BBC-BE60-4766-910D-79413687EBE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4F0F2-4FDF-4FDB-9C0F-E5DF514C1E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38E9D86-3601-4A45-99D7-2413CDD6FF9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1B470-82A8-41A4-820A-D0EF5761FB2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461951CD-360E-4848-843B-DAA71450850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911BF-A31E-4C9B-8B68-00C0FF908CF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4404E0A-2B7A-43A2-857D-7DDC1C46DFC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1DE306-7C54-4FF7-9823-2C4F8499876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8B10E70-F587-4A79-A392-30E9D321260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C8CD-A4DA-4B2B-BC2D-DA9B9914F2F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000EA49-A5A7-41E2-968D-401AFBEA9CC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969DC-4663-4B2C-AAA8-D8305966D7C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36F7523-9116-4CCD-AA8B-33D31DB3B46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0566-FF19-4D0D-B33F-B5E81EEAE47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DF70A00-F028-44FB-AD7D-BBF39E78C72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D51A-B28B-4F6A-A664-D5D493550A5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830E72A-93C3-43AB-A1E3-5BE10E661BF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igital Certificates: Applied Internet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BBB4A-0050-41C4-A629-41A3FE3D56B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D92BD2E-D965-4913-BF04-4F7D782CC79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3E17E-E247-442D-A726-C92141FC8C4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7E4BDDD-A01E-419D-BC3E-0EA48CC56DC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08693-64E5-45C2-8E3F-A5F55F535A9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CD0661A-485D-467B-89EF-C71D94E3DC0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CB3D2-4D4A-4D9D-8FEC-FF8EFA42F73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F345736-B4C5-4AB6-BCB7-E3ECB2C94FA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2E5B-5CF1-481F-848C-CDF98FF1DD8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F96D870-43FA-4086-8C76-8159610EF63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1C449C-F6E8-4835-A40D-9C8D73E9D22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EA3F749-B5D2-47DA-9890-33934E9311E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B0228-0B46-42AF-944B-18694908666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CE0CF01-50FB-4792-854E-F27394C7C8C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23E76-5647-48DA-87CD-BDA2A9749FA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495BCB1-69AF-4532-84AC-B68E591735A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C73DA-7887-49F6-B021-BA4585DBC50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D12DC27-E80D-4F63-981D-23732F07633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BE2A5-A6FE-48F7-AA7A-992A7FFBAE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15A2552-B87B-4E19-83B3-1F1EA577E61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63941-969C-42C8-AA10-C4640FDFC23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D1AA1F5-2F92-452D-9F52-B3E91BC36AA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19F68-4364-4621-88E9-AAEFD033BC4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C8BD4EE-48A2-478C-A72F-FA7C4BEF041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04326-7C93-415E-A370-6883A5B1F19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1ED7516-0C01-43C7-9192-C3759352F95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4E7A6-12B7-4E8A-ACA2-9674814D7C7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1180B0D-5C74-46A9-9F49-4450A2A4833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F9E5-8C46-46C8-9428-F26377C2A5C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9530761-E9AF-48D0-9530-EC3792BCBB2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4678C-A0BE-4CBB-9754-20AB5C078B5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3A926CF-627B-4DF1-9E96-0F9E2F6CDFD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A1D0C-00F0-462E-B852-A14B87539C6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2CF212C1-F3B9-40D5-89AC-62000FF5DD8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FB49BA-4ED1-4224-85D2-FC02E3C9AEC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F192F68-D265-44C3-BB16-3C81B8786BE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6895C-7AA6-4BAC-9202-43E4400E7F6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F23873F-E33F-4AE0-8D84-8C4A28741B3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98933-C8AC-42E2-B423-5263AFBDCCC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A69D02A-7307-445B-A99A-D4D3986252F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C7DD0-8A48-4D35-B3D6-C4DA7C423A5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B01A048-F2F3-46A3-9B14-0705926C5FF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28D0C-6CEF-40BB-A6BC-006CA664AD5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30E9807-58F4-45E0-AD43-30CF3D61644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AF8DEF-634B-4C0B-80FD-ACDFA4048B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AF2AC14-6D00-4EA8-9728-3E8D829E27C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FC553-04E6-4754-85FA-5B58756EDD4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5804784-B4E3-44C9-9BF6-B87185A1616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8608A-F486-4EB3-85FF-1E26B6BEC88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C95BC12-CC65-44E2-8C32-464DE0781A5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E24ED-EA83-4388-861D-E6E44E7E88E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2E594CB-63A4-4D91-B3FE-DD5D82A7CE4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63BBC-71C5-4D30-A429-CBAD3B66F84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FE6F7AF-ECAC-4A4F-84A0-E6D2400E344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D1D67-DC75-423B-8593-2F8EA9019A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80DF1F8-715F-472B-B317-6BD4D0D12B2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0B2A2-71EB-4B42-898A-83548A100CB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9B113E1-48C2-4ED6-AB37-CBB3F115C2C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AE531-3D11-4395-A42B-CABA36A466A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2D37BBC-E0D9-4488-86DF-53D5931C9D6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99D43-100E-4EF6-A869-3100812487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BE5C94A-DD2B-444F-8834-6BFEE542369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ttp://en.wikipedia.org/wiki/Wired_Equivalent_Priv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639ED-B9B8-41E9-A95A-D7826278C2A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1CF5B14B-B8F4-47E0-AFAC-45EBBD5CCCDF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EE8BD-0ED2-43B6-AD6F-C62999D4E29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00889DB-50A5-4AA2-871E-6978E2469BD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093B9-BB68-4939-B967-11307C0C761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70B3511-8DDC-4768-B3D0-8C8C6267824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5D0AF-A7CB-4FB5-8D93-2B4BAA35471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3918183-953F-4274-A126-55C580CDE99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8AFD1-369D-411D-9DE7-06AC25687C5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F90866A-B15E-4D49-97E4-2FB45AEA0F9D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25883-1644-4D1F-BE38-6EB7731D173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E5D20EE3-C8A0-467A-BA86-7719C776F679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7AD0E-8438-4B24-B41C-046C3CF4AC7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3564DFB1-C773-4320-94E2-D753441297C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5DB34-60BC-4B2A-87EE-8EED2BE400C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87A50F2-F3E6-42FF-99D1-AFEA0A3FAA1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2BCB-F711-409B-90F4-D99AC2C7215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BC656D7A-AD5E-4EA3-BE75-A43F33349D74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B7ACE-E313-43ED-8DE4-1376EF16D5D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5BC9D5FD-CF05-4F37-92DA-F322AF054EFA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E761C-1957-493C-9853-C46D365F56E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CABA71B-8E3F-49A1-9197-CA1CBE4980E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37A56-A2DC-4DFC-92FE-015CC502703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83654A7C-9C12-4991-B75D-1E285CD37D1E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Guide to Strategic Infrastructure Security: Becoming a Security Network Professional, Weaver &amp; Weaver, with Eu (ISBN: 978-1-4188-3661-0) - pg.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654F-71E9-4CC6-9A1C-92876E6B3FB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DA9A54B1-8496-4F9C-B12C-0CC85CC39E85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Guide to Strategic Infrastructure Security: Becoming a Security Network Professional, Weaver &amp; Weaver, with Eu (ISBN: 978-1-4188-3661-0) - pg.1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8D7E3-CC11-4FE5-9490-DCD1518772B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D6D396C-B0EF-42B9-912B-EA2F94FFEF3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9B110-BA5E-42B3-AFA4-FB05C6569DD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99D4631F-1944-4690-8800-CB14C897B30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9E689-CDF5-4F31-97F3-24F97D12C4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BFC93A4-1961-4101-A5D7-F6644BB5C3A3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831C6-ED72-4842-8C80-9DE9FC1F3BA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11AB539-2A74-4CE1-ADB6-E1CAC41E50B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1C041-A21E-42FC-A706-8053A54D8DF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01C2A243-CB88-428F-A21F-82C7D959E477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8FAE5-1534-4C4A-B52D-4550EB4F21E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F20B99DD-ACBD-4D09-BE9B-AEB86E01ED3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97FB8-3BE5-4611-BD50-26F2D1E5501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7C63BC7-624E-4684-85F8-83E39A176A46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DA955-E29F-4458-88F0-48D84A3236F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471B3D6-B7BE-4015-9A63-4018B25C6740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31993-E5A3-4B91-9389-A9C5F4B5929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6CBCDFB7-C14A-40B7-A504-653F1FB6222C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A54C7-513F-48E7-A343-77B6C5D461CB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71E4E174-FCB6-42EE-9F67-71B5F338EEFB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624A1-4981-479B-B400-2EE27D278E5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C8862E0A-9E3D-470D-B587-9DA744AFD701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9"/>
          <p:cNvSpPr/>
          <p:nvPr/>
        </p:nvSpPr>
        <p:spPr>
          <a:xfrm>
            <a:off x="4145040" y="9121680"/>
            <a:ext cx="3165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36FEB-2D0E-4F33-96AD-E8756841F7D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Text Box 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9320" bIns="493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fld id="{AD2AE007-567E-4BEE-B316-0A0696262EB8}" type="slidenum">
              <a:rPr b="0" lang="en-GB" sz="13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Text Box 2"/>
          <p:cNvSpPr/>
          <p:nvPr/>
        </p:nvSpPr>
        <p:spPr>
          <a:xfrm>
            <a:off x="1219320" y="720720"/>
            <a:ext cx="48765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4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482760"/>
                <a:tab algn="l" pos="965160"/>
                <a:tab algn="l" pos="1449360"/>
                <a:tab algn="l" pos="1932120"/>
                <a:tab algn="l" pos="2416320"/>
                <a:tab algn="l" pos="2898720"/>
                <a:tab algn="l" pos="3382920"/>
                <a:tab algn="l" pos="3865680"/>
                <a:tab algn="l" pos="4349880"/>
                <a:tab algn="l" pos="4832280"/>
                <a:tab algn="l" pos="5315040"/>
                <a:tab algn="l" pos="5799240"/>
                <a:tab algn="l" pos="6281640"/>
                <a:tab algn="l" pos="6765840"/>
                <a:tab algn="l" pos="7248600"/>
                <a:tab algn="l" pos="7732800"/>
                <a:tab algn="l" pos="8215200"/>
                <a:tab algn="l" pos="8699400"/>
                <a:tab algn="l" pos="9182160"/>
                <a:tab algn="l" pos="96645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http://en.wikipedia.org/wiki/Random_number_gener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274D-A10D-4114-9172-314DC3EED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2B2D-EE1E-4C68-884C-AC11861E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094B-959B-4F0F-AC53-DDE008622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E2D9-08E1-49D4-9F4B-2939346B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37FE-10C4-4F42-8654-42997999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D901-C5AC-4CD7-B656-CBE14274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BDA-8317-4021-85C8-56521B82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211C-8C8D-4550-955B-2FA2E427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8EFC-40FD-4669-9C2E-2D91EC2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39A54-D15A-4961-9B0C-F44D44F3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FD66-609C-4357-A266-356E29A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FC8-534A-4FCC-B7FF-728BF79C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75D0-BF72-4584-BAB6-2ED3A603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E263-8D83-4BA3-80CF-5E28EF7B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8ABA-FC44-4D0C-A7B3-CA9DB3A2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FCC0-C928-4B4D-A87E-C9FBF6E6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728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6840" y="236232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772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728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6840" y="4305240"/>
            <a:ext cx="247536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99A8-2D72-4444-8AD1-B2008D596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BC1-7722-4BED-9A1D-9C4152A23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B750-7A5A-4425-ABB9-8229C71C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A78-B521-424A-BD2C-716BE469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3040" y="8330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33B-7D89-455E-94EE-05230E36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54C-46BE-4B04-B60E-9E4CB0AA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77560" y="430524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D7B-20FE-4B71-8688-F893E31C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7560" y="2362320"/>
            <a:ext cx="37519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305240"/>
            <a:ext cx="7688520" cy="177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8B0-3D7B-44C7-96EA-F81F8680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7617960" cy="6856560"/>
            <a:chOff x="0" y="0"/>
            <a:chExt cx="7617960" cy="6856560"/>
          </a:xfrm>
        </p:grpSpPr>
        <p:grpSp>
          <p:nvGrpSpPr>
            <p:cNvPr id="1" name="Group 2"/>
            <p:cNvGrpSpPr/>
            <p:nvPr/>
          </p:nvGrpSpPr>
          <p:grpSpPr>
            <a:xfrm>
              <a:off x="0" y="0"/>
              <a:ext cx="3198600" cy="6856560"/>
              <a:chOff x="0" y="0"/>
              <a:chExt cx="3198600" cy="6856560"/>
            </a:xfrm>
          </p:grpSpPr>
          <p:sp>
            <p:nvSpPr>
              <p:cNvPr id="2" name="Rectangle 3"/>
              <p:cNvSpPr/>
              <p:nvPr/>
            </p:nvSpPr>
            <p:spPr>
              <a:xfrm>
                <a:off x="0" y="0"/>
                <a:ext cx="761760" cy="68565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456840" y="0"/>
                <a:ext cx="2741760" cy="1166400"/>
              </a:xfrm>
              <a:custGeom>
                <a:avLst/>
                <a:gdLst>
                  <a:gd name="textAreaLeft" fmla="*/ 0 w 2741760"/>
                  <a:gd name="textAreaRight" fmla="*/ 2741760 w 2741760"/>
                  <a:gd name="textAreaTop" fmla="*/ 0 h 1166400"/>
                  <a:gd name="textAreaBottom" fmla="*/ 1166760 h 116640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5"/>
            <p:cNvGrpSpPr/>
            <p:nvPr/>
          </p:nvGrpSpPr>
          <p:grpSpPr>
            <a:xfrm>
              <a:off x="228240" y="1981080"/>
              <a:ext cx="7389720" cy="317520"/>
              <a:chOff x="228240" y="1981080"/>
              <a:chExt cx="7389720" cy="317520"/>
            </a:xfrm>
          </p:grpSpPr>
          <p:sp>
            <p:nvSpPr>
              <p:cNvPr id="5" name="AutoShape 6"/>
              <p:cNvSpPr/>
              <p:nvPr/>
            </p:nvSpPr>
            <p:spPr>
              <a:xfrm>
                <a:off x="609120" y="1981080"/>
                <a:ext cx="7008840" cy="3157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 flipH="1">
                <a:off x="227880" y="1981080"/>
                <a:ext cx="393480" cy="3175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07120"/>
            <a:ext cx="582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896B56-C9A0-4709-8193-9206E853047D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0"/>
            <a:ext cx="5865480" cy="6856560"/>
            <a:chOff x="0" y="0"/>
            <a:chExt cx="5865480" cy="6856560"/>
          </a:xfrm>
        </p:grpSpPr>
        <p:sp>
          <p:nvSpPr>
            <p:cNvPr id="49" name="Rectangle 2"/>
            <p:cNvSpPr/>
            <p:nvPr/>
          </p:nvSpPr>
          <p:spPr>
            <a:xfrm>
              <a:off x="0" y="0"/>
              <a:ext cx="4570560" cy="685656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3"/>
            <p:cNvSpPr/>
            <p:nvPr/>
          </p:nvSpPr>
          <p:spPr>
            <a:xfrm>
              <a:off x="685440" y="990360"/>
              <a:ext cx="5180040" cy="1904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4"/>
          <p:cNvGrpSpPr/>
          <p:nvPr/>
        </p:nvGrpSpPr>
        <p:grpSpPr>
          <a:xfrm>
            <a:off x="3632040" y="4889520"/>
            <a:ext cx="4875120" cy="317520"/>
            <a:chOff x="3632040" y="4889520"/>
            <a:chExt cx="4875120" cy="317520"/>
          </a:xfrm>
        </p:grpSpPr>
        <p:sp>
          <p:nvSpPr>
            <p:cNvPr id="52" name="AutoShape 5"/>
            <p:cNvSpPr/>
            <p:nvPr/>
          </p:nvSpPr>
          <p:spPr>
            <a:xfrm flipH="1">
              <a:off x="3632040" y="4889520"/>
              <a:ext cx="4624560" cy="31608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6"/>
            <p:cNvSpPr/>
            <p:nvPr/>
          </p:nvSpPr>
          <p:spPr>
            <a:xfrm>
              <a:off x="8247240" y="4889520"/>
              <a:ext cx="259920" cy="3175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3040" y="833040"/>
            <a:ext cx="777564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7720" y="2362320"/>
            <a:ext cx="768852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8360" indent="-28116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7920" y="6248160"/>
            <a:ext cx="2125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  <a:ea typeface="DejaVu Sans"/>
              </a:rPr>
              <a:t>8/12/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1320" y="6199200"/>
            <a:ext cx="28922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  <a:ea typeface="DejaVu Sans"/>
              </a:rPr>
              <a:t>Security+ Guide to Network Security Fundamentals, 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6320" y="6208560"/>
            <a:ext cx="5824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35317-196B-40E5-BC55-C3E29BDF5445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1"/>
          <p:cNvSpPr/>
          <p:nvPr/>
        </p:nvSpPr>
        <p:spPr>
          <a:xfrm>
            <a:off x="776160" y="1479600"/>
            <a:ext cx="7437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Hands-On Cryptograp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371600" y="289548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Casey W. O</a:t>
            </a:r>
            <a:r>
              <a:rPr b="0" lang="ja-JP" sz="2600" spc="-1" strike="noStrike">
                <a:solidFill>
                  <a:srgbClr val="0000cc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cc"/>
                </a:solidFill>
                <a:latin typeface="Arial"/>
              </a:rPr>
              <a:t>Bri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042FE-189C-49EC-9D8F-E784536A8E6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ream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esar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tbash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igenere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-Time P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1531C-23C3-4183-9555-3A8F5904266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When Alice wants to send an encrypted message to Bob, Alice encrypts the message using Bob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Bob then uses his private key to decrypt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9458D-5AF7-44BB-9E3E-B8E92F8CE6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990720" y="2738520"/>
            <a:ext cx="784836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7EF1C-280C-4C04-BDF9-EA9B53E448F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e keys have an inverse relationship to each other, with each key capable of reversing what the other has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at is to say, the two keys are mathematically rela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However, it is computationally infeasible to deduce the private key from the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DED8B-22B0-4B9E-8B9B-CE6B621A4F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dvantages of 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lows people who have no pre-existing arrangement to exchange messages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need for sender and receiver to share secret keys via some secure channel is elimin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ll communications involve only public keys, and no private key is ever transmitted or sha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86568-3DB3-4E2B-B036-F7B46DAD6C0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sadvantages of 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ationally inte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F6DF4-4B1E-465D-B0DD-69B9FA53171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6_Asymmetric_Algorithms_Using_PG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CF745-3257-4F5C-8234-FCF1F5B74F5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ecure Shell (SS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both a computer program and an associated network protoc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for logging into and executing commands on a networked compu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18C6E-0418-4454-9D20-B045F8E530C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also a secure replacement that provides encryption and authentication for remote logon and file transfer programs that transmit data in the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FBC24-5CA5-47A8-85AF-45E6F7B43C1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965160" y="2962440"/>
            <a:ext cx="787392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6C454-C046-44F2-9AE4-0BD47D72D9B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S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7_S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7E93D-F949-4423-91BB-6BAE36C79F2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ne-Time Pad (OT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tream cipher that performs an XOR of 1 bit of an input stream with 1 randomly generated bit to get 1 bit of the output st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quence of the randomly generated bits constitutes the session key, or the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pad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which is used only once), and is the same size as in the input and output st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361E5-8D29-4C44-B802-322663ACDF3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first Asymmetric algorithm published was in a 1976 paper titled,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New Directions in Cryptography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B496D-53D0-4DA8-9E40-6D895A90913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lgorithm was calle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Diffie-Hellman (DH)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fter its creato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itfield Diff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artin Hell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alph Merk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71675-F0A1-4FE6-B463-01F02300BC0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used for data encryption and de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ather, it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used to allow two users to exchange a secret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ssion key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urely over an untrusted, public medium and use that key for the encryption and decryption of the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60A3B-0179-4863-B0EB-3AC6B44A648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ffie-Hellman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re is now evidence that the British Secret Service invented it a few years before Diffie and Hellman, but kept it a military secret - and did nothing with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0E4B4-9F38-4E54-9417-97EADF5F379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a user encrypts plaintext with PGP, PGP first compresses the plain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iles that are too short to compress or which don't compress well aren't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738C9-B192-4B01-A71C-BD589B5CEC9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mpression saved modem transmission time, saves disk space and, more importantly, strengthens the cryptographic security of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AE03-4F46-421A-8D95-F88AA440F62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GP then creates a session key, which is a one-time-only secret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key is a random number generated from the random movements of your mouse and the keystrokes you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9FBB3-1628-41A7-8465-6C878A4DA1B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session key works with a fast Symmetric encryption algorithm to encrypt the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sult is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0" y="624852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AD18D-C674-4C21-83F8-6B4FB3BD99C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the plaintext is encrypted, the session key is then encrypted using the recipient's publ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public key-encrypted session key is transmitted along with the ciphertext to the recip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53061-2E7E-4752-9DFA-4E3B7D12329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9" name="Picture 4" descr="pgpe.jpg"/>
          <p:cNvPicPr/>
          <p:nvPr/>
        </p:nvPicPr>
        <p:blipFill>
          <a:blip r:embed="rId1"/>
          <a:stretch/>
        </p:blipFill>
        <p:spPr>
          <a:xfrm>
            <a:off x="1038240" y="2400480"/>
            <a:ext cx="810576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C9A1A-35DD-4E17-BCDE-CF82F5C259F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recover the original plaintext, the ciphertext must be XORed with the same 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BFBBA-5556-4556-8B46-0937172A4E0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cryption works in the reve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recipient's cryptosystem uses her private key to recover the temporary session key, which is then used to decrypt the Symmetric-encrypted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1A104-750B-42A0-80EB-CA6F651770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PG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Implementation of DH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5" descr=""/>
          <p:cNvPicPr/>
          <p:nvPr/>
        </p:nvPicPr>
        <p:blipFill>
          <a:blip r:embed="rId1"/>
          <a:stretch/>
        </p:blipFill>
        <p:spPr>
          <a:xfrm>
            <a:off x="1447920" y="2886120"/>
            <a:ext cx="6602400" cy="27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278C6-1E4B-4D79-A683-FCFF5A97493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lga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66775-155A-4E26-A267-3D1679CAE9F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ivest Shamir Adleman (RS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symmetric algorithm published in 1977 by Ron Rivest, Adi Shamir, and Len Adleman at 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atented by MIT in 1983; patent expired in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ost common asymmetric encryption and authentic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970DB-BE2E-4962-88B7-5A8096C365B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algorithm goes beyond just the key exchange proposed by DH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ing RSA you can actually encrypt/decry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6156FA-AB3D-472D-83E7-17C623A7659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ymmetric key encryption/decryption is much slower than its symmetric counterp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fore, RSA’s algorithms can be used to encrypt the symmetr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3040E-7477-492B-B160-47E21CB9D92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SA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widely used in electronic commerce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tilizes a public key system w/a variable key length (1024-2048 bits) and block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0E64-BA3C-402C-9FF5-A4C6C290EB3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lgam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d by Taher Elgamal in 19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ased on the Diffie-Hellman key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lgamal algorithm is used in the free GNU Privacy Guard (GPG) software, recent versions of PGP, and other crypto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0" y="6242040"/>
            <a:ext cx="830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22339-DC30-47E0-9143-44A6042FFC2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ed unconditionally secure (meaning no amount of computing power can break th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d by the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d telephone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76B63-5EFF-4E10-87FD-234883E86B3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ince there is no statistical relevance to the final ciphertext, there is no way to perform cryptanalysis on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normal attack against this is to get the pad, but since each pad is used only once, there is no pattern to performing a cryptanalysis on the 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0" y="6242040"/>
            <a:ext cx="754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FC579-41ED-4D60-BF8E-89C4FD12579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ere do you get enough random numbers for the p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ensure that both the sender and receiver are using the same numbers in the same ord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protect/distribute the p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8AFED-9C35-4C9E-88A8-4CD806E1E2A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amed after Horst Feis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add complexity in cryptographic systems, more than a single modification of the data is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ple substitutions and multiple steps of confusion and diffusion should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A5B6D-4544-4C47-A837-24771861CD2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y performing multiple substitutions and variations/permutations and multiple steps of confusion and diffusion, the end resulting ciphertext would be se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C2497-FED9-402F-97F4-565DA199BE7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actual steps could be the same, just repeated more than o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epetition of each step is called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407C8-C5EE-4725-BC0F-F4083B3DCB3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Key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Number of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ck size: 64 bits is an accepted block size for this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9F407-39B5-4F80-AC14-125A241FC05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ncryption Algorithm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be classified into distinct categories based on amount of data processed at a tim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tream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eistel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71E0-2B7F-4BC6-82E2-42CD3A889AE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ound function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where the actual key is used in conjunction w/the mathematical algorithm to modify the inpu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5BE6-D904-4DDD-9745-FD7BCD68BCF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multiple variables to customize its use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ubkey algorithm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 based on the starting key, the algorithm will create subsequent keys for use in each round of the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B322B-3A22-4709-9E07-8D745B46FE4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eistel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905120" y="2408400"/>
            <a:ext cx="5715000" cy="42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6A559-E0AC-41E6-9E8C-535DD5D0DAF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ryptograph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lock and stream ciphers use keys differently, so they fall into the following catego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ymme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symmet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4A332-E6E5-4D54-9A0A-F27B18C5899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rivate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onventional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ecret 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ingle-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ne-key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5CD81-5567-4984-975F-4DF9706E771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the same key for encryption and decryption (also called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shared ke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ncryption key can be calculated from decryption key and vice ve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DBDF6-7783-46E8-B23D-6259FD29F91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quires the sender and receiver to agree on a key before they communicate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64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curity of the data lies solely with the secrecy of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C2B73-DA3E-4665-B602-FA74B5B7D3F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. Alice has a plaintext message for Bob. She uses a shared key to encrypt it into ciphertext to protect the message from unintended rea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2. Alice sends the encrypted message to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04489-9DF1-4DEA-9473-B8E81F74353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3. For Bob to be able to read the message, he needs the shared key to decrypt the cipher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This shared key must be sent to Bob securely and separately to ensure the message's confidenti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-Sending it w/the message defeats the purpose of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F41AB-D532-4B6B-ADD2-ADB7BC1EEE0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4. Bob receives the message and uses the shared key to decrypt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557F79-7DEE-4323-99F9-688DF1C66E7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ake a fixed-size block of text (usually 64-bits) and produce a fixed-size block of ciphertext (usually the same size as the input bloc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effect, block ciphers encrypt groups of plaintext at a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28B07-C90E-449E-8BC0-C8F6571B7AE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uci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ata Encryption Standard (DE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riple Data Encryption Standard (DES-3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dvanced Encryption Standard (AE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DA9C5-A503-4198-9FA9-BFDABDBCBED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8380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amples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ivest Cipher (RC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ternational Data Encryption Algorithm (IDEA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lowf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7BC34-5907-4AB6-9ABA-2EE8800EABA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ucifer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by Horst Feistel and colleagues at IBM in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rst-ever block cipher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12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A8AB2-C03C-41F3-9260-E73760E6832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ata Encryption Standard (DES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veloped in 1977 by the NSA and 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as the US encryption standard for non-classifi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modified version of the Lucifer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28C0-9ED1-478C-ADC2-636F9829C98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that encrypts data in 64-bit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56-bit key, meaning that there are 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5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possible keys under which a message can be encrypted (or 7.2 x 10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is 72,057,594,037,927,936, or approximately 72 quadrillion possible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A86F-A9A4-4BE4-9CAB-A67A54CD577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ch a large number of keys makes it appear that a brute-force attack would be nearly im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 1998, the Electronic Frontier Foundation (EFF) cracked the DES algorithm in 3 days, which led to the development of Triple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2A02D-D843-42C7-BC63-DEC035C4D09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nitial plaintext has a transposition operation run on it, called the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 Permutation (IP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ich does not involve th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ce the data has passed through the rounds, the last operation is to perform the inverse of the 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8C04-6B2A-48B8-B35C-E5F24F19A9C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re are 4 different modes that can be used in the implementation of 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lectronic Codebook (EC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 Block Chaining (C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Output Feedback (O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 Feedback (CF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ABF942-4ECB-4461-A2D2-81B0BF530C1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ctronic Codebook (EC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eaks up the message into 64-bit blocks, padding the last block if necessary, and encrypts each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cover the message, the ciphertext is broken into 64-bit chunks, and each chunk is decry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81C95-96CD-46E3-9D4C-C624A303BD1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wo identical blocks of input map to the same outpu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ue to this limitation, ECB is not  widely imple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54A57-89B5-4249-ACB9-400B59F43F1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 block cipher encrypts the whole wor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instead of encrypting each letter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AA7AD-807D-4AFC-8326-298A28DAE1D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ypTool Dem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eate the following plaintext: CyrpToolCyrpToolCyrp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ncrypt with DES (ECB)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 the following key: AB CD 00 00 00 00 00 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78DD3-34FE-4EE7-BACC-437CFF4E387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aknesses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rypTool Demo (con’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View as Hex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524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djust the width window so there are 8 Hex pairs acr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A0850-072B-4E3E-A245-BA6A804E404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rypt1.png"/>
          <p:cNvPicPr/>
          <p:nvPr/>
        </p:nvPicPr>
        <p:blipFill>
          <a:blip r:embed="rId1"/>
          <a:stretch/>
        </p:blipFill>
        <p:spPr>
          <a:xfrm>
            <a:off x="1447920" y="258840"/>
            <a:ext cx="6248160" cy="62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35A7B-E4C9-4ABA-93B5-759E9436E96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her Block Chaining (CBC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rcumvents the ECB weakness by XORing a plaintext block with the ciphertext of the previous block prior to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the first block does not have a preceding block, an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itialization vect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V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is used to modify the first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AE53B-07B0-470D-B321-1FF6DAA890C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BC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158920" y="2438280"/>
            <a:ext cx="5156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A609EB-87AB-4DC1-BA3F-A4A6872E14D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put Feedback (OF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the session key to create a large pseudorandom stream (pad), which is XORed with the plaintext message to produce the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ode provides an advantage over CBC mode by allowing the pseudorandom pad to be created independently of the plaintext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0E4A8-450A-4F5B-AA80-BC45D3421D3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receiver can precompute the pad and decipher the message as it is being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ode is similar to one-time pads except that the pad in OFB mode is pseudorandom instead of ran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29932-6370-4A4A-838B-044C31685D1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FB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where the application is stream-oriented and uses public or noisy transmission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37E6-916A-425B-BEC5-055DB2CCAD7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her Feedback (CFB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variant of OF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used fo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61852-D1DF-4D99-A30F-BAB22099520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2_DES_ECB_and_CBC_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8652D-0C59-49B5-944C-DAC8C368B48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ice creates a message of 45 bytes to send to B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he encrypts the message (the block cipher springs into action - in this example, assume the block cipher is using a block size of 8 byt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99336A-D4E9-4D1F-B084-F1BB82FDE1A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ock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ies the DES algorithm three times,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t uses 3 keys and 3 executions of the algorithm to encrypt and decrypt each block of data, resulting in a 16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ploys a total of 48 iterations in its encryption (3 iterations times 16 round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63588-F91C-497D-A04D-3FA81333D26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hough Triple DES can use 3 keys, it is proven to be very secure using only 2, so this is the primary method of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40E3D-B6A1-461B-9811-4306ECA93E6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DES En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laintext is submitted to the algorithm and encrypted using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output is run through the decryption process using Key 2, and the following output is then encrypted using Key 1 a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produces the resultant cipher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1F2B9-71D7-4C7F-8929-2836447215B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ncryption function of Triple DES look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 = 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P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B1BA-8B7A-4607-B0AD-5F919270896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iple DES Decryp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iphertext is decrypted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output is run through the encryption process using Key 2, and the resultant output is decrypted with Key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then produces the resultant plai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50F21-C9C0-4409-A8FD-82AEADBD655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riple D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838080" y="2500200"/>
            <a:ext cx="7693200" cy="40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decryption function of Triple DES looks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 = 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E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2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D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ＭＳ Ｐゴシック"/>
              </a:rPr>
              <a:t>K1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[C]]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42701-3A67-4BFE-A69D-CD0B78594AC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dvanced Encryption </a:t>
            </a:r>
            <a:br>
              <a:rPr sz="3600"/>
            </a:b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andard (AES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nounced 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Rhine Dahl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reated by 2 researchers from Belgium: Dr. Joan Daemen and Dr. Vincent Rij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pproved by the NIST in late 2000 as a replacement for 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E19E-3BE0-4C3D-AF9B-DA1253BF5B1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urrent USA standard for encryption of non-classified data/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rocess began with the NIST publishing requirements for a new symmetric algorithm and requesting propos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65C58-D70E-4431-AC22-A5B73801A9C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838080" y="2362320"/>
            <a:ext cx="769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IST requirements stated that the new algorithm had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e f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Function on older computers with 8-bit, 32-bit, and 64-bit proces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un on smart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DC298-705B-4ACC-9ABE-AD9603426E0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designed to use 3 different key siz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28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92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56-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1F797-470B-4253-8DB6-A05CA58A8C7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1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s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8 bytes of Alice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 plaintext message get encrypted as a singl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next 8 bytes get encrypted as a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..and on until the last block of plaintext needs encrypted, which includes only 5 bytes of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3BA1B-1DFC-48F5-8312-8C1DB95F406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s works out to the following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3.4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38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128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6.2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57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192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.1 x 10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77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for 256-bit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D3EE0-70DA-4DB3-BCE6-AC568614557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we were to assume a new computer could search the entire key range of DES, or 2</a:t>
            </a:r>
            <a:r>
              <a:rPr b="0" lang="en-GB" sz="2800" spc="-1" strike="noStrike" baseline="30000">
                <a:solidFill>
                  <a:srgbClr val="003366"/>
                </a:solidFill>
                <a:latin typeface="Arial"/>
              </a:rPr>
              <a:t>56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keys per second, that same computer would require approximately 149 trillion years to crack a 128-bit AES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age of the universe is less than 20 billion years 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5FD84-9C89-46C3-8110-E7574E4E4A9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ijndael algorithm use rounds like DES, only the number of rounds vary based on the key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13771-5328-4D02-87B3-C79B391A45B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rounds are as follow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9 rounds if the block and the key are 128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1 rounds if either the block or the key are 192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13 rounds if either the block or the key is 256-bits l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43FCB-4139-43CC-88F7-11B646D96300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ES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: Rijndael (con’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3_AES_Rijnd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B412D-8317-4133-81EF-591D612FBC4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ivest Cipher (RC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amily of cipher algorithms designed by Ron Riv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 developed six ciphers, ranging from RC1 to RC6, but did not release RC1 and RC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C2 is a block cipher that processes blocks of 64-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F5506-7ADE-46B8-BC9E-122C6416757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tream cip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s variable-length key sizes (40-2048-bi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ery fast, easy to implement, and has low memory 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d in popular protocols (e.g., SSL, WE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ADD8D-AC65-4129-8D67-793487811F1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4_RC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AC7DE-51F1-445E-BBE9-35620843DB2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P is a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tional security protocol for WLANs defined in the 802.11 standard (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KA 802.11 Pr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igned to provide same level of security as a wired LAN (thus the n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226D3-5DE8-4E0F-A7B1-747F8A044FA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s encrypted using the RC4 stream cipher, with either 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40-bit or 104-bit static key, and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24-bit Initialization Vector (I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5C2CB0-B6E0-4943-A519-C9A2C6EBBDF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cipher will use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adding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method to calculate the number of bytes required to fill the block, and then uses that value over and o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n our example, that means that 3 bytes of padding are required to fill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B887A-D8BA-4001-8557-05A1DD51301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and WEP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s a symmetric key to authenticate wireless devices, not wireless device us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All wireless nodes need to share the sam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91828-D698-403A-9DCF-2830030D331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 Design Go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fidentiality: prevent casual eavesdropping of your wireless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cess control: prevent an adversary from using your wireless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integrity: prevent an adversary from modifying your data in tran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8835-974D-405F-A802-B8238DD3E92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 Design Goal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Unfortunately, none of these are actually enforced with WEP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considered adequate security without also implementing a separate authentication process and providing for external key management (e.g., 802.1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CC330-51A2-4FB8-AAD1-FF73E2B7B4C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1: A 24-bit value (the IV) is generated and combined w/the secret shared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2: This value is then passed to the RC4 stream ciph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is produces a key stream of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EB74D-E02B-4719-8511-8D00254EE84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3: The key stream bits is combined through an exclusive OR (XOR) with the plaintext to produce cipher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1D7C4-7F63-437F-B49D-0239D9F9E81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ep 4: The unencrypted IV is then added to frame header (in cleartext) and the entire packet is transmit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A29DE-8655-4BA3-8154-D44A48F8282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ow WEP Encryption Work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4" descr="wep.png"/>
          <p:cNvPicPr/>
          <p:nvPr/>
        </p:nvPicPr>
        <p:blipFill>
          <a:blip r:embed="rId1"/>
          <a:stretch/>
        </p:blipFill>
        <p:spPr>
          <a:xfrm>
            <a:off x="1366920" y="2514600"/>
            <a:ext cx="686268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3BEE8-52B5-4EBD-BE0D-C3D106830A8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IV that WEP uses to encrypt data and ensure its integrity is not properly implement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very time a packet is encrypted, it should be given a new 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Because the IV is only 24 bits in length, it can have only 16,777,216 possible values (2</a:t>
            </a:r>
            <a:r>
              <a:rPr b="0" lang="en-US" sz="2800" spc="-1" strike="noStrike" baseline="30000">
                <a:solidFill>
                  <a:srgbClr val="003366"/>
                </a:solidFill>
                <a:latin typeface="Arial"/>
                <a:ea typeface="ＭＳ Ｐゴシック"/>
              </a:rPr>
              <a:t>24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D2930-C719-445E-8CE3-F1471325A59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WLAN transmitting at 11 Mbps transmits approximately 700 packets per sec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means that in less than seven hours, all of the &gt;16 million IV values have been used and WEP must start rep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18A880-7B62-46B3-B844-802E66D08A5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EP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 Weaknesse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cause the IVs are transmitted in the clear (in the header of the wireless frame), attackers can capture the wireless frames and see when the IV starts repe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this information, the attacker can crack the encry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29A9-4777-45D9-8C8D-D0F3328E909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ck Cipher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x. (con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he number 3 is inserted repeatedly in the space of the padding to fill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When Bob receives the encrypted message, his cryptosystem interprets how much padding is included in the block, and interprets the block according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2B95-EDCE-45EC-86CA-E0724C782D2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Other WEP Weakne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ey distribution issues: uses a symmetric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all key lengths: 64-bit (really 40-bits); 128-bit (really 104-bits)</a:t>
            </a:r>
            <a:r>
              <a:rPr b="0" lang="ar-SA" sz="2800" spc="-1" strike="noStrike">
                <a:solidFill>
                  <a:srgbClr val="00336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C is inherently insecure: it is possible to alter the payload and update the message CRC without knowing the WEP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cks authentication: WEP authenticates devices, not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4375C-E4A1-4005-A4EF-8BB12E3CB2D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C4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Labs: 15_W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DAE8E-F45A-4BCF-908B-CCD4D644778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nternational Data Encryption Algorithm (IDEA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DEA algorithm dates back to the early 1990s and is used in European n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operating on 64-bit blocks and using a 128-bi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substitute for DES and DES-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7816E-97CC-4EDF-854E-88CE3D1D719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ee, unpatented cipher developed in 1993 by Bruce Schnei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igned as a general-purpose algorithm, intended as a replacement for the aging DES and free of the problems associated with other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1BD79-9170-4C7C-B0A3-EAC5CA3E323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the time, many other designs were proprietary, encumbered by patents, or kept as government secr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chneier has stated that, "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Blowfish is unpatented, and will remain so in all countries. The algorithm is hereby placed in the public domain, and can be freely used by anyone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F006E4-94D3-45E2-8867-D3D601B3708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Blowfish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a block cipher that operates on 64-bit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an have a key length from 32-448 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t this time, there are no known attacks for this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0AC09-B48D-4320-8FFA-149E0088BF8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e major issue w/cryptographic algorithms is exchanging the key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EB261-0233-4981-B7C9-613C10A6A93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o prevent compromise of encrypted traffic/data, those responsible for maintaining cryptographic systems must change keys frequently and distribute them to all authorized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2D14A-1536-436A-B1B1-46C056D14FB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Management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s process of changing and distributing keys is called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Key Managemen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t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’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s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ifficult to carry out reliable and on a large sc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Is a major part of a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Public Key Infrastructure (PK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93F53-DF16-45B2-B84D-CB11695463B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sender and receiver must agree upon a shared key and keep it secret between themselves in order to communicate secur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A5186-8C79-4D08-A821-E6F8E867BDA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tream Cip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838080" y="2362320"/>
            <a:ext cx="76932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ncrypts plaintext one bit at a time to produce a stream of encrypted ciphertex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x.: the letters c, a, and t i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cat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are encrypted sepa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22669-56CF-41A9-8969-3859F59993F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f they are in different physical locations, they must trust a courier, or some other secure communication medium to prevent the disclosure of the secret key during transm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2AA7D-FC18-40AB-86E2-067DAEB1371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838080" y="2362320"/>
            <a:ext cx="769320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yone who overhears or intercepts the key in transit can later read, modify, and forge all information encrypted or authenticated with that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1C2F7-E352-43FB-AC8F-8AA70CF9367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expense of secure channels and key distribution relegated its use to those who could afford it, such as governments and large banks (or small children with secret decoder rin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6EE95-733F-480C-8194-762170D5EBC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833400" y="754200"/>
            <a:ext cx="77803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he Key Distribution Challenge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om DES to Captain Midnight's Secret Decoder Ring, the persistent problem with conventional encryption is </a:t>
            </a: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key distribution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ow do you get the key to the recipient without someone intercepting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F96F-20BD-401D-9837-41D2F73CED4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he problems of key distribution were solved by Asymmetric algorith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A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ublic key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C5FF66-3A64-4950-A67C-0A381FE69DB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Uses a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key pair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 instead of a shared k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One key encrypts the message (AKA the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ublic key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The other decrypts the message (AKA the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private key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  <a:ea typeface="ＭＳ Ｐゴシック"/>
              </a:rPr>
              <a:t>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90BC4-16C5-4195-9C39-69C130BA05C8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symmetric Algorithm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To achieve key management when two keys are used, the public key is shared fre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But only the owner holds the priv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4CA19-34D8-4221-9813-9C926CB06A1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ryptosystems must be able to generate random numbers to produce the public/private ke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A 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random number generator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002a56"/>
                </a:solidFill>
                <a:latin typeface="Arial"/>
              </a:rPr>
              <a:t>RNG</a:t>
            </a: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) is a computational or physical device designed to generate a sequence of numbers or symbols that lack any pattern (e.g., appear random)</a:t>
            </a:r>
            <a:r>
              <a:rPr b="0" lang="ar-SA" sz="2800" spc="-1" strike="noStrike">
                <a:solidFill>
                  <a:srgbClr val="002a56"/>
                </a:solidFill>
                <a:latin typeface="Arial"/>
                <a:ea typeface="Arial"/>
              </a:rPr>
              <a:t>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DB058-F714-4A1F-B09B-0C32525A164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 (con</a:t>
            </a:r>
            <a:r>
              <a:rPr b="1" lang="ja-JP" sz="36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Methods for generating random results have existed since ancient times, including dice, coin flipping, the shuffling of playing card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60C1B-AAC9-4020-9351-AFD34050DB0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833400" y="833400"/>
            <a:ext cx="778032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Randomness (con't)</a:t>
            </a:r>
            <a:r>
              <a:rPr b="1" lang="ar-SA" sz="3600" spc="-1" strike="noStrike">
                <a:solidFill>
                  <a:srgbClr val="006666"/>
                </a:solidFill>
                <a:latin typeface="Arial"/>
                <a:ea typeface="Arial"/>
              </a:rPr>
              <a:t>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Physical devices: true noise hardware random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spcBef>
                <a:spcPts val="7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2a56"/>
                </a:solidFill>
                <a:latin typeface="Arial"/>
              </a:rPr>
              <a:t>Computational device: computer-based systems for random number generation are widely used, but often fall short of this g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21:32:20Z</dcterms:created>
  <dc:creator>cobrien</dc:creator>
  <dc:description/>
  <dc:language>en-US</dc:language>
  <cp:lastModifiedBy>Casey O'Brien</cp:lastModifiedBy>
  <dcterms:modified xsi:type="dcterms:W3CDTF">2014-01-14T15:10:14Z</dcterms:modified>
  <cp:revision>846</cp:revision>
  <dc:subject/>
  <dc:title>Slide 1</dc:title>
</cp:coreProperties>
</file>