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10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4504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8560" y="720720"/>
            <a:ext cx="4792680" cy="35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59320" cy="4314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911844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4144680" y="912132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A2722-E6C0-40A0-BD1D-BC6099460B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639B4-2845-42C3-971F-EF1F7DECEA2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4B822-A192-405C-A157-96B921F906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6C3EF58-DEA1-4FDF-BE56-B650AD95AEF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01798-DA31-45F2-9BDB-B7F20B51F3F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8308816-D9E6-4696-98A0-5145F69E892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5141F-E957-4D42-9E34-F2DBF29E4A5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87CD20C-8824-46E8-9F18-D076FC899C3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A8549-0D56-46D0-9C5E-770E4F26BD0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CC15B25-DCD5-4A4C-8123-876DC861A2E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4BEB5-69F1-4BF9-AA4B-3F41AB90D1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1FB5B56-D3BF-409E-8905-76BE58B97CD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0ADE5-BB3F-4165-A3EF-3948D40A97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BA3D86B-FDAE-4419-8FC7-9B379AB14D1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61BB-8C5C-430E-9FFB-A05A2691343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B99E54F-9429-4636-AFA1-2BEF3103A4E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F5E35-B775-42FB-82B4-4E66C4D2CA8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43BD6CC-94CA-4B1E-9EC4-81CB0304819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9ADD1-BFCA-4B5D-864B-7D76DF97DD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E42F510-4A9D-4F71-8D9F-63935816522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A2EC-51D4-46A9-9231-D161B9F6A04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4C96DF5-A906-4944-A79C-5800D4035CA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A0FF-2BEA-4EF4-AB5A-8585264D8D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A3AF5B0-A25F-4EB9-88EB-220ABDC2ADD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6642-C03B-4861-8158-EAFE67E918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7E20419-6F17-4DEE-BEC1-B87131D9364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2078-C61E-47BB-9234-6CC3DDE36D8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50297F3-3431-46AA-8ADB-6040C161AC6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DDA17-4184-4687-86BA-9D1A71C6EE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9DFFB5A-C144-4239-8334-385482D2AAD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A8459-C1EE-4A95-AA41-88DCAC71DFB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32B8E15-EF7B-4E9F-9CCB-9D0EE3F92D7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3827-FA67-4921-A373-B3B977D2F3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A51ABC6-968A-40DB-8D5A-47B72A69AEE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C3F18-24BF-40ED-970D-3A1DC3E6D85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E4AC4EA-C2FA-44A3-971A-86E64CB791F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66BB5-77F4-46B4-BA9F-E6CC35E0613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0720014-DB36-4D3B-8AB4-F852A484FC8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DAF1-85F6-415C-BCDB-35B23AE632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627CE05-A189-4D06-87A0-E24CE557274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7EADF-5173-4AC0-97BA-E8C2EFA555D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D33BEC4-0801-43DC-BE53-454DF965094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017BD-A952-4B1F-9D5E-EAA7BE3814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63E197F-B3F1-4171-ADC0-DBBBE89A487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F888B-E9EE-40E0-9B3F-6D194266C9B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DF5AEB5-C21F-40FA-BD20-453521383E8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D8934-A6FC-44C3-ACED-9CC2B700C47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3CBDF60-6897-43E7-859B-A501269A5AA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9D7D1-2CF3-4ACC-AE7E-FE8013CAE8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B669336-DF15-47EA-BCB9-D3A6F0BAA29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1102-B526-4BF4-A59B-3574783C8F0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00538BE-D05D-4D4E-9618-44C84018E36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1DA3-BCB3-40E3-B11B-6042B643901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F866A3C-4C94-40E3-95FF-41BEBBFCCA0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4D9BD-C7FF-4002-849E-8332FDABF4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D92C5FD-1DF7-4553-B328-FC71F8F3653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7CB27-804D-4EEF-B0CC-0F64DF7644B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5E214FC-6CB3-4062-8B46-A56BC506B57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4ECC-D9AD-4615-A8D8-C63D9C6C30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84D6FFE-F011-499F-B4C0-2BE37871A23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1FFE-0A1D-4D15-9E69-2144BE6E7B0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92FF815-3DC7-46A5-9E79-0B5E2E9D0F5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A7E36-5244-4941-8886-9A935536B9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6225B28-1C77-4E1D-82AA-91566286BE5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C08B-FAA5-413A-8DFF-A1133C7AFC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D95A275-7067-4DD3-801D-5F99AD0AD03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233AE-35B7-4FDD-BBFA-E27AB6DFD2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C35A3E2-F081-4ACB-9AA2-8C48236AE6C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4060-B7F4-4148-9B8E-20EE32A8335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5A73DA0-3E40-480A-A03D-B314AE0A152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93FD-2EB2-4743-A619-25E39A350F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2246855-7769-4699-8551-9ED6BEC5D3B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B5150-091B-46FE-9A88-772AF104FA7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78F7BA2-ACC2-484A-A197-49868BA1F90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40BCF-967C-4613-962F-3F833B5EEF1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1C378ED-1222-4765-B008-9FA903F109E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79E3-057A-4533-B846-A6B449E101E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10FDDDF-2CCC-4D05-A6F2-101DD3968D8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4578B-0439-4CD4-8395-5B4B68E40A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D366DD0-945B-476B-93F4-8411F152E16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4D42E-7F7A-4EE1-BE7E-05E444CDDDD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08D4669-36C4-46F5-9106-3096C62C6FC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83DDD-6C40-45E3-AB87-D864DCC067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66D642C-50E6-4D4D-8380-74A207350F8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2BACD-874B-4B79-AB69-C87A2F610E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991F27E-103E-4FDB-97B3-A59BDA8CF0A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te Slic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plitting the Plaintext (P1) into a right and left ha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7041C-E5B3-488E-955F-3626A870DE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BFA61EA-A6F6-4351-AB8C-6300954B3FA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A43A4-1F68-423D-B965-90B6AE8FC2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A57997D-0FF1-4CD1-ABEA-C385394B172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647A-F845-497A-BCB5-138B27229B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C0DA80A-DFF9-4CE1-813E-14A57EFAC32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35446-247B-4920-B5B5-87A28CCAA9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6D3C5E-CED0-4EC3-9866-D6684A4DB32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718DD-CF5E-40E8-B222-899C4E94FC7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8DB9110-A83F-4058-9377-A332F506041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80A32-5E7B-48A7-9079-10FD7C13D1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2E90662-68C9-4208-8A25-08AAA6710E3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5A6A2-7BCF-4BFB-B583-80939A7CFF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1EDEFB2-6995-4296-80B9-C347326C248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BE43-629C-4285-B10B-297B83A509C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0CCCCD1-4B39-4699-BB1E-FDA50FE3C3F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1B3E2-540D-43BD-836F-B097061557B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58B1088-D98F-465F-916A-9A9D7D72C1F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0420-4CE0-4BA7-9A3A-015D2E3A70A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B7A6AF7-2802-4A7B-B8EC-C40D900864B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CE65-0540-429A-BF6F-202BECB3D26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A8A8A60-B578-42C2-8F40-A60DB2C4957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1FA99-834F-48FB-A91A-A9B77D5D7A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8553877-A090-47F3-AE56-09A729DCBEC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143E9-7043-4177-8858-44D6A7770F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9DFF329-0185-4580-89B4-3E7BEBB6BE0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B5C69-08F5-4D02-BEA4-1726108DE3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499DEF2-A396-411A-80DD-9C266C09C0C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942C8-8AC1-4E98-9CE9-B19EFB3B41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DEDC81D-02EC-45D8-96DA-C81E8EAC0C8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8018-8A68-406F-86C3-7198AF438DA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476B99C-E963-458A-B395-7A566294801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448DC-0240-4DCA-8076-A5D66DB799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47F94A-48B6-441A-96B7-0967390B650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C8926-18D0-417F-B6D3-127F30FF3F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5CDACE4-EF22-4B6B-8F0A-A85CDE922C7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3206E-540E-4882-8EB3-DA1AA59B6DE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CF5E118-11A9-4B5C-8342-0F57094A523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9AD2E-DB58-46F9-A751-6CA1A1572B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DC12C15-6CF0-48DA-881B-68FC73CA7DA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22999-0231-4C3D-952A-7F7272B0D99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136DEC0-9E8E-4150-BE70-CB4C9E7BDF8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93EB-D2E1-4C44-87EB-A3065C959EF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E06CA01-78DB-40AF-B959-37BC4C502EC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BC93-3CF9-465B-8231-7F2B145841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8842DDC-0805-4CFD-B6FC-E3E0BCB0A79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CCD06-B2C8-48C1-B255-F1D4ADC8DC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C529F4E-56A9-4638-BB6F-1186D694D50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98DEE-DF86-4D5D-9738-8E3BF5E17B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EC9C3FB-B87E-434E-A870-D29E3DCF236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CA91F-DA31-480F-B946-BFB43C9616C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312198E-8DF9-4273-AC8C-3A23DAED92D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31ECA-C7B2-4B58-A4A0-35A1E357AE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AED68E2-7F64-457A-A52B-7008CFE935D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2293-1E63-4863-9386-E5506EA89E4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2A54CA8-CF81-4075-A54B-D0C9AC6CE98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C9C91-8ECA-41F7-B8E0-09023D0921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82A42CE-E685-4395-B238-2F4EDF6FEEB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7D710-EB1E-41A9-817E-31C181D5D75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2081C4A-AC1A-4AA2-A3A7-369D28AAA9B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0C358-037D-4E23-B677-935CF549D4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593F42-F98E-4D0C-877A-BDE8C3C8F45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81DE0-3C85-4C73-8253-76010EDFB5F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7CD433B-E3A8-4127-B80A-239F8F92094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AD521-771D-494F-B1C0-1D0529E4E9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3800AD8-E860-4A31-8390-7745868917E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4465-E43A-4384-8C28-C51391BE52D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D23CFE8-A157-4ABE-8CA7-F9DDACEF804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CC3E6-718A-4D24-B2EC-8B5921F9C0E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8E0CCBD-6301-4DE2-9E11-57F3C43967D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D5F9-CB1E-45EE-A974-B54A1B06538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CA9A9E2-A765-4221-9E7F-D5C4955B6EC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2D321-333C-4A20-9709-5B418FC913D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E679A98-647F-4F13-B19E-CAD8C715792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544FF-A055-4708-8752-7F404F1FCB1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930BDC9-D391-45D4-B347-C3440D6D8CB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505EE-9BC1-4E1E-94F6-5108A85549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63CE635-1777-45BF-90BF-BA90249CA78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72F19-2036-4EA9-8E7F-585EF097CD3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8091D00-51DA-4C7F-BA40-8376D875A12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2CCBA-B96D-4EFA-BE7D-53779A55E6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C53728F-3B8F-4D2E-90E5-9B3F26E047E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9B96E-70F6-4E2C-959C-71926185202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B740452-6F3D-4EA1-B037-30F09833DD4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BACEF-AF06-4DC9-8AA1-41869E4520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19CC0FF-67CA-4D8C-B995-F0EFA9571B0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10C2A-EC0F-49D2-A43D-3645EED88A5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8121976-3FF4-4642-9C4A-972CFAB6481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E12B2-4D87-4A1A-A949-9BD047234E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D50D119-F449-47BD-AEAC-E96049C54CB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FB86E-FAF7-4E62-8FE2-FCD8D4531C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DCBB345-18D8-495A-920A-91BB4A4D7AC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4E31-D25A-406F-92E6-E78A8217F0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2A12CEE-5AC3-4528-B887-E8ADF92A72F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091C-74B3-4B77-B560-7ACC5B1A81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4C6D15-F755-4C37-A48C-CA924C517B8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D450-6B96-4D85-88E4-F9FFAAD106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7F4413B-345E-410E-94D7-A2F8854D915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1D407-53FD-4A9A-8AF8-F385CF474C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81BA09E-DE9A-4139-9714-ED1DF650B29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B68AB-7B90-4E90-B918-0A81FC8BDBD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0C2E4F8-0490-439F-8852-8EA165C1617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3D39D-DB07-4F7B-BCF5-9B12A47C01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DA380BF-0613-4571-9289-5B372D808C7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83A4-29B8-498F-BD39-953EC8B2CE2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4460FF8-3EAA-4F7B-963B-E18BF63A37E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1D547-526F-4186-A00A-8EE235A5A1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A7FA93F-9079-453E-8949-0381DCA984C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CF94-4A3E-4E71-BEDF-1B5D82EE79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B90CF26-99F2-4E2D-B71E-9CEA4ADED51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5820-2974-4744-9A1A-105BEE4C1D3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DCFD8C5-9052-4C4B-9364-734C0B9F702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198CC-13BA-48DC-8433-900E46A441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835FDCB-0A8B-487F-92A6-8D50687B1A0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232F1-1795-417F-BC64-00CFBBDCFC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6FB9C6C-F1A6-4C10-B961-9D31A46EA03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458F7-983E-48D0-BCA6-CBAA9F54C5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04F1C75-20E7-40D0-B52F-980B469EDFD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Wired_Equivalent_Priv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751FC-006A-4569-8D4F-F434AFA952C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638AB51-78F7-4EE0-AF2A-D1E8FDFAFFB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0D360-2B74-404A-B4AC-1773CC9D23C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63C057C-AED7-4626-9853-F2A86C0A0ED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F6FF0-F042-42A6-9D32-BFD6CCBE73E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B7989C4-E717-41E8-9A17-78ACBE7395C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F3ECB-FC5F-4630-9FCE-86A0F1E2FDA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9597E65-C7E0-4D47-90C1-2788A6B41E4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AFCA2-3B18-4311-92FC-247191EF5E8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7EE87CC-1DB6-41A5-BFE7-847661F15A4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FC929-123C-4209-9325-B98D1AF9A2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1D5B10B-6761-48C1-843F-D217A38A7DA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C2FD7-183F-42C8-98D2-520D328ED7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F920105-7421-4CD6-B3A1-47D2E0C396D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D0942-F7FE-4FC3-81F8-6F5F369E23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74FA600-D0A6-46C3-8107-9811433CDE8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BF999-6C60-4FD6-B5C4-BA3A4257B8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23ECD72-13A9-4AA0-A1B9-FF482615C63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7D8C-87CF-4B7F-9747-EC5FCB67A8C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2A72F91-70DA-4496-B9D9-33A07612C1E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BD076-4838-4028-8F07-8658E0B079F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48C5936-6468-4587-8479-6428C65B328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A1FE3-C9C3-4B63-91A7-C114D03331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06D232-D47B-4AD8-967D-204548363F2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Guide to Strategic Infrastructure Security: Becoming a Security Network Professional, Weaver &amp; Weaver, with Eu (ISBN: 978-1-4188-3661-0) - pg.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F731-41DC-4CF9-A1E0-54A392A474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8324929-5AFF-405B-9E09-06FACC80B3B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Guide to Strategic Infrastructure Security: Becoming a Security Network Professional, Weaver &amp; Weaver, with Eu (ISBN: 978-1-4188-3661-0) - pg.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DD497-01BF-429A-9C67-69B7832B88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7D00F4B-D4DD-4BE7-9552-79044C91BE5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6BD8-07A2-4029-A642-23464FE39B1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D7C63D-F9D1-4764-9C15-C9EA5146934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37E1A-DD1F-46ED-9FC7-389BB3B25B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6DFD7F3-2AC4-4434-908D-E85D8513F50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76F0-FB5D-4B41-A7A3-94435590741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BC9B69C-4538-4737-A0D5-3674049C1E5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C9286-27E7-47F3-921C-60D4190F463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8797C96-BEFC-419A-81AB-E2915FAF75C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B4217-6209-4ACE-B841-BB26637FA9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2776AC8-EBEC-4A1E-B458-0FC0096FAFB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10DB0-7414-4521-B201-396C7E04C2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2A05818-000E-401E-AA68-B62D858E752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C051C-0A2F-411D-AF1C-73CF682339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AE2287C-C693-480C-B080-C27BB75E2C4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EDBD0-ACC3-4A02-8DA1-9E96D20C6C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039E5D6-5E2F-4BD2-A195-CDDC313BFF4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45D9-4198-4740-9B13-F73694E8F52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0455213-0256-4700-92F4-6401DABB209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C11D-7337-439A-8C56-F2E93BADD9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71D04AC-C226-4976-9632-C21D27702AC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74C48-0A6D-41B3-9051-3FD8574D08D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562C644-3F30-46AA-B1FC-915C4CD1BA7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C3F-2357-41B6-9C0A-F21BE852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CB6-2A29-4370-923F-0888DCF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B65-6AC1-4D40-B637-36B08FB6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77C-5B30-4DA6-84AC-1CBF7A86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663-00CB-4303-8E6F-883B6338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EA9-7D1B-4AE2-AF15-EF6E4E0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69D-D286-4D0B-B6EB-562DE70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A973-5179-460F-B61D-AC5F9DB2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A7C-C496-46B4-BE75-4F7B1B6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BA1-4EDF-4EB7-BAF2-F64C2E2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D1B2-D443-4E69-BC84-951B054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CF9-46B0-4A07-9A42-E834231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F48E-B2D0-4167-A1FF-665E4B1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1F48-C231-4F08-854C-163842F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708-DA8F-417B-8F51-B0F01E10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DE3-F84B-402E-9556-2C164E1E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BEF2-52A4-4C74-90A8-86F03F06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166-BFE2-4B94-8F1F-471EA91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6E0-EAA5-4D50-9038-FF35C09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E1E-DB80-4BEB-80DF-971980CB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CC8-C1DC-42FA-B9DD-87F42A7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6DD-DE0A-4FE7-8193-1541E6F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E3F-3785-4FFE-8671-062B7F0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22C-9C2D-4F00-B680-D1C831F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07120"/>
            <a:ext cx="58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73693-1227-47A7-8603-52D145B4481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08560"/>
            <a:ext cx="5824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D91DD-E6A8-4B4F-B131-97147C51455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76160" y="1479600"/>
            <a:ext cx="7437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ands-On Cryptograp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371600" y="28954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Casey W. O</a:t>
            </a:r>
            <a:r>
              <a:rPr b="0" lang="ja-JP" sz="2600" spc="-1" strike="noStrike">
                <a:solidFill>
                  <a:srgbClr val="0000cc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Br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9609F-13CD-4AE2-8966-76A18ECA7C2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ream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esar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tbash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igenere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-Time P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8078E-26C7-443C-AE1A-45948BDA6B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en Alice wants to send an encrypted message to Bob, Alice encrypts the message using Bob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Bob then uses his private key to decrypt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8D658-3129-493B-88E3-E4E48841AD0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990720" y="2738520"/>
            <a:ext cx="78483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24597-997E-4DAD-A895-47669CE922A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e keys have an inverse relationship to each other, with each key capable of reversing what the other has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at is to say, the two keys are mathematically rela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However, it is computationally infeasible to deduce the private key from the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78EF-3CC3-49C1-AF5B-74EE083AEC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dvantages of 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lows people who have no pre-existing arrangement to exchange messages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need for sender and receiver to share secret keys via some secure channel is eli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l communications involve only public keys, and no private key is ever transmitted or sh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D7F43-2C98-462C-893D-66E85E4DB03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dvantages of 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ationally int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2784-0A81-4956-AF66-5E916DDE59F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6_Asymmetric_Algorithms_Using_PG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7ED0D-866F-4E03-BB5D-B698499A505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Shell (SS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both a computer program and an associated network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for logging into and executing commands on a networked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63461-BAC8-4F60-A37A-1E9F941324B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lso a secure replacement that provides encryption and authentication for remote logon and file transfer programs that transmit data in the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7CD02-16E6-45FE-AF3F-5BB96A89E45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965160" y="2962440"/>
            <a:ext cx="787392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0B19-DB86-4F3B-B824-6897B35E847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7_S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E6E78-F152-45A2-8BC4-B0E25742C34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ne-Time Pad (OT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tream cipher that performs an XOR of 1 bit of an input stream with 1 randomly generated bit to get 1 bit of the output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quence of the randomly generated bits constitutes the session key, or th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ad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which is used only once), and is the same size as in the input and output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5555A-33CF-439E-BB76-E3D36BD5CEF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first Asymmetric algorithm published was in a 1976 paper titled,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ew Directions in Cryptography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6273-165A-43CB-82A7-FB3727ABF8F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lgorithm was calle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Diffie-Hellman (DH)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ter its crea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itfield Diff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artin Hel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alph Merk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DD1C7-5CEE-4E49-967C-DA5C7483735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used for data encryption and de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ather, it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used to allow two users to exchange a secret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ssion k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urely over an untrusted, public medium and use that key for the encryption and decryption of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85B9-74D3-4722-801F-3D1185EF01B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 is now evidence that the British Secret Service invented it a few years before Diffie and Hellman, but kept it a military secret - and did nothing wit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AF88-9C04-442A-B518-8FABAD3DB77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user encrypts plaintext with PGP, PGP first compresses the plain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iles that are too short to compress or which don't compress well aren't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7713B-52D9-466E-A238-43F34FE024C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mpression saved modem transmission time, saves disk space and, more importantly, strengthens the cryptographic security of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77E5-A3A3-4D9B-B535-4B9D5B4929D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P then creates a session key, which is a one-time-only secret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key is a random number generated from the random movements of your mouse and the keystrokes you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7B9B0-942A-42B3-80ED-C2FE777BD22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session key works with a fast Symmetric encryption algorithm to encrypt the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sult is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0" y="624852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199AD-3E9F-443F-BCA5-F24EF5636B9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the plaintext is encrypted, the session key is then encrypted using the recipient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public key-encrypted session key is transmitted along with the ciphertext to the recip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B369A-4129-445C-8D71-7B6BCFEB665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4" descr="pgpe.jpg"/>
          <p:cNvPicPr/>
          <p:nvPr/>
        </p:nvPicPr>
        <p:blipFill>
          <a:blip r:embed="rId1"/>
          <a:stretch/>
        </p:blipFill>
        <p:spPr>
          <a:xfrm>
            <a:off x="1038240" y="2400480"/>
            <a:ext cx="810576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39C1B-E217-4177-963E-BEB2F9A5E71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recover the original plaintext, the ciphertext must be XORed with the same 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9F0B1-0D3D-4418-844B-7547628E5F5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ryption works in the reve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recipient's cryptosystem uses her private key to recover the temporary session key, which is then used to decrypt the Symmetric-encrypted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771DD-2115-4B69-80A5-02DFA8413B9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1447920" y="2886120"/>
            <a:ext cx="66024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38BCA-497C-4688-AA54-E35CA3FB010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ga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2C745-712A-403D-9341-153E28E067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ivest Shamir Adleman (RS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ymmetric algorithm published in 1977 by Ron Rivest, Adi Shamir, and Len Adleman at 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tented by MIT in 1983; patent expired in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st common asymmetric encryption and authentic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5238-5DDA-48C9-B6F5-474DE6F68DC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algorithm goes beyond just the key exchange proposed by D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ing RSA you can actually encrypt/decr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2A8A-B10C-4C52-8F83-5FC3BD4DF0F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mmetric key encryption/decryption is much slower than its symmetric counter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fore, RSA’s algorithms can be used to encrypt the symmetr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74CE8-B2C4-44F6-864A-318A61BC69A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widely used in electronic commerc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tilizes a public key system w/a variable key length (1024-2048 bits) and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F3FF5-7A65-4AD4-B996-D30DA389D94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lga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d by Taher Elgamal in 19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sed on the Diffie-Hellman key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lgamal algorithm is used in the free GNU Privacy Guard (GPG) software, recent versions of PGP, and other crypt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9C22B-A4E2-407B-AC85-0328B0678A9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ed unconditionally secure (meaning no amount of computing power can break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d by the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d telephone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EB39B-D988-4FAC-A8C1-F41393FAC74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nce there is no statistical relevance to the final ciphertext, there is no way to perform cryptanalysis on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normal attack against this is to get the pad, but since each pad is used only once, there is no pattern to performing a cryptanalysis on the 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0E289-24B9-47BA-8218-4B89F5371DF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ere do you get enough random numbers for the p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ensure that both the sender and receiver are using the same numbers in the same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protect/distribute the p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9743-13DA-4041-8967-0BCABE5115E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med after Horst Fe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add complexity in cryptographic systems, more than a single modification of the data i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ple substitutions and multiple steps of confusion and diffusion should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AF043-76DD-4389-A434-A56522CBAE2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y performing multiple substitutions and variations/permutations and multiple steps of confusion and diffusion, the end resulting ciphertext would be se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1BDC-50D8-4797-A716-D094D56AE8C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ctual steps could be the same, just repeated more than o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epetition of each step is called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61703-DB0F-4176-A6B8-FED4F4752CA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Key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umber of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ck size: 64 bits is an accepted block size for this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33C23-650B-4259-941A-D321D0975C8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ncryption Algorithm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be classified into distinct categories based on amount of data processed at a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tream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eistel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1B69C-7327-450C-A752-2597145F57D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ound functi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where the actual key is used in conjunction w/the mathematical algorithm to modify the inpu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B7E8F-6F7B-4148-8281-11E47261A8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key algorithm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based on the starting key, the algorithm will create subsequent keys for use in each round of the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45FB-503B-4319-97F3-0D2D348B545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905120" y="2408400"/>
            <a:ext cx="571500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C7264-9429-401D-813B-122847C2C0E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ryptograph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lock and stream ciphers use keys differently, so they fall into the following catego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ymme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symme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D504A-1082-4630-9420-469313BBF6A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ivate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ventional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ret 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ngle-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-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F75D-A2B7-4EE5-86A8-484C43F277F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the same key for encryption and decryption (also called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hared ke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ncryption key can be calculated from decryption key and vice ve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17306-032A-4321-872A-4CB7DC95C40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quires the sender and receiver to agree on a key before they communicate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curity of the data lies solely with the secrecy of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67CF8-0234-4B62-B8A9-25B9C7F8859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. Alice has a plaintext message for Bob. She uses a shared key to encrypt it into ciphertext to protect the message from unintended r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. Alice sends the encrypted message to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FBEAE-61B5-4BEC-9001-4F7E2A2AEF7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. For Bob to be able to read the message, he needs the shared key to decrypt the cipher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This shared key must be sent to Bob securely and separately to ensure the message's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Sending it w/the message defeats the purpose of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CE76C-AECD-4B5B-A4E6-5D2B42D46F1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4. Bob receives the message and uses the shared key to decryp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5B79-BEDE-497B-8B7B-0F8CAC0A6C6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ke a fixed-size block of text (usually 64-bits) and produce a fixed-size block of ciphertext (usually the same size as the input blo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effect, block ciphers encrypt groups of plaintext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9E24C-C577-4454-9FBA-9C6B8048769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uc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ta Encryption Standard (DE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riple Data Encryption Standard (DES-3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dvanced Encryption Standard (AE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54754-CF3D-4E76-9379-4FB16614CB4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ivest Cipher (RC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ternational Data Encryption Algorithm (IDEA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wf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4040B-D632-4306-A7ED-77D6C052B90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ucifer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by Horst Feistel and colleagues at IBM in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rst-ever block cipher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2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5DA1-B3DE-49EA-8373-3ADD47B8D90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ata Encryption Standard (DES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77 by the NSA and 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as the US encryption standard for non-classifi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modified version of the Lucifer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0535-6F8B-4A14-BF85-3A04B7CFB88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that encrypts data in 64-bit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56-bit key, meaning that there are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5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ossible keys under which a message can be encrypted (or 7.2 x 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72,057,594,037,927,936, or approximately 72 quadrillion possible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713E5-BFD8-4058-A992-D2B6C8F497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ch a large number of keys makes it appear that a brute-force attack would be nearly im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1998, the Electronic Frontier Foundation (EFF) cracked the DES algorithm in 3 days, which led to the development of Triple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BC0D2-4541-4AB9-A49A-5A1709AD373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itial plaintext has a transposition operation run on it, 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 Permutation (IP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ich does not involve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the data has passed through the rounds, the last operation is to perform the inverse of the 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8895E-03D1-4D61-9CCC-5BC7250C24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4 different modes that can be used in the implementation of 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lectronic Codebook (E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 Block Chaining (C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utput Feedback (O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 Feedback (C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9D745-6EC2-4B45-B2D9-604CA7C47B5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ic Codebook (EC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aks up the message into 64-bit blocks, padding the last block if necessary, and encrypts ea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cover the message, the ciphertext is broken into 64-bit chunks, and each chunk is decry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1723A-451C-4A4D-B0E0-3A104468CBD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wo identical blocks of input map to the same outpu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ue to this limitation, ECB is not  widely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CA147-8C93-4C4B-85F4-AC959192082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 block cipher encrypts the whole wor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instead of encrypting each letter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6441D-F2B8-4E29-9300-0B9074DE21C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ypTool Dem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eate the following plaintext: CyrpToolCyrpToolCyrp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crypt with DES (ECB)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 the following key: AB CD 00 00 00 00 00 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676E0-A2EA-45BE-9A1C-9457E01A71F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ypTool Demo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iew as Hex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djust the width window so there are 8 Hex pairs a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0C0AD-5156-4557-B911-68F918337D6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rypt1.png"/>
          <p:cNvPicPr/>
          <p:nvPr/>
        </p:nvPicPr>
        <p:blipFill>
          <a:blip r:embed="rId1"/>
          <a:stretch/>
        </p:blipFill>
        <p:spPr>
          <a:xfrm>
            <a:off x="1447920" y="258840"/>
            <a:ext cx="6248160" cy="62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3269B-3B60-4DE1-883D-C83241C6E7B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her Block Chaining (CB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rcumvents the ECB weakness by XORing a plaintext block with the ciphertext of the previous block prior to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the first block does not have a preceding block,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ization 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is used to modify the firs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5812-81DF-40C1-9787-AB07AB981B6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BC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158920" y="2438280"/>
            <a:ext cx="5156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E2B9D-A198-4C41-A11E-E9B145AE7F0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put Feedback (OF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the session key to create a large pseudorandom stream (pad), which is XORed with the plaintext message to produce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ode provides an advantage over CBC mode by allowing the pseudorandom pad to be created independently of the plaintext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7E417-09D7-495F-9BE6-339BC06209C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ceiver can precompute the pad and decipher the message as it is being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ode is similar to one-time pads except that the pad in OFB mode is pseudorandom instead of 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C090A-5423-484B-B3C2-7DA601C187B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where the application is stream-oriented and uses public or noisy transmission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9897-B786-4B36-93CC-668886878F7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her Feedback (CF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ariant of O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fo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91929-DC36-4C5D-A868-4D776813E8C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2_DES_ECB_and_CBC_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ADA5C-033E-49BE-983A-14D3813C043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ice creates a message of 45 bytes to send to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e encrypts the message (the block cipher springs into action - in this example, assume the block cipher is using a block size of 8 by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575FF-3F65-419A-8164-95F8F5A4DB6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s the DES algorithm three times,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t uses 3 keys and 3 executions of the algorithm to encrypt and decrypt each block of data, resulting in a 16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ploys a total of 48 iterations in its encryption (3 iterations times 16 round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518CC-6AD5-4A1D-84FC-B07A45681F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hough Triple DES can use 3 keys, it is proven to be very secure using only 2, so this is the primary method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E7608-D627-4155-9F94-7127F75A68B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DES En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laintext is submitted to the algorithm and encrypted using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output is run through the decryption process using Key 2, and the following output is then encrypted using Key 1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produces the resultant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5C932-FC1D-49C7-86CA-ABBC65AADD8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cryption function of Triple DES look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 = 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P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FB674-9195-4590-ACD2-68E0E14223E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DES De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text is decrypted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output is run through the encryption process using Key 2, and the resultant output is decrypted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then produces the resultant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1A4C-BFA8-48F2-8706-143CF2FFB32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cryption function of Triple DES look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 = 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C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FD61-7D75-4B85-9484-5DCA90547F8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dvanced Encryption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ndard (AES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nounced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Rhine Dahl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d by 2 researchers from Belgium: Dr. Joan Daemen and Dr. Vincent Rij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pproved by the NIST in late 2000 as a replacement for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DF7E-D17C-4840-8040-B87657EF6A5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urrent USA standard for encryption of non-classified data/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cess began with the NIST publishing requirements for a new symmetric algorithm and requesting propos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3FE2-A193-4EE1-AB6D-8D79F892BF0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IST requirements stated that the new algorithm ha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e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unction on older computers with 8-bit, 32-bit, and 64-bit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un on smar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12DFA-0E01-45A2-A926-1138B8F4A6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designed to use 3 different key siz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28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9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56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9DBE-91EC-4004-B72F-8B68F9FA3B1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s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8 bytes of Alice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plaintext message get encrypted as a singl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next 8 bytes get encrypted as a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..and on until the last block of plaintext needs encrypted, which includes only 5 bytes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FFDF9-1C1F-461C-8E26-013B751BBFF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s works out to the following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3.4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38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128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6.2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57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192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.1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77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256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D750-3579-4C56-B3ED-93BFD4CAB2A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we were to assume a new computer could search the entire key range of DES, or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56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keys per second, that same computer would require approximately 149 trillion years to crack a 128-bit AES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age of the universe is less than 20 billion years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8A557-062F-46A3-BC7D-7E574B4C4A3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ijndael algorithm use rounds like DES, only the number of rounds vary based on the key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6350A-73AA-40CB-895D-6B52BCBA334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ounds are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9 rounds if the block and the key are 128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1 rounds if either the block or the key are 192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3 rounds if either the block or the key is 256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9C165-B75C-497E-B766-91DE2C24A3F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3_AES_Rijnd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3D07B-D653-4825-AB65-03BAF3EB67B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ivest Cipher (RC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mily of cipher algorithms designed by Ron Riv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 developed six ciphers, ranging from RC1 to RC6, but did not release RC1 and RC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C2 is a block cipher that processes blocks of 64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9AB66-5E5F-4E0D-9A1D-928D5F15D63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tream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variable-length key sizes (40-2048-b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ery fast, easy to implement, and has low memory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in popular protocols (e.g., SSL, WE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D5F6-C33C-4F4F-B9A1-51E83D8D3C1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4_RC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BF43B-06F0-42AD-B033-3668E4DF725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P is a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onal security protocol for WLANs defined in the 802.11 standard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KA 802.11 Pr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provide same level of security as a wired LAN (thus the n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9D26-06B0-45E7-8867-4B8B298FB37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s encrypted using the RC4 stream cipher, with either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40-bit or 104-bit static key, and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4-bit Initialization Vector (I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B1D9-B052-4D14-98F8-63393F9E615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ipher will use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ad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method to calculate the number of bytes required to fill the block, and then uses that value over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 our example, that means that 3 bytes of padding are required to fill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059E0-8E8A-4AA0-8235-BAA2EA577E7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symmetric key to authenticate wireless devices, not wireless device us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l wireless nodes need to share the sam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974A5-F001-41FA-9BCF-AE34271806D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 Design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dentiality: prevent casual eavesdropping of your wireless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control: prevent an adversary from using your wireles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ntegrity: prevent an adversary from modifying your data in tran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8D3D-B202-4252-B4AA-848A371A952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 Design Goal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fortunately, none of these are actually enforced with WE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nsidered adequate security without also implementing a separate authentication process and providing for external key management (e.g., 802.1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66B65-2A22-4986-8A22-C7C08D42EB7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1: A 24-bit value (the IV) is generated and combined w/the secret shared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: This value is then passed to the RC4 stream cip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produces a key stream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A8757-1119-4A22-9E6E-E94FCBB5C99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3: The key stream bits is combined through an exclusive OR (XOR) with the plaintext to produce ciphe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E0D0A-54B9-4612-B1FE-C06FA9BF79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4: The unencrypted IV is then added to frame header (in cleartext) and the entire packet is trans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3D53-AA65-4FEC-B2D9-E1AF9C80658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wep.png"/>
          <p:cNvPicPr/>
          <p:nvPr/>
        </p:nvPicPr>
        <p:blipFill>
          <a:blip r:embed="rId1"/>
          <a:stretch/>
        </p:blipFill>
        <p:spPr>
          <a:xfrm>
            <a:off x="1366920" y="2514600"/>
            <a:ext cx="68626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55C23-65DC-4A9F-938C-F7DDFF4D14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V that WEP uses to encrypt data and ensure its integrity is not properly implemen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very time a packet is encrypted, it should be given a new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ecause the IV is only 24 bits in length, it can have only 16,777,216 possible values (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2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BD2F0-BBE9-4D81-9153-E2D268A933B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LAN transmitting at 11 Mbps transmits approximately 700 packets per sec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eans that in less than seven hours, all of the &gt;16 million IV values have been used and WEP must start rep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C93D-E395-47C9-B85D-47E43CEF741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the IVs are transmitted in the clear (in the header of the wireless frame), attackers can capture the wireless frames and see when the IV starts rep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is information, the attacker can crack the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4D7E-33E4-4973-995C-4D4AA81D68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number 3 is inserted repeatedly in the space of the padding to fill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en Bob receives the encrypted message, his cryptosystem interprets how much padding is included in the block, and interprets the block accord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F05F6-2807-4589-A2DD-24BB47BD89C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her WEP 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distribution issues: uses a symmetr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 key lengths: 64-bit (really 40-bits); 128-bit (really 104-bit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C is inherently insecure: it is possible to alter the payload and update the message CRC without knowing the WEP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s authentication: WEP authenticates devices, not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64327-4EC7-4B66-8CC7-B940D680A12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5_W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85C8-115D-4865-B96A-F2C7B4F378E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national Data Encryption Algorithm (IDE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DEA algorithm dates back to the early 1990s and is used in Europe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operating on 64-bit blocks and using a 12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ubstitute for DES and DES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A48E1-2609-4FEE-8BB6-977ECE7B450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ee, unpatented cipher developed in 1993 by Bruce Schnei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igned as a general-purpose algorithm, intended as a replacement for the aging DES and free of the problems associated with other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D8434-A318-4ED8-9A89-8EB4BB0263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the time, many other designs were proprietary, encumbered by patents, or kept as government secr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neier has stated that, "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Blowfish is unpatented, and will remain so in all countries. The algorithm is hereby placed in the public domain, and can be freely used by anyon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09399-9E94-40A8-A391-E78B751DD0D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that operates on 64-bit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a key length from 32-448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this time, there are no known attacks for this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2A69-0199-478F-81C6-AE325EF72D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e major issue w/cryptographic algorithms is exchanging the key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77955-DA9C-4281-AB51-1DA86C57F54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prevent compromise of encrypted traffic/data, those responsible for maintaining cryptographic systems must change keys frequently and distribute them to all authorized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38F25-7BF4-4996-B5EC-F79F064B042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s process of changing and distributing keys is calle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Key Managemen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t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fficult to carry out reliable and on a large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s a major part of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ublic Key Infrastructure (PK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1080D-BC64-4621-8C84-0D3201478A0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nder and receiver must agree upon a shared key and keep it secret between themselves in order to communicate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DAE48-1ACA-40CF-9518-ADB164856C2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ream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ncrypts plaintext one bit at a time to produce a stream of encrypted cipher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: the letters c, a, and t i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are encrypted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0D2BF-2475-4CAB-8464-F7E4E95A362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y are in different physical locations, they must trust a courier, or some other secure communication medium to prevent the disclosure of the secret key during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5AF13-FEB1-472A-8665-EA454B7AA1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yone who overhears or intercepts the key in transit can later read, modify, and forge all information encrypted or authenticated with tha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C1F2-C176-4ADA-BE09-63E62C4EB73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xpense of secure channels and key distribution relegated its use to those who could afford it, such as governments and large banks (or small children with secret decoder r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023E-077F-4A4E-B96C-8339FC60878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om DES to Captain Midnight's Secret Decoder Ring, the persistent problem with conventional encryption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key distribution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get the key to the recipient without someone intercepting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D8A3-9BBC-44E0-8480-FD5E46A6194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e problems of key distribution were solved by Asymmetric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A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ublic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6F195-AA3D-4063-B385-69D5A23D3D5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Uses a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key pair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 instead of a shared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One key encrypts the message (AKA the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ublic key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The other decrypts the message (AKA the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rivate key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00B23-8243-4BC5-A5ED-320104082E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o achieve key management when two keys are used, the public key is shar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But only the owner holds the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686A-0308-4D5A-83EB-25ADCF00C15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ryptosystems must be able to generate random numbers to produce the public/private ke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random number generator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RNG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) is a computational or physical device designed to generate a sequence of numbers or symbols that lack any pattern (e.g., appear random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FC2F-470B-420A-8F3F-65168A1294A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Methods for generating random results have existed since ancient times, including dice, coin flipping, the shuffling of playing card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8B357-6316-487E-AFDF-2C7223DCF48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Physical devices: true noise hardware rando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mputational device: computer-based systems for random number generation are widely used, but often fall short of this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21:32:20Z</dcterms:created>
  <dc:creator>cobrien</dc:creator>
  <dc:description/>
  <dc:language>en-US</dc:language>
  <cp:lastModifiedBy>Casey O'Brien</cp:lastModifiedBy>
  <dcterms:modified xsi:type="dcterms:W3CDTF">2014-01-14T15:10:14Z</dcterms:modified>
  <cp:revision>846</cp:revision>
  <dc:subject/>
  <dc:title>Slide 1</dc:title>
</cp:coreProperties>
</file>